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118B5-12FA-43F4-90A0-F9C52A23E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A735E-52FF-48A3-B995-E095C1454D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0B327-EE8A-48A1-B6DF-3D63EA77C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0FA3D-02BC-46D4-A836-0EC91325F1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37FA2-DDE3-4971-AD02-9AFC053490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F2FA-F7DC-4CEE-8823-2A0375F36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A140-0FA3-46AB-9C54-6902409A74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7C9F3-5995-431E-AB36-990AE4A7E9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3E048-1972-42EE-B38D-08BB6138A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3AE5-7A7B-44C7-B3F6-7CA995785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DB08C-1C2A-4C47-B15B-3555256935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E6832-0385-484D-8AB1-4DF112185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9523-B3D4-44F9-92DE-E97C01770C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9DED-2219-4D73-9AAF-B8EF6ED388E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A3C2-D8FC-4114-BFDE-8AD653230E4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E4010-BA2B-45B5-AF26-A4158093A11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DE51-35E0-4420-8DA5-B2D5FB582E8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62F3D-3720-4996-81C9-71A42A91BA9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230A0-2AB7-4A4C-9E4F-6420D54D1C7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74386-0EB4-4340-A8F9-999E31D724D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8115-1213-4F8C-830A-18155373C95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BDC6-BE9E-40D1-BCB9-96C198A8037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9808B-4DC6-4EE5-8782-82988D499663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’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DFBF-5F1C-466B-AFA0-F8C7649920B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BBC5C-C840-46F5-9877-17186F63E29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B715D-42BE-4E4B-BFE8-E6D0030A340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0C1E-5AD5-47D7-9C3A-59DB242A34E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ECDB-94F8-4CFC-9F87-E47BAE21F49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B93E-2EFA-46F6-93A6-2788AAC4952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7D8C2-6275-48C2-B609-21B5E253E3E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F428B-E593-4636-8FE3-44059082B60D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BDD79-0B00-4E43-9CCF-30E3110C2DD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8D06E-250D-4348-BA5A-513C0F8D1333}" type="slidenum">
              <a:t>27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’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815D4-E513-402A-8764-610D19F7B674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962CD-B033-4AB3-8E1E-66F71803925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7DD4A-D986-4265-B011-E20A3A50526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B76D-886F-4E7C-A086-A17D9879140D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8862D-D202-4EA2-9A2A-46386B15927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72" name="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9" name="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161D5-9961-4342-956B-084A5648A0CE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1523880"/>
          <a:ext cx="4876560" cy="395316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8: SPICE Simul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557F5-3B99-4496-A8ED-371CAD334DD9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10:49Z</dcterms:modified>
  <cp:revision>989</cp:revision>
  <dc:subject/>
  <dc:title>PowerPoint Presentation</dc:title>
</cp:coreProperties>
</file>