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1616-6506-4D65-A18E-868F24834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2CDDE-8603-4F26-8E18-FE6E56350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32B2-C082-4577-805E-51025C336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4171-188C-4D47-995F-B86075BACE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67D5-B5FF-49E3-8302-CA517501F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B6DF-19A6-4840-BFDA-030BA6C53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0D4E-B823-41F3-BEC5-A0477078C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2798-5C23-4D7D-B2C6-1D3AF8426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0F46-7FF1-46ED-826A-C61251EE3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6E38-17D2-42EF-976C-08A531982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5E08-0B41-4349-A27E-DAC87A763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7A57-DA7D-4C4E-8426-EA868C57A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1CD7-5121-4425-A164-035351775C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1FCA-43CF-4793-9C98-B2DF65AE80B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Dissipation 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hort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load capaci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ircui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u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041A-BFF7-4229-B3B3-DB1D03B0321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V 6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gate) + 0.8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diffu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@ 1 G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D7B6-EBC9-4CBD-88E0-F51B43F4B95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90480" y="1600200"/>
          <a:ext cx="73105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0200"/>
                    <a:ext cx="7310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4215-1C1D-47E6-AF77-88C2A493938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ower Re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in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838160"/>
          <a:ext cx="251460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38160"/>
                    <a:ext cx="25146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7F2E-251A-4B7E-B0D8-F688ECB909F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ity Factor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ob(node i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random data has P = 0.5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often not completely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upper bits of 64-bit words representing bank account balances are usually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pagating through ANDs and ORs has lower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19C2-A408-4A04-8348-DE4FCA3EACD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34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3F9B8-291B-4517-88D7-D150F82C7409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input AND is built out of two levels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activity factor at each node if the inputs have P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187880" cy="200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32004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05320"/>
            <a:ext cx="83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352B-65BC-45CC-A6FF-97F528BD2AD2}" type="slidenum">
              <a:t>16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reduce the activity is to turn off the clock to registers in unus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clock ac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all switching activity in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termining if block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4368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9EC5-6488-40BB-A9B5-A936E81E116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stages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loorplanning to keep communicating blocks clos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ong wires with inverters or buffers rather than complex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85983-73F8-40FC-8218-8B9A4BF42142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 /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each block at the lowest possible voltage and frequency that meets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parate supplies to differen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ters required when cro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ow to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oltage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422440" cy="164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2920" y="3124080"/>
            <a:ext cx="129528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A236-0D97-4A76-8914-57FCEC9203F0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13B0-3DCB-40CD-BBDD-5EDDC2A56FF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721F-E713-4519-833C-6283090B439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power estimation for 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t used in all memories and in 95% of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BA0A-5723-45BD-8DFF-765F0E5DC38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779480"/>
          <a:ext cx="7848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7948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BDDE-DB82-412F-B6A6-D938EB6B4AC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5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eakage a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19320" y="1981080"/>
          <a:ext cx="312408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3124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169960" y="1600200"/>
            <a:ext cx="3431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values in 65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= 100 mV/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B4EF-8ECE-496B-AFF4-AD8FCFA9733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ck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F transistors have less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so N2 has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2-stack reduces ~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3-stack reduce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590920"/>
          <a:ext cx="4267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4267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29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95280" y="3498840"/>
          <a:ext cx="152424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498840"/>
                    <a:ext cx="15242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95280" y="4191120"/>
          <a:ext cx="289584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91120"/>
                    <a:ext cx="289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0529-688B-4571-8FBC-389B08F6F60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kag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and delay trad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low leakage in sleep and low delay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in critic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vecto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erse body b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ward body bias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1EF9-34A9-4E83-AC47-EE20000AFEB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ong function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subthreshold leakage at 65 nm and below in som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er of magnitude less for pMOS than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the process using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gate dielectric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provide multip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icker oxide for 3.3 V I/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circuits by limit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57D8-6DA6-4F12-8074-A7CD7101FF0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3 Leak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3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.63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.3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46040" cy="1193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2855880"/>
            <a:ext cx="6705360" cy="3240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390800" y="5791320"/>
            <a:ext cx="109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from [Lee03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7014-5350-4D6B-AACD-9F77D7637D4C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everse-bias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iffusion and substrate or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n high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where other leakage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 exacer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more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C689-2C6F-47E4-BEA7-438D7B49931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19520" cy="2149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ower to blocks when they are idle to sav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rtu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utputs to pr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logic levels to nex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rop across sleep transistor degrades performance during 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the transistor wide enough to minimiz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wide sleep transistor costs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justified when circuit sleeps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6185-E91D-4F83-A630-FB5590C14A6C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21160" y="2844720"/>
          <a:ext cx="190188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84472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19720" y="3487680"/>
          <a:ext cx="16095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87680"/>
                    <a:ext cx="16095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19720" y="4419720"/>
          <a:ext cx="278604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27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57800" y="28195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5053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4956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A9D5-B454-4511-BDBC-A78B49D1CDC9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in Circuit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26668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666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5800" y="3084480"/>
          <a:ext cx="3048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84480"/>
                    <a:ext cx="304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1828800" cy="920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371600" cy="9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715000" y="4648320"/>
            <a:ext cx="259092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85800" y="4343400"/>
          <a:ext cx="3886200" cy="17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343400"/>
                    <a:ext cx="3886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2DDF-B3F3-436D-AE2A-E9E86C751C5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ing a Capac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ored in capacito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energy drawn from the suppl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the energy from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sipated in the pMOS transistor as heat, other half stored in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n capacitor is dumped to 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d as heat in the nMOS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00200" y="2282760"/>
          <a:ext cx="1600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2760"/>
                    <a:ext cx="1600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66688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600200" y="3043080"/>
          <a:ext cx="251460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3080"/>
                    <a:ext cx="25146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CAC5-7478-4A4D-A817-3DB905492F6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Wavefo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 fF, f = 1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1962000"/>
            <a:ext cx="6553080" cy="405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00800" y="2017800"/>
            <a:ext cx="2286000" cy="15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71B7-38A3-4259-849A-DFE54935D50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witching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0720" y="1676520"/>
          <a:ext cx="34653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676520"/>
                    <a:ext cx="34653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FD51-1255-40DE-888C-8766E403364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63520" y="4191120"/>
          <a:ext cx="27050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4191120"/>
                    <a:ext cx="27050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9574-2077-46C3-83CD-CB4FE7B6605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“short circuit”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nerally ignore this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4EB2-3435-46CF-B9DF-AF0D33462B7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2:01:09Z</dcterms:modified>
  <cp:revision>2043</cp:revision>
  <dc:subject/>
  <dc:title>PowerPoint Presentation</dc:title>
</cp:coreProperties>
</file>