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1.png" ContentType="image/png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93F20-2517-4014-B127-EA79610B3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9058A-3430-4062-9A7D-55060E722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451F4-32C9-43C6-84A2-F5903108D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9C97-9B1E-45B2-BE03-C64CE97B0C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6240-E7C5-4294-B129-1D0148E91C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F85A0-A2DC-4107-A23A-ACAB4EB70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4E717-8347-4CCA-A2E7-23989BBF50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F8BCA-1F2C-46C6-8B03-9309550E4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29A7-1AB0-43F6-8E04-B63EC28D3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CEBF-C7B4-4A72-854F-F2EB05695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C87EC-0A68-4177-9065-D17912F7F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DF502-5B1D-47EB-9081-84EF17052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6987-C053-4E25-A223-938BAF11354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D9E90-8C88-4836-9867-80B4C4DBF46B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Dissipation 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hort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load capaci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circuit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un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nt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B7091-770A-4B33-8C71-83781D99844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M logic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0M memo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V 6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gate) + 0.8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diffu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dynamic power consumption @ 1 GHz.  Neglect wire capacitance and short-circuit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5F056-DAA6-4C1E-84FD-F0008E95450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90480" y="1600200"/>
          <a:ext cx="731052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600200"/>
                    <a:ext cx="731052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ABBFF-EB2E-4BAF-9AFA-4D541C3411BF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Power Re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minim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838160"/>
          <a:ext cx="251460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38160"/>
                    <a:ext cx="25146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11E74-5A07-4262-8FC1-B4DCD71649BC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ity Factor Estim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rob(node i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random data has P = 0.5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often not completely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upper bits of 64-bit words representing bank account balances are usually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pagating through ANDs and ORs has lower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esign, but typical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2839B-1713-45E3-95CA-4E5133EE8644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Prob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00800" cy="34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FC84C-DDC3-4F04-AF0E-F9FF64CEC48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-input AND is built out of two levels of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activity factor at each node if the inputs have P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187880" cy="2000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33920" y="32004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5720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10080" y="3505320"/>
            <a:ext cx="838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92292-D6B6-4B00-8B21-0A87C569510F}" type="slidenum">
              <a:t>16</a:t>
            </a:fld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ock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way to reduce the activity is to turn off the clock to registers in unus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clock activity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all switching activity in th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determining if block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243680" cy="24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7B599-BB0C-401B-8221-80298548848F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stages of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loorplanning to keep communicating blocks close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ong wires with inverters or buffers rather than complex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6855-BCE7-4075-8504-ECAA247EE5D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tage / Frequen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each block at the lowest possible voltage and frequency that meets performan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parate supplies to different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converters required when cro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low to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oltage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 according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422440" cy="1641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162920" y="3124080"/>
            <a:ext cx="1295280" cy="10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6CB0-1398-4BAA-A667-1BC3C305FBED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B0B41-7923-4037-A77A-439E75C74ED4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 is consumed even when chip is quies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draws power from nominally OF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ed circuits burn power in fight between 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974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9ADBC-9663-452D-A615-61FC2CC0F95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power estimation for 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tatic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t used in all memories and in 95% of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9FD7-1CA0-494C-8D50-20C6D3089BC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5800" y="1779480"/>
          <a:ext cx="784872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79480"/>
                    <a:ext cx="78487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F3C1-E0BF-4DE9-ABFC-8C9A47D66E3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50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leakage at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219320" y="1981080"/>
          <a:ext cx="312408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31240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5169960" y="1600200"/>
            <a:ext cx="343116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values in 65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3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4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5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 = 100 mV/de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52B51-6F70-46FF-8606-26CE6E95511B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ck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FF transistors have less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, so N2 has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2-stack reduces ~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3-stack reduces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2590920"/>
          <a:ext cx="4267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90920"/>
                    <a:ext cx="4267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86600" y="1600200"/>
            <a:ext cx="104292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1295280" y="3498840"/>
          <a:ext cx="152424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498840"/>
                    <a:ext cx="15242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95280" y="4191120"/>
          <a:ext cx="2895840" cy="69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4191120"/>
                    <a:ext cx="28958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2FB8-F8C4-4B98-8AC2-4DDAD00FBB0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akage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and delay trad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 for low leakage in sleep and low delay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le 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ow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in critic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put vector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erse body b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ward body bias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F202-2E21-4107-9080-AF4325DB1F5D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strong function of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es subthreshold leakage at 65 nm and below in som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der of magnitude less for pMOS than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the process using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10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gate dielectric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provide multipl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icker oxide for 3.3 V I/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circuits by limit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009FE-F3D8-42AA-8ABE-4AB4CB3CF43C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3 Leakag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3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.63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.3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346040" cy="11937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62120" y="2855880"/>
            <a:ext cx="6705360" cy="3240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390800" y="5791320"/>
            <a:ext cx="109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from [Lee03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C9C60-F53E-4039-89C1-1E310868BB71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reverse-bias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diffusion and substrate or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 is 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n high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where other leakage is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 exacerb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f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more neg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3A17-C0AB-441D-8974-A61C3F77655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819520" cy="21495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ower to blocks when they are idle to sav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rtu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outputs to pr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logic levels to nex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rop across sleep transistor degrades performance during norm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the transistor wide enough to minimize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wide sleep transistor costs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justified when circuit sleeps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8A2C-21D3-4783-BD5B-E441EB9D262A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and Energ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drawn from a voltage source attached to th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n(s) of a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421160" y="2844720"/>
          <a:ext cx="190188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1160" y="2844720"/>
                    <a:ext cx="1901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030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419720" y="3487680"/>
          <a:ext cx="1609560" cy="9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87680"/>
                    <a:ext cx="160956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609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419720" y="4419720"/>
          <a:ext cx="2786040" cy="98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419720"/>
                    <a:ext cx="27860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257800" y="281952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52880" y="3505320"/>
            <a:ext cx="1752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449568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43CA8-5B15-4192-826A-5F86A9D3A00F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in Circuit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62120" y="1676520"/>
          <a:ext cx="266688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2666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85800" y="3084480"/>
          <a:ext cx="304812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84480"/>
                    <a:ext cx="304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1828800" cy="920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5638680" y="3124080"/>
            <a:ext cx="1371600" cy="9763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715000" y="4648320"/>
            <a:ext cx="2590920" cy="88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685800" y="4343400"/>
          <a:ext cx="3886200" cy="17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4343400"/>
                    <a:ext cx="3886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69E6B-2EA3-40B8-9C7B-9509FD8F823B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ing a Capaci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tored in capacito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energy drawn from the supply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the energy from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issipated in the pMOS transistor as heat, other half stored in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n capacitor is dumped to G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ipated as heat in the nMOS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600200" y="2282760"/>
          <a:ext cx="160020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2760"/>
                    <a:ext cx="1600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2666880" cy="18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1600200" y="3043080"/>
          <a:ext cx="2514600" cy="113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043080"/>
                    <a:ext cx="25146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6BF6-74B7-4B94-8356-73396823B7B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Wavefor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0 fF, f = 1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19320" y="1962000"/>
            <a:ext cx="6553080" cy="4057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9320" y="5562720"/>
            <a:ext cx="2057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400800" y="2017800"/>
            <a:ext cx="2286000" cy="159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757DA-EBDE-4AFD-8DBD-204071F47EB6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witching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20720" y="1676520"/>
          <a:ext cx="34653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676520"/>
                    <a:ext cx="34653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4648320" y="4114800"/>
          <a:ext cx="3809880" cy="19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4800"/>
                    <a:ext cx="3809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3E07F-F0D7-4D59-BF2A-D378356BB28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Fac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system clock frequency 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is a clock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switches once per cyc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336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59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163520" y="4191120"/>
          <a:ext cx="270504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4191120"/>
                    <a:ext cx="270504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6D7A8-803C-495C-B58B-D0D4B657F09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ort Circuit Curr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ransistors switch, both nMOS and pMOS networks may be momentarily ON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blip of “short circuit”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0% of dynamic power if rise/fall times are comparable for input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generally ignore this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7: Pow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95B14-0D40-493B-9793-3D86BFFEEAD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7T22:01:09Z</dcterms:modified>
  <cp:revision>2043</cp:revision>
  <dc:subject/>
  <dc:title>PowerPoint Presentation</dc:title>
</cp:coreProperties>
</file>