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CD5CA-121F-44A1-827D-6198DAF0D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8987-F30F-4CA5-97E1-E35BDF799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A3E61-CA28-4012-B926-1462353F2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23A5-9066-4D35-8639-F4542B1E8F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DA98-5DEA-4F93-9E28-76DD336E8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4071-C5EA-4992-BDF7-23F739026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681B-0C04-42AF-AEFE-9F3350DB7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F367-8FEA-49D5-86CE-96FCD56F7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DC92-4122-4661-B60E-187A2AABA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CF08-B07B-4F8E-9F88-2155ADA83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B71F2-7785-4081-A88F-374AF69F7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5DD0-3930-40B9-940B-E51EA29E4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CB34-2D15-4A54-874D-7B38D6FB76F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F92B-6F37-48C2-B869-34796983BD6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(2*N*d) = 1/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638680" y="3733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stage ring oscillator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 has frequency of ~ 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657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5486400"/>
            <a:ext cx="2514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373392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41911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5720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0292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79DD-3F87-44EE-8467-786F88E93FDF}" type="slidenum">
              <a:t>10</a:t>
            </a:fld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952880" y="41911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4 delay is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s in a 65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6576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4038480"/>
            <a:ext cx="30481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1148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5720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0292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B51B-4957-47F7-9CE8-4430205A7F92}" type="slidenum">
              <a:t>11</a:t>
            </a:fld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324320" y="2666880"/>
          <a:ext cx="18288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4320" y="2666880"/>
                    <a:ext cx="1828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71600" y="4572000"/>
          <a:ext cx="640080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64008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77263-6C0A-40F6-8EA5-589D34448EF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write F = 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267080" y="2666880"/>
          <a:ext cx="1943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666880"/>
                    <a:ext cx="1943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908B5-B759-4820-A2F3-8D9D2EA4C3BB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5 +15) / 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1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= 2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3623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8195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2767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37339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1148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5720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326F-40A8-4973-ABEB-AB9C541DF28E}" type="slidenum">
              <a:t>14</a:t>
            </a:fld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anching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branching between stages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ompute th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62040" y="2514600"/>
          <a:ext cx="2933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514600"/>
                    <a:ext cx="2933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3880" y="3733920"/>
          <a:ext cx="14479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447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324480" y="3962520"/>
          <a:ext cx="1778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962520"/>
                    <a:ext cx="177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25032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2E4D-200F-48EC-A75B-BBDA892010D0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Del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419720" y="1523880"/>
          <a:ext cx="16383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1638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419720" y="2362320"/>
          <a:ext cx="144756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447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19720" y="3200400"/>
          <a:ext cx="29336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2004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69D4-E9D2-4B94-A7CB-0D7DD67A0AA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ing Fast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s smallest when each stage bears sam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minimum delay of N stage pa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 of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astest possibl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require calculating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19320" y="1600200"/>
          <a:ext cx="29336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295280" y="2895480"/>
          <a:ext cx="21211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21211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19320" y="4038480"/>
          <a:ext cx="208260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38480"/>
                    <a:ext cx="2082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143000" y="3962520"/>
            <a:ext cx="22860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038480"/>
            <a:ext cx="2133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A566-7F62-47CF-B157-D54D5E489283}" type="slidenum">
              <a:t>17</a:t>
            </a:fld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he gates be for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backward, apply capacitance transformation to find input capacitance of each gate given load it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ork by verifying input cap spec is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2209680"/>
          <a:ext cx="26416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6416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2EF34-CDB9-46BE-998D-DD7EE9EB2DE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ate sizes x and y for least delay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38080" y="2057400"/>
          <a:ext cx="739152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B93D-34F8-40C5-BFFA-E3CBB7EF7B8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a Log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tage Logi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F5892-8947-468D-B692-6BEC8C29328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4/3)*(5/3)*(5/3) = 100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5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3 * 2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+ 3 + 2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3*5 + 7 = 22 = 4.4 FO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14800" y="4572000"/>
          <a:ext cx="18032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1803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800600" y="28195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27672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1148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5720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0292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54864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75B3-3DC3-4E42-A428-AA8A8BE343C2}" type="slidenum">
              <a:t>20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45 * (5/3) / 5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(15*2) * (5/3) / 5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19320" y="3124080"/>
          <a:ext cx="60958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60958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600200" y="19051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2860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2971800"/>
          <a:ext cx="6172200" cy="30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61722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765B-F5AC-4B82-93BA-5D49C11F2EC8}" type="slidenum">
              <a:t>21</a:t>
            </a:fld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(6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905120" y="365760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1148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5410080"/>
            <a:ext cx="685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B694-DD60-4536-A4BB-CC268E6E55D9}" type="slidenum">
              <a:t>22</a:t>
            </a:fld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dding inverters to end of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ive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best stag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34120" y="2057400"/>
          <a:ext cx="327636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276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85800" y="2438280"/>
          <a:ext cx="48132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48132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85800" y="3429000"/>
          <a:ext cx="488952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429000"/>
                    <a:ext cx="488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676520" y="5334120"/>
          <a:ext cx="31496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4120"/>
                    <a:ext cx="3149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572000" y="4495680"/>
          <a:ext cx="114300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495680"/>
                    <a:ext cx="1143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3C0C-5FF5-4CF3-B5E8-D1DB84E692A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Stage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losed-for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ing parasitics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), we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718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solve numerical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19320" y="1523880"/>
          <a:ext cx="31496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149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896F-E352-48F8-A60B-C562476FCF3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ensitive is delay to using exactly the best number of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6 gives delay within 15% of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e slop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038480" y="1981080"/>
          <a:ext cx="40388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81080"/>
                    <a:ext cx="40388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C518-DAD8-4D8B-988C-D0936DC9193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,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AD87-7B99-4228-BAA4-5554B16981A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(32*3) / 10 =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7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3-stag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7339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45720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4864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FF33-75F7-4F21-BFD5-E66A7DB55584}" type="slidenum">
              <a:t>27</a:t>
            </a:fld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6/3 *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*1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    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*2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505320" y="2362320"/>
          <a:ext cx="23367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3367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505320" y="2819520"/>
          <a:ext cx="3670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19520"/>
                    <a:ext cx="367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038480" y="15238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2819520"/>
            <a:ext cx="3048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33526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32767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A05B-C539-4FAF-BA26-CDE5F29D521A}" type="slidenum">
              <a:t>28</a:t>
            </a:fld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any alternatives with 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(76.8 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19320" y="2514600"/>
          <a:ext cx="6476760" cy="3462480"/>
        </p:xfrm>
        <a:graphic>
          <a:graphicData uri="http://schemas.openxmlformats.org/drawingml/2006/table">
            <a:tbl>
              <a:tblPr/>
              <a:tblGrid>
                <a:gridCol w="4038480"/>
                <a:gridCol w="457200"/>
                <a:gridCol w="762120"/>
                <a:gridCol w="457200"/>
                <a:gridCol w="761760"/>
              </a:tblGrid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V-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-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INV-NAND2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D195-181C-4078-AA15-6971B19E846A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designers face a bewildering array of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circuit topology for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of logic give least de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de should the transistor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effort is a method to make thes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model o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back-of-the-envelop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make rapid comparisons betwee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remarkable sym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086600" y="1752480"/>
          <a:ext cx="13683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752480"/>
                    <a:ext cx="1368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FC1D0-5505-40E0-B518-0BBC870BD47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 of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1676520"/>
          <a:ext cx="7696080" cy="4008240"/>
        </p:xfrm>
        <a:graphic>
          <a:graphicData uri="http://schemas.openxmlformats.org/drawingml/2006/table">
            <a:tbl>
              <a:tblPr/>
              <a:tblGrid>
                <a:gridCol w="2678040"/>
                <a:gridCol w="2509920"/>
                <a:gridCol w="250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ng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ic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943600" y="2590920"/>
          <a:ext cx="9525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5909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950080" y="3009960"/>
          <a:ext cx="939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0080" y="3009960"/>
                    <a:ext cx="939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943600" y="2209680"/>
          <a:ext cx="22860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209680"/>
                    <a:ext cx="2286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969160" y="3505320"/>
          <a:ext cx="90144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9160" y="3505320"/>
                    <a:ext cx="901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950080" y="3943440"/>
          <a:ext cx="939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0080" y="3943440"/>
                    <a:ext cx="939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11920" y="4343400"/>
          <a:ext cx="101592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1920" y="4343400"/>
                    <a:ext cx="1015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943600" y="4876920"/>
          <a:ext cx="90180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876920"/>
                    <a:ext cx="9018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943600" y="5257800"/>
          <a:ext cx="1866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257800"/>
                    <a:ext cx="1866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29000" y="3048120"/>
          <a:ext cx="66024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29000" y="3048120"/>
                    <a:ext cx="660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429000" y="3429000"/>
          <a:ext cx="130824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3429000"/>
                    <a:ext cx="1308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429000" y="3962520"/>
          <a:ext cx="6858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396252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429000" y="4419720"/>
          <a:ext cx="203040" cy="26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419720"/>
                    <a:ext cx="203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429000" y="4952880"/>
          <a:ext cx="190440" cy="216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952880"/>
                    <a:ext cx="1904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429000" y="5334120"/>
          <a:ext cx="92700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334120"/>
                    <a:ext cx="927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429000" y="2666880"/>
          <a:ext cx="177840" cy="216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2666880"/>
                    <a:ext cx="1778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429000" y="2209680"/>
          <a:ext cx="114480" cy="216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9000" y="22096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4870-E2A6-4ACB-A8D5-E85FCC66DD0C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path with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leas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est stag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400800" y="1600200"/>
          <a:ext cx="123192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600200"/>
                    <a:ext cx="1231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6400800" y="205740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5740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400800" y="2819520"/>
          <a:ext cx="167652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16765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6400800" y="3352680"/>
          <a:ext cx="939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352680"/>
                    <a:ext cx="939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6400800" y="4038480"/>
          <a:ext cx="15494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038480"/>
                    <a:ext cx="1549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2A05-2C71-4F32-9EE4-A6D46E93054B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s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and eg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h to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n’t know number of stages withou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stic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s input rise tim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required in designs wit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spee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inimum area/power for constrain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BFE7-B994-4480-865D-F8C5F8371ABB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useful for thinking of delay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ogical effort characterize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re faster than NORs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are fastest when effort delays are ~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 is weakly sensitive to stages,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sing fewer stages doesn’t mean fast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of path is abou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FO4 invert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s and NAND2 best for driving large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nguage for discussing fast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quires practice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ABA8D-112D-4562-B1E8-F86F4C0FC2DB}" type="slidenum">
              <a:t>3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0E65-2FB9-48A0-998E-A2BA0C2DE60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has two components: d =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ort delay =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relative ability of gate to deliver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 for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of output to input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called fa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arasitic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delay of gate driving n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y internal parasitic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1447920"/>
          <a:ext cx="91440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447920"/>
                    <a:ext cx="914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72200" y="2057400"/>
            <a:ext cx="2666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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ps in 65 n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ps in 0.6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BE01-20C3-43FE-83F6-18D299F2DE57}" type="slidenum">
              <a:t>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276720" y="1606680"/>
          <a:ext cx="5029200" cy="441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60668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6668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2D47-407B-4D82-BFF7-4832A459FFEF}" type="slidenum">
              <a:t>6</a:t>
            </a:fld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uting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ogical effort is the ratio of the input capacitance of a gate to the input capacitance of an inverter delivering the same output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from delay vs. fanout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by counting transistor wi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19320" y="3657600"/>
          <a:ext cx="61722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172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C975-8002-4DC8-93BA-56B0641B2C4F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+2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n+1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12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16, 1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6DA6-D82C-4E53-AAA9-AA747CF7880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ltiples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B870-F366-4745-A8CB-17E1C2D4AB47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1:39:40Z</dcterms:modified>
  <cp:revision>828</cp:revision>
  <dc:subject/>
  <dc:title>PowerPoint Presentation</dc:title>
</cp:coreProperties>
</file>