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3.jpeg" ContentType="image/jpeg"/>
  <Override PartName="/ppt/media/image28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5.wmf" ContentType="image/x-wmf"/>
  <Override PartName="/ppt/media/image2.png" ContentType="image/png"/>
  <Override PartName="/ppt/media/image40.wmf" ContentType="image/x-wmf"/>
  <Override PartName="/ppt/media/image41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45.wmf" ContentType="image/x-wmf"/>
  <Override PartName="/ppt/media/image35.png" ContentType="image/png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DE335-D1BE-47E7-B60D-808035DDFA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9A1F2-B36E-4E1F-8559-7B23CC90E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F5C7A-A83A-4CB1-8391-5C98695BED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38B97-1F45-4F45-B298-067AF120D6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74FA6-B6B5-4301-A514-7381A76D50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0AB09-6674-48CA-BA76-81C720F74C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0D70C-6268-46FC-B49B-4464EA7912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58980-2CB2-4626-943C-AD65F1F32A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BF5ED-53BC-4ACA-A1AB-C3CEA9C524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16B65-FF89-47B8-8FE7-DD07507C04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BEF20-2166-4427-91C6-D79296703F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AF7E8-EE67-44D1-B64D-A7A48394CC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FEA6-A0A5-4665-9B33-E51813AC9C8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5.wmf"/><Relationship Id="rId8" Type="http://schemas.openxmlformats.org/officeDocument/2006/relationships/image" Target="../media/image4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7.wmf"/><Relationship Id="rId11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image" Target="../media/image49.wmf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5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C &amp; Transient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6E9FA-9F18-4DFF-8106-10E07610012F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urrent vs. V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 Black"/>
              </a:rPr>
              <a:t>out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, V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 Black"/>
              </a:rPr>
              <a:t>i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5800" y="2209680"/>
          <a:ext cx="7772400" cy="38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772400" cy="38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13CD5-073C-4C2A-96AC-FB65FA493F83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ad Line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9480" y="2743200"/>
          <a:ext cx="6858000" cy="33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743200"/>
                    <a:ext cx="6858000" cy="33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giv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st be where |currents| are equa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705720" y="4267080"/>
          <a:ext cx="2057400" cy="137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4267080"/>
                    <a:ext cx="2057400" cy="13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9BA88-6A8C-486B-837D-9044C05B76AF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ad Line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762120" y="2133720"/>
          <a:ext cx="7619760" cy="3763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2120" y="2133720"/>
                    <a:ext cx="7619760" cy="37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68580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36280" y="1523880"/>
            <a:ext cx="9169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66160" y="1523880"/>
            <a:ext cx="9169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4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66160" y="1523880"/>
            <a:ext cx="9169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6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66160" y="1523880"/>
            <a:ext cx="9169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8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1523880"/>
            <a:ext cx="91440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614600"/>
            <a:ext cx="175248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D2E64-FA97-4CE2-BDF3-E454930253DD}" type="slidenum">
              <a:t>12</a:t>
            </a:fld>
          </a:p>
        </p:txBody>
      </p:sp>
    </p:spTree>
  </p:cSld>
  <p:transition>
    <p:zoom dir="ou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C Transfer Curv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be points ont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-457200" y="2819520"/>
          <a:ext cx="5257800" cy="25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2819520"/>
                    <a:ext cx="5257800" cy="25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5105520" y="2666880"/>
          <a:ext cx="3733560" cy="282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666880"/>
                    <a:ext cx="37335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B1314-51FF-4686-86EB-958D2DFC096B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perating Reg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it transistor operating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029200" y="3276720"/>
          <a:ext cx="373392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276720"/>
                    <a:ext cx="373392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85800" y="2743200"/>
          <a:ext cx="4267080" cy="2371680"/>
        </p:xfrm>
        <a:graphic>
          <a:graphicData uri="http://schemas.openxmlformats.org/drawingml/2006/table">
            <a:tbl>
              <a:tblPr/>
              <a:tblGrid>
                <a:gridCol w="1422000"/>
                <a:gridCol w="1422720"/>
                <a:gridCol w="1422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2209680" y="320040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81280" y="320040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33720" y="35812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81280" y="358128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33720" y="3962520"/>
            <a:ext cx="12189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962520"/>
            <a:ext cx="12193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33720" y="434340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434340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47242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472428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867280" y="1600200"/>
          <a:ext cx="2057400" cy="13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600200"/>
                    <a:ext cx="205740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808F9-F8B6-429E-8CA5-6F090617B276}" type="slidenum">
              <a:t>14</a:t>
            </a:fld>
          </a:p>
        </p:txBody>
      </p:sp>
    </p:spTree>
  </p:cSld>
  <p:transition>
    <p:zoom dir="ou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ta Rati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, switching point will move from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kew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gates: collapse into equivalent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438280" y="2819520"/>
          <a:ext cx="4343400" cy="32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819520"/>
                    <a:ext cx="4343400" cy="32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1649D-C181-407E-9AB6-9048718FEA83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ise Margi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noise can a gate input see before it does not recognize the in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914400" y="2438280"/>
          <a:ext cx="7467480" cy="35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438280"/>
                    <a:ext cx="7467480" cy="35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20E02-D148-44FC-8C04-984069641BAB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2209680" y="2514600"/>
          <a:ext cx="4267440" cy="35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514600"/>
                    <a:ext cx="426744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 Leve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ximize noise margins, select logic levels 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y gain point of DC transfer character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209680" y="2514600"/>
          <a:ext cx="4267440" cy="359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514600"/>
                    <a:ext cx="426744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9FDE0-9AF3-4A44-ADE8-81BDFCB77A53}" type="slidenum">
              <a:t>17</a:t>
            </a:fld>
          </a:p>
        </p:txBody>
      </p:sp>
    </p:spTree>
  </p:cSld>
  <p:transition>
    <p:zoom dir="out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ent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C analy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lls u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ient analy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lls u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 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solving differential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is usually considered to be a step or r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0 t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vice ve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6E4C1-D95E-44F1-B5A0-E69AFBAF5D57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Step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ind step response of inverter driving load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838080" y="1981080"/>
          <a:ext cx="3090960" cy="23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309096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609480" y="4343400"/>
          <a:ext cx="5195880" cy="165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343400"/>
                    <a:ext cx="5195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6019920" y="4114800"/>
          <a:ext cx="2743200" cy="17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9920" y="4114800"/>
                    <a:ext cx="2743200" cy="17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5486400" y="1981080"/>
          <a:ext cx="2936880" cy="193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1981080"/>
                    <a:ext cx="2936880" cy="19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6019920" y="4038480"/>
            <a:ext cx="251460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4267080"/>
            <a:ext cx="274320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14600" y="3124080"/>
            <a:ext cx="129528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2590920"/>
            <a:ext cx="129528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7400" y="1981080"/>
            <a:ext cx="17524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6309C-9E1C-47B5-81E8-DE0D5E58C786}" type="slidenum">
              <a:t>19</a:t>
            </a:fld>
          </a:p>
        </p:txBody>
      </p:sp>
    </p:spTree>
  </p:cSld>
  <p:transition>
    <p:zoom dir="out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Levels and Noise Mar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ent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 Delay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195B2-AEF9-4CC1-A1C6-A379FD4FFEC0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Defini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ising propagation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input to rising output crossing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lling propagation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input to falling output crossing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erage propagation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is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output crossing 0.2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0.8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ll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output crossing 0.8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0.2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726080" y="1600200"/>
            <a:ext cx="3884400" cy="346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DD28E-3095-4BE1-A22D-EE822315CC70}" type="slidenum">
              <a:t>20</a:t>
            </a:fld>
          </a:p>
        </p:txBody>
      </p:sp>
    </p:spTree>
  </p:cSld>
  <p:transition>
    <p:zoom dir="out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Defini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sing contamin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input to rising output cross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lling contamin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input to falling output cross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verage contamin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2FA45-F32A-45C1-9CA9-4E7EEFD59455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ulated Inverter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ing differential equations by hand is too 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CE simulator solves the equations numer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more accurate I-V models to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simulations take time to write, may hide in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133720" y="3276720"/>
          <a:ext cx="3657600" cy="29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276720"/>
                    <a:ext cx="3657600" cy="29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9D4FF-2D4F-45FE-B9BD-A2BF318BF7F0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Estim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ould like to be able to easily estimat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s accurate as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easier to ask “What if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ep response usually looks like a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der RC response with a decaying exponent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C delay models to estimat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total capacitance on output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ffective res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that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ze transistors by finding their effective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average current as gate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D141E-EAAE-403E-A03E-3F14FBA85125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ffective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ckley models have limite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ccurate enough for modern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complicated for much han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cation: treat transistor as 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with effective resistance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averaged across switching of digital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inaccurate to predict current at any give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good enough to predict R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8A6A5-3FE9-49D0-A7EF-C01C6CFAF9B5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C Delay Mod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quivalent circuits for 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switch + capacitance and ON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nMOS has resistance R, capacitanc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pMOS has resistance 2R, capacitanc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proportional to 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 inversely proportional to 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762120" y="4038480"/>
          <a:ext cx="7543800" cy="22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038480"/>
                    <a:ext cx="75438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C1FCB-41C7-4C36-BDA3-B8E2C95EED27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C Valu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of gate width in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ually decline to 1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in nanometer tec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6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in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with shorter channel l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refer to minimum contacted device (4/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maybe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wide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n’t matter as long as you are 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E6B28-C1BB-43BF-BC27-AA75D5258EEB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Delay Estim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delay of a fanout-of-1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762120" y="2057400"/>
          <a:ext cx="7696080" cy="33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696080" cy="33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838080" y="54100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6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2666880"/>
            <a:ext cx="30481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38280" y="2057400"/>
            <a:ext cx="304812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DA433-4B3A-4A67-A5B3-C10FA2FF1AA4}" type="slidenum">
              <a:t>27</a:t>
            </a:fld>
          </a:p>
        </p:txBody>
      </p:sp>
    </p:spTree>
  </p:cSld>
  <p:transition>
    <p:zoom dir="out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lay Model Comparis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276720" y="1676520"/>
            <a:ext cx="4419360" cy="412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3A6B9-6093-43C4-A1A1-9633B19AA15B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input 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etch a 3-input NAND with transistor widths chosen to achieve effective rise and fall resistances equal to a unit inverter (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971800" y="2819520"/>
          <a:ext cx="3352680" cy="297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819520"/>
                    <a:ext cx="3352680" cy="29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548640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8640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4876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79E43-5458-4DEA-865A-A990B5A64AE3}" type="slidenum">
              <a:t>29</a:t>
            </a:fld>
          </a:p>
        </p:txBody>
      </p:sp>
    </p:spTree>
  </p:cSld>
  <p:transition>
    <p:zoom dir="out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assumed source is gr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source &gt; 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pass transistor pass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 transistor would turn itself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pass transistors pull no higher tha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a degraded “1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 degraded value slowly (low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pass transistors pull no lower tha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gates are needed to pass both 0 and 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400800" y="1828800"/>
          <a:ext cx="1828800" cy="17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1828800"/>
                    <a:ext cx="1828800" cy="17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CFCC3-7285-445F-9EA0-FAA45E0B25D1}" type="slidenum">
              <a:t>3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2286000" y="2286000"/>
          <a:ext cx="457200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286000"/>
                    <a:ext cx="457200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2286000" y="2286000"/>
          <a:ext cx="4572000" cy="362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2286000"/>
                    <a:ext cx="457200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2286000" y="2286000"/>
          <a:ext cx="4572000" cy="362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2286000"/>
                    <a:ext cx="457200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-input NAND Ca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otate the 3-input NAND gate with gate and diffusion capaci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BB080-8F05-48FA-85DB-314F59C01A87}" type="slidenum">
              <a:t>30</a:t>
            </a:fld>
          </a:p>
        </p:txBody>
      </p:sp>
    </p:spTree>
  </p:cSld>
  <p:transition>
    <p:zoom dir="out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lmore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ransistors look like re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up or pulldown network modeled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C l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more delay of RC l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752480" y="3984480"/>
          <a:ext cx="6019920" cy="21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984480"/>
                    <a:ext cx="601992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416412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685800" y="2743200"/>
          <a:ext cx="7794720" cy="147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743200"/>
                    <a:ext cx="779472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F5F5B-CE1E-44DE-A0F3-8E99BA13E134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1409760" cy="19051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input 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worst-case rising and falling delay of 3-input NAND driv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dentical g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648320" y="2057400"/>
          <a:ext cx="3733560" cy="199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2057400"/>
                    <a:ext cx="373356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914400" y="2286000"/>
          <a:ext cx="3048120" cy="1424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2286000"/>
                    <a:ext cx="3048120" cy="14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1905120" y="5105520"/>
          <a:ext cx="1218960" cy="284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05120" y="5105520"/>
                    <a:ext cx="1218960" cy="2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8" name="" descr=""/>
          <p:cNvPicPr/>
          <p:nvPr/>
        </p:nvPicPr>
        <p:blipFill>
          <a:blip r:embed="rId8"/>
          <a:stretch/>
        </p:blipFill>
        <p:spPr>
          <a:xfrm>
            <a:off x="3505320" y="3886200"/>
            <a:ext cx="1660320" cy="205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9" name=""/>
          <p:cNvGraphicFramePr/>
          <p:nvPr/>
        </p:nvGraphicFramePr>
        <p:xfrm>
          <a:off x="4876920" y="4876920"/>
          <a:ext cx="3809880" cy="606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76920" y="4876920"/>
                    <a:ext cx="380988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E7A88-58D9-4F96-B154-D262D164478D}" type="slidenum">
              <a:t>32</a:t>
            </a:fld>
          </a:p>
        </p:txBody>
      </p:sp>
    </p:spTree>
  </p:cSld>
  <p:transition>
    <p:zoom dir="out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Compon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has two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siti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or 11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of lo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ffort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h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rtional to load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F3C4B-BEDF-46D7-9678-C1908D1FDE4F}" type="slidenum">
              <a:t>33</a:t>
            </a:fld>
          </a:p>
        </p:txBody>
      </p:sp>
    </p:spTree>
  </p:cSld>
  <p:transition>
    <p:zoom dir="out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tamination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-case (contamination) delay can be substantially less than propagation del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If all three inputs fall simultaneou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3505320" y="4572000"/>
          <a:ext cx="5121000" cy="9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4572000"/>
                    <a:ext cx="512100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1143000" y="2666880"/>
          <a:ext cx="3276720" cy="175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666880"/>
                    <a:ext cx="327672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762120" y="4495680"/>
            <a:ext cx="2743200" cy="128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711C6-A7AD-40BE-B663-4D618FA36A2E}" type="slidenum">
              <a:t>34</a:t>
            </a:fld>
          </a:p>
        </p:txBody>
      </p:sp>
    </p:spTree>
  </p:cSld>
  <p:transition>
    <p:zoom dir="out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1600200" y="3621240"/>
          <a:ext cx="586728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621240"/>
                    <a:ext cx="586728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ffusion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ssumed contacted diffusion on every s /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layout minimizes diffusion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NAND3 layout shares one diffusion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output capacitance by 2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d uncontacted diffusion might help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98210-1930-4BAC-B55D-EB0BD4BD50ED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yout Comparis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layout is bet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838080" y="2209680"/>
          <a:ext cx="7315200" cy="363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315200" cy="36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C0C8F-9D7C-44DE-859B-C207F8AA6052}" type="slidenum">
              <a:t>36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 Ck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85800" y="2090880"/>
          <a:ext cx="7772400" cy="34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90880"/>
                    <a:ext cx="7772400" cy="34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905120" y="289548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3124080"/>
            <a:ext cx="1828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10280" y="289548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419112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403848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464832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CCD54-ABD4-4F13-ADD0-A95CAD014D51}" type="slidenum">
              <a:t>4</a:t>
            </a:fld>
          </a:p>
        </p:txBody>
      </p: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C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 Response: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etween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size and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KCL, must settle such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|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ould solve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graphical solution gives more in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638680" y="2971800"/>
          <a:ext cx="312444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971800"/>
                    <a:ext cx="312444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FA6DE-397D-4B7D-B73F-F6FA1711E6AA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stor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depends on region of transistor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wha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nMOS and pMO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of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C9ED3-9258-4F9B-BBBB-B3937F7CCBF9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1600200"/>
          <a:ext cx="7772400" cy="22255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out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-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out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-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5334120" y="3962520"/>
          <a:ext cx="312408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962520"/>
                    <a:ext cx="312408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685800" y="4572000"/>
            <a:ext cx="26668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1337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25909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21337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25909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91120" y="30481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91120" y="34290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81680" y="21337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25909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81680" y="30481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34290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46483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5181480"/>
            <a:ext cx="1371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5146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52680" y="25146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34290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25146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34290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45720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51055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A5361-4E93-4DA0-A20C-7A8EF382C733}" type="slidenum">
              <a:t>7</a:t>
            </a:fld>
          </a:p>
        </p:txBody>
      </p:sp>
    </p:spTree>
  </p:cSld>
  <p:transition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MOS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5800" y="1600200"/>
          <a:ext cx="7772400" cy="22255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+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+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out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-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+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out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-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5334120" y="3962520"/>
          <a:ext cx="312408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962520"/>
                    <a:ext cx="312408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685800" y="4572000"/>
            <a:ext cx="26668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4572000"/>
            <a:ext cx="26672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9875A-CABC-4E5E-BC04-4C171B38E50B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-V Characterist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pMOS is wider than nMOS such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14400" y="1905120"/>
          <a:ext cx="7162920" cy="41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7162920" cy="41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DD4F3-A64C-457B-B148-7DF182B32803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11T00:32:42Z</dcterms:modified>
  <cp:revision>704</cp:revision>
  <dc:subject/>
  <dc:title>PowerPoint Presentation</dc:title>
</cp:coreProperties>
</file>