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jpeg" ContentType="image/jpeg"/>
  <Override PartName="/ppt/media/image28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2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DA81-80BF-4C0A-9367-333AFAA90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3F113-28C3-4C79-8D66-A1188A27E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FBDC2-AB73-4307-B39C-6999BD21B8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AE08-786D-42F9-B584-8C11BE68BA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DBBA-8AF3-4617-B563-4AD9268D61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933EC-4F38-4ACE-A55B-078771FAF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B3302-E1BF-48F5-8C07-79C2943D4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C9DB8-A0DB-46F7-BDB5-0356EE535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44CE-A22A-40FD-AFFC-D379AA4BA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9A624-D4BE-4CA9-B00B-FA5885155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804AD-DDBC-47AF-B439-F71BE1770B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E29B7-06EA-4E92-AFB5-892EF3406C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CA2B-93EC-432A-9B45-D573E6CDFBA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&amp; 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A5118-BC78-45AA-8073-293CC03D98D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urrent vs.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out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2209680"/>
          <a:ext cx="77724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724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AB89-05E7-47DF-8D62-B809871DEC7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2743200"/>
          <a:ext cx="685800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43200"/>
                    <a:ext cx="68580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where |currents| are equa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705720" y="4267080"/>
          <a:ext cx="2057400" cy="13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267080"/>
                    <a:ext cx="205740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3FD51-1EDB-4186-B4C6-3ECE810E7865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62120" y="2133720"/>
          <a:ext cx="7619760" cy="376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2133720"/>
                    <a:ext cx="76197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8580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3628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15238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1614600"/>
            <a:ext cx="17524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81CD4-B2DB-4B18-9927-0E52F8E47893}" type="slidenum">
              <a:t>12</a:t>
            </a:fld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Transfer Curv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be points on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-457200" y="2819520"/>
          <a:ext cx="525780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2819520"/>
                    <a:ext cx="525780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5105520" y="2666880"/>
          <a:ext cx="3733560" cy="28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666880"/>
                    <a:ext cx="3733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B44A-B4F7-43EE-B297-34EFD88D37E4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erating Reg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t transistor operating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029200" y="3276720"/>
          <a:ext cx="373392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76720"/>
                    <a:ext cx="373392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2743200"/>
          <a:ext cx="4267080" cy="237168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22096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33720" y="3581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3581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3962520"/>
            <a:ext cx="12189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9625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4343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4724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4724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867280" y="1600200"/>
          <a:ext cx="205740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057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29B43-3339-4A94-9430-AFB216911FBA}" type="slidenum">
              <a:t>14</a:t>
            </a:fld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ta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switching point will move from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kew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ates: collapse into equivalen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438280" y="2819520"/>
          <a:ext cx="434340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434340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D476-DF94-49AB-8429-4546B868EA74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Margi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noise can a gate input see before it does not recognize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14400" y="2438280"/>
          <a:ext cx="7467480" cy="35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46748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8919D-1ECA-4B95-A725-3AA04579BDE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Lev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ximize noise margins, select logic levels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y gain point of DC transfer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7737F-16DB-49B3-8F14-D830CAC6A487}" type="slidenum">
              <a:t>17</a:t>
            </a:fld>
          </a:p>
        </p:txBody>
      </p:sp>
    </p:spTree>
  </p:cSld>
  <p:transition>
    <p:zoom dir="ou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olving differenti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is usually considered to be a step or r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949DE-B701-44C1-B22C-FA22EE909A11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38080" y="1981080"/>
          <a:ext cx="30909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909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09480" y="4343400"/>
          <a:ext cx="5195880" cy="16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343400"/>
                    <a:ext cx="5195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019920" y="4114800"/>
          <a:ext cx="2743200" cy="17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4114800"/>
                    <a:ext cx="27432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6019920" y="4038480"/>
            <a:ext cx="25146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4267080"/>
            <a:ext cx="2743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14600" y="3124080"/>
            <a:ext cx="12952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2590920"/>
            <a:ext cx="12952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7400" y="1981080"/>
            <a:ext cx="1752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86D84-9161-4DC5-9F52-2F45389C9D17}" type="slidenum">
              <a:t>19</a:t>
            </a:fld>
          </a:p>
        </p:txBody>
      </p:sp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 and Noise Ma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FC2A0-5F5D-4BCE-9A05-570936FA1B2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erage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726080" y="1600200"/>
            <a:ext cx="3884400" cy="346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B136-19C8-4067-BF70-C7D3F7DE6CDB}" type="slidenum">
              <a:t>20</a:t>
            </a:fld>
          </a:p>
        </p:txBody>
      </p:sp>
    </p:spTree>
  </p:cSld>
  <p:transition>
    <p:zoom dir="ou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F06F3-F110-4D7B-8B9E-FC1027BF723F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ulated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differential equations by hand is too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CE simulator solves the equations nume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ore accurate I-V models t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mulations take time to write, may hid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2133720" y="3276720"/>
          <a:ext cx="3657600" cy="29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76720"/>
                    <a:ext cx="365760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D983A-7EA7-4108-ACE7-1DB41C99F9A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like to be able to easily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accurate as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easier to ask “What if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p response usually looks like a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RC response with a decaying expon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C delay models to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total capacitance on outpu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ective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 transistors by finding their effectiv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average current as gate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9BCC2-5443-4FCF-83D4-FA78C0DB3A4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ffectiv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ley models have limi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 enough for moder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complicated for much h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cation: treat transistor as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effective resistanc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veraged across switching of digita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inaccurate to predict current at any give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ood enough to predict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B2A71-8EA0-4880-AFB1-33AF811E122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Delay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quivalent circuits for 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switch + capacitance and ON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nMOS has resistance 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MOS has resistance 2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versely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4038480"/>
          <a:ext cx="75438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038480"/>
                    <a:ext cx="75438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873D-587F-48E3-B74C-CF51F553D03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Val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of gate width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decline to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nanometer te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with shorter channe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fer to minimum contacted device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aybe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matter as long as you ar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A32A9-F53E-46D4-893D-7DF63DC9A352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8380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6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2666880"/>
            <a:ext cx="30481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2057400"/>
            <a:ext cx="304812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1CD73-45D1-4D9C-BEC5-00F41640C228}" type="slidenum">
              <a:t>27</a:t>
            </a:fld>
          </a:p>
        </p:txBody>
      </p:sp>
    </p:spTree>
  </p:cSld>
  <p:transition>
    <p:zoom dir="ou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 Model Comparis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76720" y="1676520"/>
            <a:ext cx="4419360" cy="412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EF7A6-DD65-43FE-BA0F-4DD28FAF09E5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3-input NAND with transistor widths chosen to achieve effective rise and fall resistances equal to a unit inverter (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971800" y="2819520"/>
          <a:ext cx="335268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819520"/>
                    <a:ext cx="3352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54864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864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7857E-6A91-4375-9FE6-A694B7EEAE1D}" type="slidenum">
              <a:t>29</a:t>
            </a:fld>
          </a:p>
        </p:txBody>
      </p:sp>
    </p:spTree>
  </p:cSld>
  <p:transition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source is gr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source &gt;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ass transistor pa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ransistor would turn itself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s pull no high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 degraded “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degraded value slowly (low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transistors pull no low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s are needed to pass both 0 and 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400800" y="1828800"/>
          <a:ext cx="18288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828800"/>
                    <a:ext cx="18288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811FB-C9CA-4A84-9813-3C5EE0233377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C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 the 3-input NAND gate with gate and diffusion capaci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4B0BA-2739-47F0-89E5-A6463DAAC84F}" type="slidenum">
              <a:t>30</a:t>
            </a:fld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more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ransistors look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up or pulldown network model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more delay of 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52480" y="3984480"/>
          <a:ext cx="601992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984480"/>
                    <a:ext cx="60199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416412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685800" y="2743200"/>
          <a:ext cx="7794720" cy="14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43200"/>
                    <a:ext cx="7794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41008-4C8B-426B-BC71-0C743F41B12D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1409760" cy="19051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worst-case rising and falling delay of 3-input NAND driv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648320" y="2057400"/>
          <a:ext cx="3733560" cy="19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57400"/>
                    <a:ext cx="373356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914400" y="2286000"/>
          <a:ext cx="3048120" cy="14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286000"/>
                    <a:ext cx="304812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905120" y="5105520"/>
          <a:ext cx="1218960" cy="284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5105520"/>
                    <a:ext cx="121896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8" name="" descr=""/>
          <p:cNvPicPr/>
          <p:nvPr/>
        </p:nvPicPr>
        <p:blipFill>
          <a:blip r:embed="rId8"/>
          <a:stretch/>
        </p:blipFill>
        <p:spPr>
          <a:xfrm>
            <a:off x="3505320" y="3886200"/>
            <a:ext cx="16603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9" name=""/>
          <p:cNvGraphicFramePr/>
          <p:nvPr/>
        </p:nvGraphicFramePr>
        <p:xfrm>
          <a:off x="4876920" y="4876920"/>
          <a:ext cx="3809880" cy="60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876920"/>
                    <a:ext cx="38098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0565B-26F8-489A-B104-F470A5FEC5B7}" type="slidenum">
              <a:t>32</a:t>
            </a:fld>
          </a:p>
        </p:txBody>
      </p:sp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Compon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or 11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of 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h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to loa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10B4B-AE2B-464E-A11D-1EBD28DD91F2}" type="slidenum">
              <a:t>33</a:t>
            </a:fld>
          </a:p>
        </p:txBody>
      </p:sp>
    </p:spTree>
  </p:cSld>
  <p:transition>
    <p:zoom dir="ou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mination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-case (contamination) delay can be substantially less than propagation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If all three inputs fall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505320" y="4572000"/>
          <a:ext cx="512100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572000"/>
                    <a:ext cx="51210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143000" y="2666880"/>
          <a:ext cx="3276720" cy="17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666880"/>
                    <a:ext cx="327672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762120" y="4495680"/>
            <a:ext cx="2743200" cy="12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9F546-0ACF-41CD-AB78-DD7D3B45033D}" type="slidenum">
              <a:t>34</a:t>
            </a:fld>
          </a:p>
        </p:txBody>
      </p:sp>
    </p:spTree>
  </p:cSld>
  <p:transition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1600200" y="3621240"/>
          <a:ext cx="586728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21240"/>
                    <a:ext cx="58672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d contacted diffusion on every s /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yout minimizes diffusio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3 layout shares one diffusio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output capacitance by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d uncontacted diffusion might help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3A50-47A5-4040-92CB-F1C49478A26C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 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layout is be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838080" y="2209680"/>
          <a:ext cx="7315200" cy="36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31520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B990-C50E-4056-8FB5-78E5B0086040}" type="slidenum">
              <a:t>36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k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85800" y="2090880"/>
          <a:ext cx="777240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90880"/>
                    <a:ext cx="777240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90512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12408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1028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41911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4038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46483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6B139-398D-4FDD-8438-D509F4C02571}" type="slidenum">
              <a:t>4</a:t>
            </a:fld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etween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size and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KCL, must settle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solv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raphical solution gives mor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638680" y="2971800"/>
          <a:ext cx="312444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312444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588D5-1917-4E11-900E-431CE90A9676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pends on region of transisto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MOS and pMO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DFFC0-7B05-41ED-9177-B59CF849D0E8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792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8168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8168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46483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1814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45720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51055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2E3F6-F6F3-458B-96FC-BB31E1347E40}" type="slidenum">
              <a:t>7</a:t>
            </a:fld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5800" y="1600200"/>
          <a:ext cx="7772400" cy="222552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4572000"/>
            <a:ext cx="2667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A445-B15A-4D5E-B2A0-F9D288617A94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is wider than nMOS such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14400" y="1905120"/>
          <a:ext cx="7162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162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5: DC and Transient Respons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2104-D9D2-4FF7-AC10-1D7030F15866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42Z</dcterms:modified>
  <cp:revision>704</cp:revision>
  <dc:subject/>
  <dc:title>PowerPoint Presentation</dc:title>
</cp:coreProperties>
</file>