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971440" y="547200"/>
            <a:ext cx="3662280" cy="27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85C79-36E0-460C-8C41-64F6CE7DD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F0CC9-54D0-4DFE-BD77-DA1F278E1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7695A2-1219-4F35-82C0-C40EF3ACE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5FC46-8905-45DD-9716-CEF9995F7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1E772C-0609-48B2-AAC3-721767B6B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B8123-AD2B-4293-9EE1-69903AEC1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947DF-E78B-476F-91F8-C999DBCD4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F2A36C-E824-460E-8A5A-5087A7782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800619-E750-46E1-87F8-505EDD5D9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14603-BE38-4E41-88A8-D738128D6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6DFF1-8874-4F45-9DF5-4994AFF04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CD650E-7DB7-4053-9AC6-D01BA60FA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5E65A3-9E6C-4917-B192-DC8988856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47F3C-4E12-4276-9A07-632B987C5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48351-1ECF-421A-A4CC-78D26E8F8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EFEFF-D78A-4478-8491-B37AFDBF0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67D41-3A94-41E3-A564-5ABD3ADBF6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A6FFF-9911-4170-9EB7-98B468378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B10534-9CDC-420C-BCFD-6F2FB8E0F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05540-D303-4920-B14B-9A199EE35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60B85-14F2-4722-A0E3-FFD73075D4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3E734-B925-42A7-B83C-2294921592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30AC6-AC7D-4FEF-B294-CFFE12271C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47004-FAEC-4B77-988D-366E240B91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275E0-0D0E-47B3-B0F4-49D104AA79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82BC3-41A9-4DB1-9F37-7E370BAC89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B9336-C324-4037-A6EC-0DCFB7837C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0CFEE-2509-40F8-A9A2-C65FEFC473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41D86-075A-428E-A5C6-A25C7239D2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55C72-011D-4BA9-B3AF-4AA7AAB341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EDDC6-62FC-42F3-925B-84FD5E24C7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E1FF5-E16C-4955-8062-DB742E2547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97615-61E6-44B0-A3ED-34D5477DD3F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3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Transistor Theo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3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CE7C-EB16-445D-BB8B-F610E538C06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annel Char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 structure looks like parallel plate capacitor while operating in inv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– oxide –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/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)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5105520" y="4191120"/>
          <a:ext cx="3200400" cy="18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4191120"/>
                    <a:ext cx="3200400" cy="18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5"/>
          <p:cNvGraphicFramePr/>
          <p:nvPr/>
        </p:nvGraphicFramePr>
        <p:xfrm>
          <a:off x="762120" y="4203720"/>
          <a:ext cx="4724280" cy="17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203720"/>
                    <a:ext cx="4724280" cy="17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 Box 6"/>
          <p:cNvSpPr/>
          <p:nvPr/>
        </p:nvSpPr>
        <p:spPr>
          <a:xfrm>
            <a:off x="6248520" y="32004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2438280" y="281952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1752480" y="3276720"/>
            <a:ext cx="5257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7086600" y="3276720"/>
            <a:ext cx="9907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1752480" y="3733920"/>
            <a:ext cx="37339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1143000" y="3200400"/>
            <a:ext cx="6094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07FA-FD29-4F55-81C9-2B977A6F0DA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ier veloc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is carried by e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s are propelled by the lateral electric field between sourc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 velocit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ortional to lateral E-fi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lled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for carrier to cross chann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L /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2133720" y="281952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2057400" y="3657600"/>
            <a:ext cx="3886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2057400" y="4572000"/>
            <a:ext cx="762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ABDE-2B75-4893-A937-CB7B796DF35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Linear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e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charge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ti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ach carrier takes to 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53520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Object 5"/>
          <p:cNvGraphicFramePr/>
          <p:nvPr/>
        </p:nvGraphicFramePr>
        <p:xfrm>
          <a:off x="762120" y="2895480"/>
          <a:ext cx="4724280" cy="27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95480"/>
                    <a:ext cx="4724280" cy="27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Rectangle 6"/>
          <p:cNvSpPr/>
          <p:nvPr/>
        </p:nvSpPr>
        <p:spPr>
          <a:xfrm>
            <a:off x="41720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Object 7"/>
          <p:cNvGraphicFramePr/>
          <p:nvPr/>
        </p:nvGraphicFramePr>
        <p:xfrm>
          <a:off x="6248520" y="4724280"/>
          <a:ext cx="1752480" cy="87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4724280"/>
                    <a:ext cx="175248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8"/>
          <p:cNvSpPr/>
          <p:nvPr/>
        </p:nvSpPr>
        <p:spPr>
          <a:xfrm>
            <a:off x="1523880" y="2895480"/>
            <a:ext cx="10670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1523880" y="3809880"/>
            <a:ext cx="3962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1523880" y="4724280"/>
            <a:ext cx="655344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B92B-CF69-402B-8739-57857D7D222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Saturation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hannel pinches off near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drain voltage no longer increases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01148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Object 5"/>
          <p:cNvGraphicFramePr/>
          <p:nvPr/>
        </p:nvGraphicFramePr>
        <p:xfrm>
          <a:off x="1219320" y="2971800"/>
          <a:ext cx="4267080" cy="18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971800"/>
                    <a:ext cx="4267080" cy="18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Rectangle 6"/>
          <p:cNvSpPr/>
          <p:nvPr/>
        </p:nvSpPr>
        <p:spPr>
          <a:xfrm>
            <a:off x="4191120" y="198108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1981080" y="2971800"/>
            <a:ext cx="35053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981080" y="3962520"/>
            <a:ext cx="1828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4EAD-E5FB-4E64-8D87-5EE5129A72E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I-V 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25830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Object 8"/>
          <p:cNvGraphicFramePr/>
          <p:nvPr/>
        </p:nvGraphicFramePr>
        <p:xfrm>
          <a:off x="685800" y="2590920"/>
          <a:ext cx="7772400" cy="29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77724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ockl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der transistor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DD4A-4226-4905-9153-CC42161F6B6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be using a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 for your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AMI Semi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5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V*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7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, 1, 2, 3, 4,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/L = 4/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269712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Object 5"/>
          <p:cNvGraphicFramePr/>
          <p:nvPr/>
        </p:nvGraphicFramePr>
        <p:xfrm>
          <a:off x="728640" y="5334120"/>
          <a:ext cx="494352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5334120"/>
                    <a:ext cx="49435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4"/>
          <p:cNvGraphicFramePr/>
          <p:nvPr/>
        </p:nvGraphicFramePr>
        <p:xfrm>
          <a:off x="4572000" y="2514600"/>
          <a:ext cx="4191120" cy="31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514600"/>
                    <a:ext cx="4191120" cy="31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3568-AE25-4F52-92FA-CFD27106CCD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MOS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pings and voltages are inverted for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is the more positive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determined by h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2-3x lower than that of electro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in AMI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pMOS must be wider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ame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class, assu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5"/>
          <p:cNvGraphicFramePr/>
          <p:nvPr/>
        </p:nvGraphicFramePr>
        <p:xfrm>
          <a:off x="5715000" y="3581280"/>
          <a:ext cx="2789280" cy="25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81280"/>
                    <a:ext cx="2789280" cy="25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777A-BE0E-4412-B6BE-AC910185505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two conductors separated by an insulator hav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to channel capacitor is very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s channel charge necessary for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and drain have capacitance to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ross reverse-biased di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diffusion capacitance because it is associated with source/drain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B24B-8E9D-4FD2-AA25-190B0C166D3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 channel as connected to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/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ermic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ermic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ypically about 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Object 4"/>
          <p:cNvGraphicFramePr/>
          <p:nvPr/>
        </p:nvGraphicFramePr>
        <p:xfrm>
          <a:off x="685800" y="3048120"/>
          <a:ext cx="7543800" cy="28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48120"/>
                    <a:ext cx="754380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8E09-A170-4D25-8B0B-DA06DDBECEB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ffusion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sirable,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si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depends on area and per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mall diffusion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ble to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ntacted d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½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uncont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s with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2629080" y="209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6" descr=""/>
          <p:cNvPicPr/>
          <p:nvPr/>
        </p:nvPicPr>
        <p:blipFill>
          <a:blip r:embed="rId1"/>
          <a:stretch/>
        </p:blipFill>
        <p:spPr>
          <a:xfrm>
            <a:off x="4495680" y="3540240"/>
            <a:ext cx="4011840" cy="2266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CA60-A1FD-4FFE-96F0-6593714A68D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I-V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I-V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and Diffusion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86A5-CAD2-4AD8-B588-E5E0E27A040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far, we have treated transistors as ideal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N transistor passes a finite amount of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erminal vol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e current-voltage (I-V)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gate, source, drain all hav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= C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) -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(C/I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and current determine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5"/>
          <p:cNvGraphicFramePr/>
          <p:nvPr/>
        </p:nvGraphicFramePr>
        <p:xfrm>
          <a:off x="762120" y="5105520"/>
          <a:ext cx="7619760" cy="9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105520"/>
                    <a:ext cx="761976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3A48-13FC-42FA-9370-8030426C47A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Object 4"/>
          <p:cNvGraphicFramePr/>
          <p:nvPr/>
        </p:nvGraphicFramePr>
        <p:xfrm>
          <a:off x="3505320" y="1981080"/>
          <a:ext cx="4495680" cy="415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981080"/>
                    <a:ext cx="44956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S Capaci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 and body form MOS capac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ng m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Object 5"/>
          <p:cNvGraphicFramePr/>
          <p:nvPr/>
        </p:nvGraphicFramePr>
        <p:xfrm>
          <a:off x="3505320" y="3352680"/>
          <a:ext cx="4572000" cy="280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3352680"/>
                    <a:ext cx="457200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7"/>
          <p:cNvGraphicFramePr/>
          <p:nvPr/>
        </p:nvGraphicFramePr>
        <p:xfrm>
          <a:off x="3581280" y="4751280"/>
          <a:ext cx="4038840" cy="132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4751280"/>
                    <a:ext cx="403884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500" autoRev="1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7" dur="500" autoRev="1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500" autoRev="1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17" dur="500" autoRev="1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18" dur="500" autoRev="1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500" autoRev="1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27" dur="500" autoRev="1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28" dur="500" autoRev="1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41B5-8C7E-47D3-85B2-14EE4A3577E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rminal Volt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 of operation depends on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and drain are symmetric diffusion ter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onvention, source is terminal at lower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≥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OS body is grounded.  First assume source is 0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regions of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ut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4"/>
          <p:cNvGraphicFramePr/>
          <p:nvPr/>
        </p:nvGraphicFramePr>
        <p:xfrm>
          <a:off x="6629400" y="1447920"/>
          <a:ext cx="2133720" cy="17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1447920"/>
                    <a:ext cx="2133720" cy="17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F3DA-DB05-490B-888A-71EC00C026E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Cutoff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4"/>
          <p:cNvGraphicFramePr/>
          <p:nvPr/>
        </p:nvGraphicFramePr>
        <p:xfrm>
          <a:off x="4267080" y="2743200"/>
          <a:ext cx="411336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743200"/>
                    <a:ext cx="411336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8626-58BA-4EE5-9139-625A0B1941A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Linea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lows from d to 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s to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s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linear 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5"/>
          <p:cNvGraphicFramePr/>
          <p:nvPr/>
        </p:nvGraphicFramePr>
        <p:xfrm>
          <a:off x="4419720" y="2286000"/>
          <a:ext cx="4113000" cy="38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286000"/>
                    <a:ext cx="411300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84DA-6CE1-4E7F-B793-C715C5E1044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Satu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pinche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ependent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ay curr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tu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current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4343400" y="3657600"/>
          <a:ext cx="4113360" cy="18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657600"/>
                    <a:ext cx="411336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1144-50DC-4B5D-B8D7-055950C1C52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-V Characterist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Linear region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charge is in the chann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fast is the charge mov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David Harris</cp:lastModifiedBy>
  <dcterms:modified xsi:type="dcterms:W3CDTF">2015-01-29T22:13:10Z</dcterms:modified>
  <cp:revision>552</cp:revision>
  <dc:subject/>
  <dc:title>PowerPoint Presentation</dc:title>
</cp:coreProperties>
</file>