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71440" y="547200"/>
            <a:ext cx="3662280" cy="27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CC664-0739-4312-8477-985CF3DA5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780FD-9698-4838-8961-2AED552E5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49469-821A-4CAA-8234-D56AB53B9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3E168-1484-4B84-B9E9-B5198754E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F54DB-1923-471A-8936-7E81D8DF1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AB521-9E63-4B06-AD38-39EFAB818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BE4C1-567C-4F4C-ACC6-41DC4567C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2F7D4-708C-4354-A267-8BDF859CB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26152-2DD9-4A26-8294-9F6D633D3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6624A-86A4-4353-AAE6-F37A6F0C2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EA940-4F8D-4337-8E64-79343F8C3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A652E-AD59-4BF8-9AA3-A3A01170E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AF6CA-81B8-4998-BA24-FF390AC04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2D586-C774-44AA-93C7-BBA070BE6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9D878-AACA-4A8E-B242-656FA3601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DD8DD-E90C-4B0F-B01B-456BAC24A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6E13A-8F49-46F4-8C19-1B7331C13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36161-334E-4BA7-8DAE-C4C0ABF9B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6B354-77D7-4EB6-98AB-7302321D3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CF42D-4AB0-4521-B24C-F8C961106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E6732-F9A8-454D-87F9-06C838BF43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775AA-F9F0-4767-A781-98AA0F0A8F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5D5AC-690E-48CE-B7DB-C26ED47E01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0254A-7D94-46AB-82CF-E28D8131E6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F995A-BAEB-4E2C-9724-F3AD5B993A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27D52-553B-4FAF-8857-0A8E57D5B1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7DED8-30C3-4592-AFD8-0B77EB447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65A17-B27B-49BD-A6A4-E41CF2BBE7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4A5F4-1141-4633-821E-CAB9CFA3C2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4D3B1-8950-4221-AC5E-1D19A2DDD1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1F4AA-ECDD-40D1-84E5-B3BE5EEFE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53E63-B936-434E-B855-9DCFA8844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C203-C69A-458C-97D7-F20069370D5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3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Transistor Theo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CA03-7C03-4186-8285-F4B1D93792C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nnel Char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structure looks like parallel plate capacitor while operating in in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– oxide –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/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)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5105520" y="4191120"/>
          <a:ext cx="3200400" cy="18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191120"/>
                    <a:ext cx="3200400" cy="18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5"/>
          <p:cNvGraphicFramePr/>
          <p:nvPr/>
        </p:nvGraphicFramePr>
        <p:xfrm>
          <a:off x="762120" y="4203720"/>
          <a:ext cx="4724280" cy="17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203720"/>
                    <a:ext cx="4724280" cy="17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6"/>
          <p:cNvSpPr/>
          <p:nvPr/>
        </p:nvSpPr>
        <p:spPr>
          <a:xfrm>
            <a:off x="6248520" y="32004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2438280" y="281952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1752480" y="3276720"/>
            <a:ext cx="5257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7086600" y="3276720"/>
            <a:ext cx="9907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1752480" y="3733920"/>
            <a:ext cx="37339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1143000" y="3200400"/>
            <a:ext cx="6094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28FF-D9BE-412A-80BE-6EF9EF63E2F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ier veloc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is carried by e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s are propelled by the lateral electric field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 velocit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ortional to lateral E-f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lled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for carrier to cross chann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 /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133720" y="281952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057400" y="3657600"/>
            <a:ext cx="3886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2057400" y="4572000"/>
            <a:ext cx="762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17A6-611B-4BF2-ADFC-2399B1A164C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Linear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charge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ch carrier takes to 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53520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Object 5"/>
          <p:cNvGraphicFramePr/>
          <p:nvPr/>
        </p:nvGraphicFramePr>
        <p:xfrm>
          <a:off x="762120" y="2895480"/>
          <a:ext cx="4724280" cy="27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4724280" cy="27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Rectangle 6"/>
          <p:cNvSpPr/>
          <p:nvPr/>
        </p:nvSpPr>
        <p:spPr>
          <a:xfrm>
            <a:off x="41720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Object 7"/>
          <p:cNvGraphicFramePr/>
          <p:nvPr/>
        </p:nvGraphicFramePr>
        <p:xfrm>
          <a:off x="6248520" y="4724280"/>
          <a:ext cx="1752480" cy="87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4724280"/>
                    <a:ext cx="175248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8"/>
          <p:cNvSpPr/>
          <p:nvPr/>
        </p:nvSpPr>
        <p:spPr>
          <a:xfrm>
            <a:off x="1523880" y="2895480"/>
            <a:ext cx="10670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1523880" y="3809880"/>
            <a:ext cx="3962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1523880" y="4724280"/>
            <a:ext cx="655344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C010-0857-4BB0-AB12-F4167CBE41D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Saturation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hannel pinches off near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drain voltage no longer increases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0114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Object 5"/>
          <p:cNvGraphicFramePr/>
          <p:nvPr/>
        </p:nvGraphicFramePr>
        <p:xfrm>
          <a:off x="1219320" y="2971800"/>
          <a:ext cx="4267080" cy="18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971800"/>
                    <a:ext cx="426708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6"/>
          <p:cNvSpPr/>
          <p:nvPr/>
        </p:nvSpPr>
        <p:spPr>
          <a:xfrm>
            <a:off x="4191120" y="198108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1981080" y="2971800"/>
            <a:ext cx="35053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981080" y="3962520"/>
            <a:ext cx="1828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F335-3D35-44B8-B620-B48E6E1F25A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I-V 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25830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Object 8"/>
          <p:cNvGraphicFramePr/>
          <p:nvPr/>
        </p:nvGraphicFramePr>
        <p:xfrm>
          <a:off x="685800" y="2590920"/>
          <a:ext cx="7772400" cy="29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77724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ckl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 transistor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8432-8B0F-4B9C-967E-DD5A72EEE37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be using a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 for your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AMI Semi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5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V*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7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, 1, 2, 3, 4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/L = 4/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269712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Object 5"/>
          <p:cNvGraphicFramePr/>
          <p:nvPr/>
        </p:nvGraphicFramePr>
        <p:xfrm>
          <a:off x="728640" y="5334120"/>
          <a:ext cx="494352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5334120"/>
                    <a:ext cx="49435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4"/>
          <p:cNvGraphicFramePr/>
          <p:nvPr/>
        </p:nvGraphicFramePr>
        <p:xfrm>
          <a:off x="4572000" y="2514600"/>
          <a:ext cx="4191120" cy="31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514600"/>
                    <a:ext cx="4191120" cy="31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E886-A236-4F85-BF5B-67DF39766DD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pings and voltages are inverted for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is the more positive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determined by h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2-3x lower than that of electro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in AMI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pMOS must be wider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am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lass, assu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5"/>
          <p:cNvGraphicFramePr/>
          <p:nvPr/>
        </p:nvGraphicFramePr>
        <p:xfrm>
          <a:off x="5715000" y="3581280"/>
          <a:ext cx="2789280" cy="25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789280" cy="25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7AAB-4A79-40B2-90BA-71618DCE25A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two conductors separated by an insulator hav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to channel capacitor is very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s channel charge necessary for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and drain have capacitance to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ross reverse-biased di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diffusion capacitance because it is associated with source/drain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F911-994A-4A41-8503-20C694F433B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channel as connected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/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ermic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ermic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ypically about 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685800" y="3048120"/>
          <a:ext cx="7543800" cy="28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8120"/>
                    <a:ext cx="754380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A280-2C26-48AB-9E10-781FC245CE5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usion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sirable,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si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depends on area and per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mall diffusion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ble to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ntacted d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½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uncont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s wit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2629080" y="209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6" descr=""/>
          <p:cNvPicPr/>
          <p:nvPr/>
        </p:nvPicPr>
        <p:blipFill>
          <a:blip r:embed="rId1"/>
          <a:stretch/>
        </p:blipFill>
        <p:spPr>
          <a:xfrm>
            <a:off x="4495680" y="3540240"/>
            <a:ext cx="4011840" cy="2266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7AC8-8E85-4206-903A-4481F11A728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I-V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I-V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and Diffusion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F782-D001-40D0-AAA6-6AA73F5B235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far, we have treated transistors as ideal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N transistor passes a finite amount of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erminal vol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 current-voltage (I-V)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gate, source, drain all hav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= C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) -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(C/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and current determin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5"/>
          <p:cNvGraphicFramePr/>
          <p:nvPr/>
        </p:nvGraphicFramePr>
        <p:xfrm>
          <a:off x="762120" y="5105520"/>
          <a:ext cx="7619760" cy="9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105520"/>
                    <a:ext cx="761976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2FD4-8867-4099-87E7-5890139A4BE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4"/>
          <p:cNvGraphicFramePr/>
          <p:nvPr/>
        </p:nvGraphicFramePr>
        <p:xfrm>
          <a:off x="3505320" y="1981080"/>
          <a:ext cx="4495680" cy="41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981080"/>
                    <a:ext cx="44956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 Capaci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 and body form MOS capac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ng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5"/>
          <p:cNvGraphicFramePr/>
          <p:nvPr/>
        </p:nvGraphicFramePr>
        <p:xfrm>
          <a:off x="3505320" y="3352680"/>
          <a:ext cx="4572000" cy="280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3352680"/>
                    <a:ext cx="457200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7"/>
          <p:cNvGraphicFramePr/>
          <p:nvPr/>
        </p:nvGraphicFramePr>
        <p:xfrm>
          <a:off x="3581280" y="4751280"/>
          <a:ext cx="4038840" cy="132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4751280"/>
                    <a:ext cx="403884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500" autoRev="1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7" dur="500" autoRev="1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500" autoRev="1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7" dur="500" autoRev="1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8" dur="500" autoRev="1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8688-1FB0-4659-82AB-9BC2468C3D3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rminal Volt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 of operation depends on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and drain are symmetric diffusion ter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onvention, source is terminal at lower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≥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OS body is grounded.  First assume source is 0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regions of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ut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4"/>
          <p:cNvGraphicFramePr/>
          <p:nvPr/>
        </p:nvGraphicFramePr>
        <p:xfrm>
          <a:off x="6629400" y="1447920"/>
          <a:ext cx="2133720" cy="17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1447920"/>
                    <a:ext cx="2133720" cy="17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C24E-5890-4F1A-9D1E-050368DABA8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Cutoff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4"/>
          <p:cNvGraphicFramePr/>
          <p:nvPr/>
        </p:nvGraphicFramePr>
        <p:xfrm>
          <a:off x="4267080" y="2743200"/>
          <a:ext cx="411336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743200"/>
                    <a:ext cx="411336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7F43-5BD2-4018-9813-872A6279A8F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Linea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lows from d to 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s to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s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linear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5"/>
          <p:cNvGraphicFramePr/>
          <p:nvPr/>
        </p:nvGraphicFramePr>
        <p:xfrm>
          <a:off x="4419720" y="2286000"/>
          <a:ext cx="4113000" cy="38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286000"/>
                    <a:ext cx="411300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44F6-659E-45B4-B714-9BB0177E1A6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Satu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pinche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ependent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ay curr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tu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current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4343400" y="3657600"/>
          <a:ext cx="4113360" cy="18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657600"/>
                    <a:ext cx="411336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32B4-018C-4C80-BD61-5F610E971AD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-V Characteris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inear region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charge is in the chann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fast is the charge mov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David Harris</cp:lastModifiedBy>
  <dcterms:modified xsi:type="dcterms:W3CDTF">2015-01-29T22:13:10Z</dcterms:modified>
  <cp:revision>552</cp:revision>
  <dc:subject/>
  <dc:title>PowerPoint Presentation</dc:title>
</cp:coreProperties>
</file>