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B2249-295B-4070-A764-CD06C1718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B84A1-5B09-42DA-913A-D7573B415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FC1E8-42AD-43E9-98FB-26B68739D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63948-4C21-4180-A3E8-2E5A0B16D6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B9770-67C3-4530-913F-BBD1CBE1AE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4E99-10AA-446D-802A-E62E6E74F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02E82-1E96-44BF-9DBA-D7916EA21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27A0A-9666-4F65-886F-E6F3A13BE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B21BF-A570-4838-BE5D-B7AA023F9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44AB0-638F-41FA-977E-535096FA5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36E26-CF68-44A7-BB0E-3DCAEE278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EA792-BD42-4FFF-98C8-DF2FC50D2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821E-85EB-4052-B992-077337878B5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ing, Power, &amp; Clo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F468-E9D7-4CF8-9951-B047947F4C4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ip has a heat sink with a thermal resistance to the package of 4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istance from chip to package i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box ambient temperature may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temperature must not exceed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ximum chip power dissip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0-55 C) / (4 + 1 C/W) = 9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4952880"/>
            <a:ext cx="4419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5AE51-01BF-446F-A313-26D65742216C}" type="slidenum">
              <a:t>10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mperature Sen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die temperature and throttle performance if it gets too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air of pnp 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np available in C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ifference is proportional to absolute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with on-chip A/D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629400" y="2362320"/>
            <a:ext cx="1593720" cy="1228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060280" cy="9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914400" y="3429000"/>
          <a:ext cx="548640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54864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10FE-0DA1-46C3-B8B3-8C7188687B0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 Network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current from pads to transistors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table voltage with low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verage and peak power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urrent return paths for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electromigration &amp; self-heating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 little chip area and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la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EDC6-43DC-46CF-BF3F-CCF893D7640D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Requir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nom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+/- 10%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 many time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38280" y="4114800"/>
          <a:ext cx="387360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87360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833DC-0864-4046-B411-4E8A21CC9B57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R Dr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ip draws 24 W from a 1.2 V supply.  The power supply impedance is 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What is the IR dr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4 W / 1.2 V = 2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 = (20 A)(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00 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2362320"/>
            <a:ext cx="4419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819520"/>
            <a:ext cx="4647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A06D3-7DBF-449E-8897-C47D2AA7B3F3}" type="slidenum">
              <a:t>14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 di/dt Noi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.2 V chip switches from an idle mode consuming 5W to a full-power mode consuming 53 W.  The transition takes 10 clock cycles at 1 GHz.  The supply inductance is 0.1 nH. What is the L di/dt dro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(53 W – 5 W)/(1.2 V) = 4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10 cycles * (1 ns / cycle) = 1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droop = (0.1 nH) * (40 A / 10 ns) = 0.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342900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88620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26708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22025-9DED-4EB3-94B7-0C3F4954B08E}" type="slidenum">
              <a:t>15</a:t>
            </a:fld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ypass Capaci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low supply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capacitors have impedance decreasing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capacitors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resonant frequency of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28800" y="3429000"/>
          <a:ext cx="525780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525780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6D0A4-FFDA-4EBD-8E00-F08F1E560C3A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ystem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comes from regulator on system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nd package add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 capacitors help stabilize 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pacitors also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system for time and frequency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3772080"/>
          <a:ext cx="761976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72080"/>
                    <a:ext cx="761976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62EEC-140F-472F-B822-4F960D96FA9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requency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apacitors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capacitor near regulator has low impedance at low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has a low self-resonant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apacitors near chip and on chip have low impedance at high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aps to get low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62320" y="4419720"/>
          <a:ext cx="4038480" cy="16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419720"/>
                    <a:ext cx="4038480" cy="16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F806-47B1-49BB-8A35-66AED4162F4D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Pentium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impedance for Pentium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ke near 100 MHz caused by package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response to sudden supply curren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on-chip bypass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packag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boar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4132440"/>
            <a:ext cx="3124080" cy="193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4191120"/>
            <a:ext cx="3124080" cy="1753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336840" y="582444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Xu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3960" y="579132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Wong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3AACA-E8ED-4519-94BC-5EFA24A123BC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2186F-34CF-4DAA-8A63-05E676B47D51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e Pum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a different supply voltage is needed but little current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V for Flash memory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ody bias for leakage control during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the voltage on-chip with a charge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3657600" cy="1081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2057400" cy="8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CD5EF-9E0E-4C0C-B52A-30280420AB9A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Scaven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-low power systems can scavenge their energy from the environment rather than needing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calculator (solar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ID tags (anten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 pressure monitors powered by vibrational energy of tires (piezoelectric gener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 film microbatteries deposited on the chip can store energy for times of peak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D857-8086-49AC-A299-75B32C880BD7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small chip, the clock distribution network is just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ossibly an inverter for cl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ractical chips, the RC delay of the wire resistance and gate load is very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this delay cause clock to get to different elements at different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hips use repeaters to buffer the clock and equalize th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but doesn’t eliminat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0A04C-F2E2-4D02-BFA0-A117FE88D3FD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comes from differences in gate and wi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ight buffer sizing,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ideally arrive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wer supply noise changes buff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always see RC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90720" y="3886200"/>
          <a:ext cx="6705360" cy="18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86200"/>
                    <a:ext cx="670536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B5B1A-DEAB-4DFB-9212-447DDF7A3047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: Skew Impa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990720" y="403848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03848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 full cycl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fo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adds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hold time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792D-5B73-4608-98F4-0EEDBA6666A7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clock distribution network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nty of metal wir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udget actual, not worst case sk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vs. global skew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erat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ircuit structures insensitive to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C12B8-554F-4B06-90AC-D1915FA0959F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.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54A0F-23D4-406F-A027-EC2440620091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rid on two or more levels to carry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wires wide to reduc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low skew between nearb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ssibly large skew acros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1A69-FBD5-44FB-8361-0419C35341D9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lpha 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78040" y="1523880"/>
          <a:ext cx="5587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523880"/>
                    <a:ext cx="5587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DA5B-BBAD-410F-8B9C-2805E7760BE2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-Tre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s clock arbitrarily close to any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d delay along all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variations caus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might see big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410080" y="2971800"/>
          <a:ext cx="281952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971800"/>
                    <a:ext cx="28195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B5E7-318A-4B1D-9379-576A1F22C666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connection of signals and power from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delay or dis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connection of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heat produced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chip from mechanic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le with thermal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 to manufacture an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D2FA-38F7-44F1-BFDE-7DE7C5114EC8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anium 2 H-Tre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levels of buff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-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429000" y="2362320"/>
          <a:ext cx="5227560" cy="33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362320"/>
                    <a:ext cx="5227560" cy="33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6814F-5CA6-44D2-8E8C-604802149EA1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ybrid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-tree to distribute clock to man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 these points together with a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BM Power4, Powe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 drives 16-64 sector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s drive total of 1024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oints shorted together with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D1111-8BDA-4922-99E7-F080C8E8AAE8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e vs. surface 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1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94666-7604-4893-AE44-C658EDCEF569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ip-to-Package Bon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, chip is surround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pads on 100 – 2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nd wi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ach pads to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 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es signals i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t spr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with 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3200400" cy="23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A3E5B-B23F-4B58-B5B5-228F80CC8B58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wires contribute parasitic i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cy packages have many signal, power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tiny printed circuit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ip-c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s connections across surface of die rather than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level metal pads covered with solder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 flips upside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aligned to package (done blin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ed to melt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rolled Collapse Chip Conn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20EB9-5FB0-4032-AE97-7A3C1823F4BA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Parasi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2514600"/>
          <a:ext cx="777240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724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anc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CBBDA-560D-408F-BA1F-7E6DBAD3A953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eat Dissip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W light bulb has surface area of 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nium 2 die dissipates 130 W over 4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have enormous power d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ing is a serious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spreads heat to larg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inks may increase surface area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s increase airflow rate ov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 cooling used in extreme cases ($$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196D5-1F7C-48DF-B939-80411FE1EDCD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rmal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temperature rise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mal resistance of chip junction to amb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power dissipation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resistances combine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and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CDFF6-0141-4506-84EF-0BE5C8758C97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9T17:43:32Z</dcterms:modified>
  <cp:revision>2098</cp:revision>
  <dc:subject/>
  <dc:title>PowerPoint Presentation</dc:title>
</cp:coreProperties>
</file>