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7B935-54D3-4947-BB79-B50DD642C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9058C-30BA-48CA-8F3D-AEE8C57510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41757-CE8C-451B-A531-73C673B8C6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B02F6-4998-41DE-B76F-1A16E2FABD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FB269-F3FE-4458-9A6F-E878558AD0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B51E8-E949-4F82-957F-170C5A78F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30A62-823A-41B0-9533-360E20A10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53DE-17C8-4BE1-8323-F6D53D3367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9D51-8F35-45FB-9113-73951B570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53BA-D381-4229-8C74-98D2445D82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2E426-D3C0-4DB0-86BD-B136489DA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D9162-6DAD-4E1B-A072-E101608414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05B0-7179-4236-8CBE-D4EF3AFC76F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ing, Power, &amp; Clo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8F816-6441-4503-AE89-3F8B72FA89DF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ip has a heat sink with a thermal resistance to the package of 4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from chip to package i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box ambient temperature may r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temperature must not exceed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ximum chip power dissip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0-55 C) / (4 + 1 C/W) = 9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4952880"/>
            <a:ext cx="4419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33B0-D2F0-4C5D-8F8D-E3499EF6F93B}" type="slidenum">
              <a:t>10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mperature Sen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die temperature and throttle performance if it gets too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air of pnp 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np available in C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ifference is proportional to absolute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with on-chip A/D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629400" y="2362320"/>
            <a:ext cx="1593720" cy="1228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060280" cy="9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914400" y="3429000"/>
          <a:ext cx="54864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54864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6E124-4C01-4FFB-BBA0-B9A53CC5E6FF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 Network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current from pads to transistors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ble voltage with 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verage and peak power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urrent return paths for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electromigration &amp; self-heating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 little chip area and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la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5E5D8-D3AE-427E-BF84-B39DDA51CB9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Requir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no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+/- 10%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 many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38280" y="4114800"/>
          <a:ext cx="387360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87360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A590B-2B83-4019-B60A-C6DF84B8452E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R Dr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ip draws 24 W from a 1.2 V supply.  The power supply impedance is 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What is the IR dr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4 W / 1.2 V = 2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 = (20 A)(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00 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362320"/>
            <a:ext cx="4419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2819520"/>
            <a:ext cx="4647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6683D-190E-473B-BF87-82BAADFDAA91}" type="slidenum">
              <a:t>14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 di/dt Noi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.2 V chip switches from an idle mode consuming 5W to a full-power mode consuming 53 W.  The transition takes 10 clock cycles at 1 GHz.  The supply inductance is 0.1 nH. What is the L di/dt dr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(53 W – 5 W)/(1.2 V) = 4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10 cycles * (1 ns / cycle) = 1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droop = (0.1 nH) * (40 A / 10 ns) =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4290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38862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426708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CB5B2-5CBD-44F2-B0C5-775D4C627F21}" type="slidenum">
              <a:t>15</a:t>
            </a:fld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ypass Capaci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low supply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capacitors have impedance decreasing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capacitors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resonant frequency of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828800" y="3429000"/>
          <a:ext cx="52578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52578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A5F68-2829-4BF3-B469-2F1264779F0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ystem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comes from regulator on system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nd package add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capacitors help stabilize 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pacitors also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system for time and frequency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762120" y="3772080"/>
          <a:ext cx="761976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72080"/>
                    <a:ext cx="76197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87D06-B53D-4B81-B12D-636EB47B780F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requency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apacitors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apacitor near regulator has low impedance at low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has a low self-resonant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apacitors near chip and on chip have low impedance at high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aps to get low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2320" y="4419720"/>
          <a:ext cx="4038480" cy="16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419720"/>
                    <a:ext cx="4038480" cy="16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B73A7-FBDE-46FD-930F-F5B175CB9B9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Pentium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impedance for Pentium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ke near 100 MHz caused by package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response to sudden supply curren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on-chip bypass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packag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boar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4132440"/>
            <a:ext cx="3124080" cy="1935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4191120"/>
            <a:ext cx="3124080" cy="1753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336840" y="582444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Xu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3960" y="579132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Wong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4B1C3-4681-45D7-850A-7012B45AF5AC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D4A71-0D7C-449E-B114-8842EAAC59B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e Pum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a different supply voltage is needed but little current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V for Flash memory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ody bias for leakage control during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the voltage on-chip with a charge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3657600" cy="1081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2057400" cy="86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2DF9D-1C91-492A-B7B8-024CA3C7B124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Scaven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-low power systems can scavenge their energy from the environment rather than need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calculator (solar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ID tags (anten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 pressure monitors powered by vibrational energy of tires (piezoelectric gener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film microbatteries deposited on the chip can store energy for times of peak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3C0FB-B4DE-4B24-BAE9-DE74EEE905DB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small chip, the clock distribution network is just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sibly an inverter for cl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ractical chips, the RC delay of the wire resistance and gate load is ver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this delay cause clock to get to different elements at differen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hips use repeaters to buffer the clock and equalize th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but doesn’t eliminat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AAE7-7CD6-44D7-8C88-BEAFC632529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comes from differences in gate and wi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ight buffer sizing,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ideally arrive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wer supply noise changes buff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always see RC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90720" y="3886200"/>
          <a:ext cx="6705360" cy="18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670536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B05FA-F29E-497A-B07A-ADBD9E02671B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: Skew Impa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990720" y="403848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03848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full cycl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adds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hold time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DBF1-0474-4495-B1DA-4F48D13CFC6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clock distribution network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nty of metal wir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udget actual, not worst case sk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vs. global skew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t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ircuit structures insensitive to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6883F-1ABC-44E7-B573-4E667F116478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.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8F00-2114-40FB-A2B7-7F2E50A224A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id on two or more levels to carry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wires wide to reduc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low skew between nearb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ssibly large skew acros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4155-1FBD-4C5B-B9D9-AA72F6C7BA29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pha 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78040" y="1523880"/>
          <a:ext cx="5587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523880"/>
                    <a:ext cx="5587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FE7B-F383-4DAA-BC79-93738CE29D6D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-Tre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s clock arbitrarily close to any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d delay along all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variations caus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might see big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410080" y="2971800"/>
          <a:ext cx="28195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971800"/>
                    <a:ext cx="2819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1248-1D6E-4501-AD16-7278D0AAE255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connection of signals and power from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elay or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connection of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heat produced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chip from mechanic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le with thermal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 to manufacture an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5FC3-E27E-440B-99E1-4BEC8679653C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anium 2 H-Tre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levels of buff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-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429000" y="2362320"/>
          <a:ext cx="5227560" cy="33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5227560" cy="33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5507C-0626-4B8C-BDE4-D96EAE97BCAB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ybrid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-tree to distribute clock to man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 these points together with a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BM Power4, Powe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 drives 16-64 secto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s drive total of 1024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ints shorted together with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34D63-C74D-46B6-AA19-90B72494F1D7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e vs. surface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1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D5B3-CA3C-41AD-9309-CB16B23353D3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ip-to-Package Bon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, chip is surround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pads on 100 – 2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nd w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ach pads to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 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s signals i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t spr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with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3200400" cy="232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103B5-8B9D-4A87-BDF9-7AFAEBA415D6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wires contribute parasitic i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cy packages have many signal, power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iny printed circuit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ip-c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s connections across surface of die rather than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level metal pads covered with solder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flips upsid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aligned to package (done blin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to melt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rolled Collapse Chip Conn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08359-CA66-413D-ABCF-7FAE87E7E31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Parasi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2514600"/>
          <a:ext cx="777240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anc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E1DC7-3516-4536-BBC8-B545D9277C2F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eat Dissip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W light bulb has surface area of 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nium 2 die dissipates 130 W over 4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have enormous pow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 is a serious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spreads heat to larg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s may increase surface area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s increase airflow rate ov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cooling used in extreme cases ($$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4DDA-D8A5-4C04-A73E-132C707EE114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rmal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temperature rise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mal resistance of chip junction to amb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power dissipation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resistances combine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and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1: Package, Power, and Cloc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EF4CD-2538-40A2-8373-06FA3A20768E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9T17:43:32Z</dcterms:modified>
  <cp:revision>2098</cp:revision>
  <dc:subject/>
  <dc:title>PowerPoint Presentation</dc:title>
</cp:coreProperties>
</file>