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51A3-0AC4-4F60-8FC8-262D877B4A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269B9-E2C5-47EC-913F-87EA133FE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FD0A0-B557-4DAF-A6A6-2BD31B9B04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7E256-CE7E-49D6-92C1-D2E14B8D37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47596-5328-496A-835C-0C51675BF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7A2DD-8A7F-44FB-8FA6-372B81638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43000-E5AE-4EE7-B25D-D6A75F53D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AE9F5-C7A0-40E1-89D2-193C5C4B7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348C-3A97-48AE-91A8-8F363FB8C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400AA-A4AC-4640-ADCF-19632D91A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3747B-E21B-4185-B40A-B7760FD75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60ED-A071-4D0D-B0D0-A10EAD538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A239-7D4F-4CB1-85F9-1591EB0897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EEB86-8EB8-477A-B734-B450508F6DC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DE05B-14F1-4831-AC52-1B8A4545D05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34E83-4672-485B-80B4-479E6114C27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77415-FDE3-495F-89AD-5E897E83C94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3280-ECD1-413B-ADE8-32E61922B02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59B1-2466-4518-9C11-48D280490CB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575C-D7DC-48A8-A207-472FBC5DADF4}" type="slidenum">
              <a:t>1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1D20-F1B9-48FE-915E-35B403F1A98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A6A47-9607-494B-962C-4A743CA3455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’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62BB-15D8-445B-B9DE-BF33A435B9C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80BD1-F3A0-4906-92EF-894B2617EDC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51A2-A12C-4831-8F9E-AE8C8FE9816D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733E-1483-4B22-BCB9-A002C21C31E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28E1-FFCB-41B3-A02D-91C3385FB21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FD16-A187-4045-A9DA-0A28BBED1FC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314F0-D79F-4E79-B772-59B71BDEC37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7F9D3-C2CE-47E6-944F-8B22F2F995FE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76E1-499B-4D87-9032-91E570BCFEF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0DFF7-0F67-4011-9257-C9927EED78F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’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CD8D-5774-4097-ACBF-C1A4E62751E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6E6D-39C0-429A-B6FA-F78F2D81DA4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7AB99-61AB-4E56-9B40-B1EB141F887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7DB9-A7D5-451E-BFE5-E5FCD4F1CCC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62120" y="1905120"/>
          <a:ext cx="4572000" cy="4095720"/>
        </p:xfrm>
        <a:graphic>
          <a:graphicData uri="http://schemas.openxmlformats.org/drawingml/2006/table">
            <a:tbl>
              <a:tblPr/>
              <a:tblGrid>
                <a:gridCol w="653760"/>
                <a:gridCol w="652680"/>
                <a:gridCol w="654120"/>
                <a:gridCol w="650880"/>
                <a:gridCol w="653760"/>
                <a:gridCol w="652680"/>
                <a:gridCol w="6541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97AB-634E-4DD9-BFA4-81834829757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C32F-ED7A-43A7-8FE5-B7FBEEDB4704}" type="slidenum">
              <a:t>31</a:t>
            </a:fld>
          </a:p>
        </p:txBody>
      </p: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D7AD-63FD-4402-950C-460B871414F2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032BE-D3A5-410B-AA29-2BD4BA08FD09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CD68-47E4-4FA2-A532-62B6B139557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’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1DE6A-E36E-4534-8DF2-B6D03944B85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C2A18-4F52-44BE-B6F6-39E77E215CC3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0: CAMs, ROMs, and PL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84BF1-9BD3-4D28-8229-298243DAB96C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7T03:36:16Z</dcterms:modified>
  <cp:revision>1567</cp:revision>
  <dc:subject/>
  <dc:title>PowerPoint Presentation</dc:title>
</cp:coreProperties>
</file>