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9.png" ContentType="image/png"/>
  <Override PartName="/ppt/media/image32.wmf" ContentType="image/x-wmf"/>
  <Override PartName="/ppt/media/image14.wmf" ContentType="image/x-wmf"/>
  <Override PartName="/ppt/media/image24.png" ContentType="image/png"/>
  <Override PartName="/ppt/media/image13.wmf" ContentType="image/x-wmf"/>
  <Override PartName="/ppt/media/image30.png" ContentType="image/png"/>
  <Override PartName="/ppt/media/image9.wmf" ContentType="image/x-wmf"/>
  <Override PartName="/ppt/media/image39.wmf" ContentType="image/x-wmf"/>
  <Override PartName="/ppt/media/image41.png" ContentType="image/png"/>
  <Override PartName="/ppt/media/image42.wmf" ContentType="image/x-wmf"/>
  <Override PartName="/ppt/media/image28.png" ContentType="image/png"/>
  <Override PartName="/ppt/media/image31.wmf" ContentType="image/x-wmf"/>
  <Override PartName="/ppt/media/image11.png" ContentType="image/png"/>
  <Override PartName="/ppt/media/image43.wmf" ContentType="image/x-wmf"/>
  <Override PartName="/ppt/media/image44.wmf" ContentType="image/x-wmf"/>
  <Override PartName="/ppt/media/image1.png" ContentType="image/png"/>
  <Override PartName="/ppt/media/image45.wmf" ContentType="image/x-wmf"/>
  <Override PartName="/ppt/media/image40.png" ContentType="image/png"/>
  <Override PartName="/ppt/media/image38.wmf" ContentType="image/x-wmf"/>
  <Override PartName="/ppt/media/image8.wmf" ContentType="image/x-wmf"/>
  <Override PartName="/ppt/media/image12.wmf" ContentType="image/x-wmf"/>
  <Override PartName="/ppt/media/image27.png" ContentType="image/png"/>
  <Override PartName="/ppt/media/image37.wmf" ContentType="image/x-wmf"/>
  <Override PartName="/ppt/media/image7.wmf" ContentType="image/x-wmf"/>
  <Override PartName="/ppt/media/image6.wmf" ContentType="image/x-wmf"/>
  <Override PartName="/ppt/media/image36.wmf" ContentType="image/x-wmf"/>
  <Override PartName="/ppt/media/image35.wmf" ContentType="image/x-wmf"/>
  <Override PartName="/ppt/media/image5.wmf" ContentType="image/x-wmf"/>
  <Override PartName="/ppt/media/image10.png" ContentType="image/png"/>
  <Override PartName="/ppt/media/image34.wmf" ContentType="image/x-wmf"/>
  <Override PartName="/ppt/media/image4.wmf" ContentType="image/x-wmf"/>
  <Override PartName="/ppt/media/image33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86A60B-CB01-4784-A0FB-CB5ED0CDF6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F948A0-1D8C-482C-9A7B-100692D2AE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B7A0DA-2CD0-434A-A4FF-608F640769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E675D1-11C4-4977-894C-C1688B7BDBE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1653EA-F176-401D-8202-F83408C6600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79794D-04B3-482F-95A0-6D0B7E1C4A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88BC32-00D5-4D77-96F1-E3AD31488B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C63E59-3AE3-4A4A-B32A-F1D2007069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FC8425-9562-4CD4-A781-D1C3828A19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44257-C819-49B1-892C-44FE3838DB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56B3A9-920B-4A1F-BD1B-24E180B9DB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DACA99-26F7-4025-B1CB-0B27B31E53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B8C94-7A0D-43CF-83F9-415448EDE8CC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095880"/>
            <a:ext cx="7772400" cy="15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85800" y="1295280"/>
            <a:ext cx="7772400" cy="152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3733920" y="624852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3733920" y="62485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 </a:t>
            </a:r>
            <a:r>
              <a:rPr b="1" lang="en-US" sz="1400" spc="-1" strike="noStrike" baseline="30000">
                <a:solidFill>
                  <a:srgbClr val="0000ff"/>
                </a:solidFill>
                <a:latin typeface="Arial"/>
              </a:rPr>
              <a:t>4th 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wmf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7.wmf"/><Relationship Id="rId5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2.wmf"/><Relationship Id="rId5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5.wm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2880" y="419076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ecture 20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AMs, ROMs,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LA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438156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0: CAMs, ROMs, and PL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F55D44-3829-412E-A8C6-0EF0BE37FDB6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omplete ROM Layou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"/>
          <p:cNvSpPr/>
          <p:nvPr/>
        </p:nvSpPr>
        <p:spPr>
          <a:xfrm>
            <a:off x="1833480" y="1047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676520" y="1447920"/>
            <a:ext cx="5333760" cy="4636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0: CAMs, ROMs, and PL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6124CD-61E4-44FE-94FB-D7E4AC676DB9}" type="slidenum">
              <a:t>10</a:t>
            </a:fld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ROMs and EPROM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mable RO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rray with transistors at every 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rn out fuses to disable unwanted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ically Programmable RO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loating gate to turn off unwanted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PROM, EEPROM, Fla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2514600" y="4114800"/>
          <a:ext cx="4038480" cy="173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4114800"/>
                    <a:ext cx="4038480" cy="173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0: CAMs, ROMs, and PL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A9C9F8-8A95-457F-90EB-87731B538AA5}" type="slidenum">
              <a:t>11</a:t>
            </a:fld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Flash Programm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ge on floating gate determines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 1: negative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 0: positive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lls erased to 1 by applying a high body voltage so that electrons tunnel off floating gate into subst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med to 0 by applying high gate volta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600200" y="4370400"/>
            <a:ext cx="5715000" cy="1432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0: CAMs, ROMs, and PL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8A9081-7A7E-4688-9A60-212B80E63E39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NAND Flash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density, low cost /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med one page at a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ased one block at a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96-bit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6 pages / 8 KB b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blocks /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095880" y="1600200"/>
            <a:ext cx="2514600" cy="2097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0: CAMs, ROMs, and PL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33301D-716B-4739-81A9-BB2F6F59FF17}" type="slidenum">
              <a:t>13</a:t>
            </a:fld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64 Gb NAND Flash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4K cells /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bits / cell (multiple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4 cells / st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6 pages / b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K blocks / pl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pla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952880" y="1676520"/>
            <a:ext cx="3416400" cy="39621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5202360" y="5668920"/>
            <a:ext cx="78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Trinh09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0: CAMs, ROMs, and PL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35CBBE-B6EA-44F1-B462-EC1D96DA526E}" type="slidenum">
              <a:t>14</a:t>
            </a:fld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uilding Logic with ROM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OM as lookup table containing truth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inputs, k outputs requires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ff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ords x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ing function is easy – reprogram R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ite State Mach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inputs, k outputs, s bits of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with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ff"/>
                </a:solidFill>
                <a:latin typeface="Arial"/>
              </a:rPr>
              <a:t>n+s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x (k+s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it ROM and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(k+s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it r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914400" y="4038480"/>
          <a:ext cx="2225520" cy="204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4038480"/>
                    <a:ext cx="2225520" cy="204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4343400" y="4495680"/>
          <a:ext cx="2971800" cy="1359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43400" y="4495680"/>
                    <a:ext cx="2971800" cy="13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"/>
          <p:cNvSpPr/>
          <p:nvPr/>
        </p:nvSpPr>
        <p:spPr>
          <a:xfrm>
            <a:off x="5334120" y="1981080"/>
            <a:ext cx="3808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781680" y="1981080"/>
            <a:ext cx="30492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971800" y="3733920"/>
            <a:ext cx="16002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400800" y="3733920"/>
            <a:ext cx="6858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0: CAMs, ROMs, and PL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DE7B8C-585E-40CC-8C10-3F21F7F83455}" type="slidenum">
              <a:t>15</a:t>
            </a:fld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: RoboAn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1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’s build an 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nsor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tenna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L,R) – 1 when in cont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Actuator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Le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ward step 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n degree turns TL, T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Goal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our ant smart enough 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 out of a ma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trategy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keep right antenna on w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RoboAnt adapted from MIT 6.004 2002 OpenCourseWare by Ward and Terma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419720" y="2514600"/>
            <a:ext cx="990360" cy="11271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5638680" y="3581280"/>
            <a:ext cx="2065320" cy="20415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4345200" y="220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183640" y="22096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0: CAMs, ROMs, and PL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A8E63A-B180-4CB2-93B6-8AC7A7716AC2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ost in spac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on: go forward until we hit some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581280" y="1752480"/>
            <a:ext cx="1393920" cy="12574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609480" y="4343400"/>
            <a:ext cx="1997280" cy="1447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0: CAMs, ROMs, and PL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274D3A-CEF7-4BA8-9BBB-CD62352F56B9}" type="slidenum">
              <a:t>17</a:t>
            </a:fld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onk!!!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on: turn left (rotate counterclockwi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til we don’t touch anym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828800" y="1676520"/>
            <a:ext cx="5334120" cy="13492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838080" y="4114800"/>
            <a:ext cx="3063960" cy="1913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0: CAMs, ROMs, and PL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CBBE9-2C17-4F28-8889-E683C0CFA0C6}" type="slidenum">
              <a:t>18</a:t>
            </a:fld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A little to the righ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on: step forward and turn right a lit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ing for w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743200" y="1447920"/>
            <a:ext cx="1152360" cy="14634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685800" y="3733920"/>
            <a:ext cx="3048120" cy="2224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0: CAMs, ROMs, and PL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12B4FB-BA6E-46FB-B780-00AFAD89A083}" type="slidenum">
              <a:t>19</a:t>
            </a:fld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-Addressable Mem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-Only Mem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mable Logic Arr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0: CAMs, ROMs, and PL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76C1A2-F3A2-4C9A-93F0-1505BC51CFD9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hen a little to the lef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on: step and turn left a little, until not touc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124080" y="1600200"/>
            <a:ext cx="1006560" cy="15159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685800" y="3733920"/>
            <a:ext cx="4114800" cy="2307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0: CAMs, ROMs, and PL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3A1E31-B3EF-4F45-9019-092B5698177F}" type="slidenum">
              <a:t>20</a:t>
            </a:fld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Whoops – a corner!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on: step and turn right until hitting next w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905120" y="1600200"/>
            <a:ext cx="4457520" cy="1654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62120" y="3657600"/>
            <a:ext cx="4038480" cy="2398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0: CAMs, ROMs, and PL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44BE92-0451-4EDD-89F0-34668E5584DB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implific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rge equivalent states where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09480" y="2590920"/>
            <a:ext cx="3429000" cy="20365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4952880" y="2514600"/>
            <a:ext cx="3429000" cy="24177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114800" y="3505320"/>
            <a:ext cx="609480" cy="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0: CAMs, ROMs, and PL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E528EE-3ADF-4191-8929-0A1E7E20CDFF}" type="slidenum">
              <a:t>22</a:t>
            </a:fld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tate Transition Tabl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981080" y="1752480"/>
          <a:ext cx="5029200" cy="4095720"/>
        </p:xfrm>
        <a:graphic>
          <a:graphicData uri="http://schemas.openxmlformats.org/drawingml/2006/table">
            <a:tbl>
              <a:tblPr/>
              <a:tblGrid>
                <a:gridCol w="719280"/>
                <a:gridCol w="717480"/>
                <a:gridCol w="719280"/>
                <a:gridCol w="717480"/>
                <a:gridCol w="719280"/>
                <a:gridCol w="717480"/>
                <a:gridCol w="718920"/>
              </a:tblGrid>
              <a:tr h="38376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: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:0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8" name=""/>
          <p:cNvSpPr/>
          <p:nvPr/>
        </p:nvSpPr>
        <p:spPr>
          <a:xfrm flipH="1">
            <a:off x="1676160" y="2133720"/>
            <a:ext cx="228600" cy="4572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76520" y="2590920"/>
            <a:ext cx="228600" cy="4572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1676160" y="3200400"/>
            <a:ext cx="228600" cy="4572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676520" y="3657600"/>
            <a:ext cx="228600" cy="4572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1676160" y="4876920"/>
            <a:ext cx="228600" cy="4572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76520" y="5334120"/>
            <a:ext cx="228600" cy="4572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1676160" y="4191120"/>
            <a:ext cx="228600" cy="2286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76520" y="4419720"/>
            <a:ext cx="228600" cy="3045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39880" y="236232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36400" y="3429000"/>
            <a:ext cx="112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CC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89040" y="4191120"/>
            <a:ext cx="9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ll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89040" y="5105520"/>
            <a:ext cx="9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ll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0: CAMs, ROMs, and PL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969E35-EE1E-4C35-A153-DC3256C0DE17}" type="slidenum">
              <a:t>23</a:t>
            </a:fld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OM Implement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6-word x 5 bit R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4495680" y="1600200"/>
          <a:ext cx="4114800" cy="131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1600200"/>
                    <a:ext cx="41148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" name=""/>
          <p:cNvGraphicFramePr/>
          <p:nvPr/>
        </p:nvGraphicFramePr>
        <p:xfrm>
          <a:off x="1295280" y="1905120"/>
          <a:ext cx="2408400" cy="4190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5280" y="1905120"/>
                    <a:ext cx="2408400" cy="41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0: CAMs, ROMs, and PL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53EC9C-BF12-4BB7-AAF8-29A362786E76}" type="slidenum">
              <a:t>24</a:t>
            </a:fld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OM Implement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6-word x 5 bit R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4495680" y="1600200"/>
          <a:ext cx="4114800" cy="131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1600200"/>
                    <a:ext cx="41148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1295280" y="1905120"/>
          <a:ext cx="2408400" cy="4190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5280" y="1905120"/>
                    <a:ext cx="2408400" cy="41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0: CAMs, ROMs, and PL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289AC1-3A73-4574-B22C-9E41D6012B43}" type="slidenum">
              <a:t>25</a:t>
            </a:fld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LA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ogrammable Logic Arra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erforms any function in sum-of-products 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itera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inputs &amp; comp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oducts / Minterm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AND of liter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utpu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OR of Minte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Full Ad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6380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990720" y="4648320"/>
          <a:ext cx="3962160" cy="112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4648320"/>
                    <a:ext cx="3962160" cy="112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7" name=""/>
          <p:cNvGraphicFramePr/>
          <p:nvPr/>
        </p:nvGraphicFramePr>
        <p:xfrm>
          <a:off x="5257800" y="3048120"/>
          <a:ext cx="3137040" cy="3095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3048120"/>
                    <a:ext cx="3137040" cy="30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0: CAMs, ROMs, and PL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6FAEFB-0979-41C8-BEDA-F2356443C2B4}" type="slidenum">
              <a:t>26</a:t>
            </a:fld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OR-NOR PLA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s and ORs are not very efficient in C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 or Pseudo-nMOS NORs are very effic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DeMorgan’s Law to convert to all N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1066680" y="2895480"/>
          <a:ext cx="2955960" cy="308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895480"/>
                    <a:ext cx="2955960" cy="30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"/>
          <p:cNvGraphicFramePr/>
          <p:nvPr/>
        </p:nvGraphicFramePr>
        <p:xfrm>
          <a:off x="4648320" y="2895480"/>
          <a:ext cx="3070080" cy="308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2895480"/>
                    <a:ext cx="3070080" cy="30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0: CAMs, ROMs, and PL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700429-845A-40FD-87BB-7468FE9B98C4}" type="slidenum">
              <a:t>27</a:t>
            </a:fld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LA Schematic &amp; Layou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685800" y="1676520"/>
          <a:ext cx="4135320" cy="426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413532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8" name=""/>
          <p:cNvSpPr/>
          <p:nvPr/>
        </p:nvSpPr>
        <p:spPr>
          <a:xfrm>
            <a:off x="3559320" y="203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5105520" y="1600200"/>
          <a:ext cx="3268440" cy="4495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05520" y="1600200"/>
                    <a:ext cx="326844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0: CAMs, ROMs, and PL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96733C-9B01-4ADA-9E6A-28D1725D15D8}" type="slidenum">
              <a:t>28</a:t>
            </a:fld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LAs vs. ROM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R plane of the PLA is like the ROM arr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D plane of the PLA is like the ROM deco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s are more flexible than RO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ed to have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ws for n in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generate the minterms that are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e advantage of logic simpl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0: CAMs, ROMs, and PL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95EE46-879A-4331-913F-F534277C7F88}" type="slidenum">
              <a:t>29</a:t>
            </a:fld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AM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sion of ordinary memory (e.g. SRA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and write memory as us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atc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see which words contain 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1828800" y="3048120"/>
          <a:ext cx="5105520" cy="266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3048120"/>
                    <a:ext cx="5105520" cy="266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0: CAMs, ROMs, and PL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CFB642-806E-4F0F-AE41-EE312C58EFCE}" type="slidenum">
              <a:t>3</a:t>
            </a:fld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: RoboAnt PLA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t state transition table to logic equ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762120" y="1905120"/>
          <a:ext cx="4572000" cy="4095720"/>
        </p:xfrm>
        <a:graphic>
          <a:graphicData uri="http://schemas.openxmlformats.org/drawingml/2006/table">
            <a:tbl>
              <a:tblPr/>
              <a:tblGrid>
                <a:gridCol w="653760"/>
                <a:gridCol w="652680"/>
                <a:gridCol w="654120"/>
                <a:gridCol w="650880"/>
                <a:gridCol w="653760"/>
                <a:gridCol w="652680"/>
                <a:gridCol w="654120"/>
              </a:tblGrid>
              <a:tr h="38376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: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:0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5943600" y="2057400"/>
            <a:ext cx="1828800" cy="14684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5943600" y="3733920"/>
            <a:ext cx="1752480" cy="1433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8" name=""/>
          <p:cNvGraphicFramePr/>
          <p:nvPr/>
        </p:nvGraphicFramePr>
        <p:xfrm>
          <a:off x="5943600" y="5181480"/>
          <a:ext cx="898560" cy="914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43600" y="5181480"/>
                    <a:ext cx="89856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0: CAMs, ROMs, and PL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5E15AE-5B88-4620-8406-0C85ED0F48D6}" type="slidenum">
              <a:t>30</a:t>
            </a:fld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0" name=""/>
          <p:cNvGraphicFramePr/>
          <p:nvPr/>
        </p:nvGraphicFramePr>
        <p:xfrm>
          <a:off x="3048120" y="1676520"/>
          <a:ext cx="5257800" cy="427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1676520"/>
                    <a:ext cx="5257800" cy="42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oboAnt Dot Diagram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3048120" y="1676520"/>
          <a:ext cx="5257800" cy="427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8120" y="1676520"/>
                    <a:ext cx="5257800" cy="42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5" name=""/>
          <p:cNvGraphicFramePr/>
          <p:nvPr/>
        </p:nvGraphicFramePr>
        <p:xfrm>
          <a:off x="762120" y="2286000"/>
          <a:ext cx="1844640" cy="1560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120" y="2286000"/>
                    <a:ext cx="1844640" cy="15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0: CAMs, ROMs, and PL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87796D-2360-4DEC-BF6E-AABC9042E92E}" type="slidenum">
              <a:t>31</a:t>
            </a:fld>
          </a:p>
        </p:txBody>
      </p:sp>
    </p:spTree>
  </p:cSld>
  <p:transition>
    <p:zoom dir="ou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10T CAM Cell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four match transistors to 6T S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6 x 43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nit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990720" y="2743200"/>
          <a:ext cx="2867040" cy="289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743200"/>
                    <a:ext cx="2867040" cy="28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4191120" y="2819520"/>
          <a:ext cx="3733560" cy="2855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91120" y="2819520"/>
                    <a:ext cx="3733560" cy="285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0: CAMs, ROMs, and PL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B12A8E-9972-488E-876D-A93CAC909D8F}" type="slidenum">
              <a:t>4</a:t>
            </a:fld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AM Cell Oper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and write like ordinary S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match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ve wordline 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charge match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ce key on bit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chlines evalu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ss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seudo-nMOS NOR of match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es high if no words ma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648320" y="1905120"/>
          <a:ext cx="3886200" cy="268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905120"/>
                    <a:ext cx="3886200" cy="268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0: CAMs, ROMs, and PL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BADEBD-41B7-4534-89E7-9CDDB65E95DD}" type="slidenum">
              <a:t>5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ead-Only Memori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-Only Memories are nonvolat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ain their contents when power is remo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k-programmed ROMs use one transistor per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ce or absence determines 1 or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0: CAMs, ROMs, and PL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53E5C-F05E-4644-86F5-28B0E354A3B8}" type="slidenum">
              <a:t>6</a:t>
            </a:fld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OM Exampl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-word x 6-bit R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resented with dot dia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ts indicate 1’s in R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95880" y="1600200"/>
            <a:ext cx="2286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ord 0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101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ord 1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110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ord 2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001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ord 3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010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990720" y="2819520"/>
          <a:ext cx="4343400" cy="300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4343400" cy="300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5486400" y="3657600"/>
          <a:ext cx="2743200" cy="1976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86400" y="3657600"/>
                    <a:ext cx="2743200" cy="19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"/>
          <p:cNvSpPr/>
          <p:nvPr/>
        </p:nvSpPr>
        <p:spPr>
          <a:xfrm>
            <a:off x="1071360" y="5715000"/>
            <a:ext cx="436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oks like 6 4-input pseudo-nMOS N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0: CAMs, ROMs, and PL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6F6FDD-999A-4027-A2D3-FDF30B2224A9}" type="slidenum">
              <a:t>7</a:t>
            </a:fld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OM Array Layou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 cell is 12 x 8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bout 1/10 size of SRA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1447920" y="2286000"/>
          <a:ext cx="5790960" cy="369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2286000"/>
                    <a:ext cx="5790960" cy="369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0: CAMs, ROMs, and PL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755D1-14BC-4766-A190-168DA7A81D2B}" type="slidenum">
              <a:t>8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ow Decoder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M row decoders must pitch-match with R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a single track per wor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367000" y="225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990720" y="2362320"/>
            <a:ext cx="6933960" cy="3687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0: CAMs, ROMs, and PL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776BD8-1D1F-44D9-88E0-927345280CA5}" type="slidenum">
              <a:t>9</a:t>
            </a:fld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03:13:39Z</dcterms:created>
  <dc:creator>David Harris</dc:creator>
  <dc:description/>
  <dc:language>en-US</dc:language>
  <cp:lastModifiedBy>Harris</cp:lastModifiedBy>
  <dcterms:modified xsi:type="dcterms:W3CDTF">2010-04-17T03:36:16Z</dcterms:modified>
  <cp:revision>1567</cp:revision>
  <dc:subject/>
  <dc:title>PowerPoint Presentation</dc:title>
</cp:coreProperties>
</file>