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11.wmf" ContentType="image/x-wmf"/>
  <Override PartName="/ppt/media/image16.wmf" ContentType="image/x-wmf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17.wmf" ContentType="image/x-wmf"/>
  <Override PartName="/ppt/media/image9.png" ContentType="image/png"/>
  <Override PartName="/ppt/media/image30.jpeg" ContentType="image/jpeg"/>
  <Override PartName="/ppt/media/image10.png" ContentType="image/png"/>
  <Override PartName="/ppt/media/image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14.wmf" ContentType="image/x-wmf"/>
  <Override PartName="/ppt/media/image29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D5EE-0316-48D5-B255-CC994E349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C956-5DEA-4041-BDF0-609FEB21A2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C67D-99F9-4112-A62E-71755A61DF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CE33-440D-4204-8468-3B17A17B6A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A130-2513-4C4B-8ACD-4EB634BA99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FE91-5CC4-481E-AC80-6BAC06A64B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2734-B972-40BB-9898-8F213999F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E603-2EFD-477B-81CC-B7FB159FD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7EF9-4CC5-4FF4-8A25-25D7D723C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3E45-C35C-403D-8F18-D21B4B6E9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680A-4933-4458-8285-A30AEE82E8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558D-9859-435D-A3B4-391AB3DF0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CF2B-3BA6-405E-9267-BB26C5C05E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7EAB-9278-4DC6-994C-746F92E4FC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210E-0540-48C3-8346-380A91594A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63F3-B237-4A83-A994-8D66A9505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C747-D938-4B84-9BB7-1C41E9FF0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D38B-91C6-4AF2-97E6-379975415B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CC0C-168B-48F4-806F-6816EDEFE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58FA-CFB9-455D-B4DB-0CB252542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5113-7625-4E80-8008-C96360B558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0B330-51F9-4D2F-8DD5-5ED12FBCF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4C56-DE9D-4757-B58F-D1259BFFB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6E89-F4F1-4489-949E-325CD0DFC9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A6DA-1521-4ABF-AD00-3A366F416E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D9F5-7C2F-458E-A044-9C18404BDF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CC2-F8EA-4C8C-BDF9-78C7090827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816C-01C4-47DF-9ED1-9209477FC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93C8-4D2D-40BE-A1DF-906B2FBA3B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9935-2063-44D6-81A7-B7D684FFD8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E341-6658-4D3C-9AEB-9AAF5925E5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1F2E-58B4-478D-93C1-656847B3B2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6CCF-5E23-4191-9E42-13F767BD0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0077-9DE2-4028-8D51-C9C2C96C3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AAB6-0755-4CF2-8669-B277C3819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A00-F9D3-4B07-B064-ABDF7FCE7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6FFC-8C7F-4089-A2F6-92F5076760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466C-F358-4EC2-92D4-A8DDDC6911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6D20-68B2-49A4-A4BC-8DB0069D82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133-44C4-473D-804D-526859BE8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2B74-F017-42BC-A9DA-9C081AD2C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D24D7-D391-4A60-AD20-4AAAD10D9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A31E-230F-4D35-A19C-6269AD6EB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364D-A784-4B7E-86CB-E982E2234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D56AD-C95B-4B38-B250-4CDE7C9159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D09A2-9E19-41AD-8843-AF0BCA2DA4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39D7-AD25-412F-8AAF-55E6BECF0F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17BC-BEB5-44E3-B606-9D617395AC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02D4-48E7-4E48-A8FF-D66994596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B102-A01F-46BC-8D96-F0AAAE3C9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1231-A4F3-44C6-AFC9-AC3F02060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9696-A485-4378-AA86-1851E2171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0C86-C7CD-4995-A2C1-C6BAE69DA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8A3-F833-4CF6-A6A5-BCF4B02B7CA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D5AE-C171-4358-B5BE-D372A749CE9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9448-8BCF-4E19-88DA-4B2E3A1893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959D-C64D-4EA6-972D-E64F4C8D66A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8326-AEDC-4004-A35D-F0D4792B4B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FF0C-2E0D-4ED9-87C6-6FDF03B503A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E107-6232-4445-BFCE-52189E4325A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0153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913A-5CF8-4A7D-97C7-B3CC3E2797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F8ED-06BF-4AF3-8B6D-D8D4EDF9A0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38BF-16DE-4625-A067-91D03A108B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0156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5C04-D657-4560-8B9D-B57E45E4118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6F49-800C-46EE-9F7B-5C1542BC3C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5FAB-8E5C-46A6-9EDE-1F83CEA1B7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C7F4-6B26-486C-9A4E-736F3488A7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EB24-A304-437F-A889-62B0550AE0B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099D-049E-4954-B52F-E3EAD12164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5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8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29CA-5C7A-4026-90ED-A9553C87F4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FCEE-B105-43B7-A64B-94AF92F6119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5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DFE3-572F-4D31-90FE-74E702CA6F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61F2-03E1-45A2-A413-459DBB9F230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8803-440F-4795-A410-098ABBCF6D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C7F1-EBD7-4748-B0CF-E7D3A9ED79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8E2D-766B-4E0A-9893-CD7985C6387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215D-9575-4D28-9496-01B91BDA4A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layouts.tif"/>
          <p:cNvPicPr/>
          <p:nvPr/>
        </p:nvPicPr>
        <p:blipFill>
          <a:blip r:embed="rId1"/>
          <a:stretch/>
        </p:blipFill>
        <p:spPr>
          <a:xfrm>
            <a:off x="4495680" y="1523880"/>
            <a:ext cx="3657600" cy="44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C2B1-47DF-4856-A457-1E1240240B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B856-024D-4B00-AB71-2CE4BA051E4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386C-0033-45AC-B312-3F2C7650D1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E6C7-1D76-4554-AE2D-BB2966500D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05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BE73-1F72-42FA-BC5A-D9153F3EF9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C0E0-8D00-46E4-8874-DF4B727E13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62CF-82A1-4259-B850-7213DE677F3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249" name="Line 6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”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4E0172-50xchip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0CEB-B36A-42D0-81F8-76DDDDFC72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F259-3ECF-44F9-8E88-2D3E6E1E885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EA37-EB90-480C-9738-646DF557B5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48DA-92CD-46C9-8DBA-99139F9BE0E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mipsr3000dielarge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C811-22A4-452D-9C98-9B5BD3F740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93B6-056E-4D9C-9E0F-AC236BB7682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’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9A4D-0DA3-4748-B233-8BCDF58D93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4D49-B808-45E0-9DD2-8BCF424244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’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8AFD-92FC-433B-8C30-490050E19A9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181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Prof. David Money Harris</cp:lastModifiedBy>
  <dcterms:modified xsi:type="dcterms:W3CDTF">2011-01-26T22:24:33Z</dcterms:modified>
  <cp:revision>476</cp:revision>
  <dc:subject/>
  <dc:title>PowerPoint Presentation</dc:title>
</cp:coreProperties>
</file>