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15.wmf" ContentType="image/x-wmf"/>
  <Override PartName="/ppt/media/image7.png" ContentType="image/png"/>
  <Override PartName="/ppt/media/image6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13.png" ContentType="image/png"/>
  <Override PartName="/ppt/media/image17.wmf" ContentType="image/x-wmf"/>
  <Override PartName="/ppt/media/image9.png" ContentType="image/png"/>
  <Override PartName="/ppt/media/image30.jpeg" ContentType="image/jpeg"/>
  <Override PartName="/ppt/media/image10.png" ContentType="image/png"/>
  <Override PartName="/ppt/media/image5.png" ContentType="image/png"/>
  <Override PartName="/ppt/media/image3.wmf" ContentType="image/x-wmf"/>
  <Override PartName="/ppt/media/image26.wmf" ContentType="image/x-wmf"/>
  <Override PartName="/ppt/media/image1.png" ContentType="image/png"/>
  <Override PartName="/ppt/media/image14.wmf" ContentType="image/x-wmf"/>
  <Override PartName="/ppt/media/image29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22.wmf" ContentType="image/x-wmf"/>
  <Override PartName="/ppt/media/image28.jpeg" ContentType="image/jpeg"/>
  <Override PartName="/ppt/media/image23.wmf" ContentType="image/x-wmf"/>
  <Override PartName="/ppt/media/image2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3FA7-F3F9-46BD-B578-5F97CD251E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8597-0537-4AAA-8271-1EFDF84910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2F63-8DF8-4FAB-9CB5-E83A5AADCA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7281-3A87-42DB-B963-B4E19AF220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9146-DBEC-4B4B-8AC9-1D8926CF72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3357-7ACC-4973-8202-83DC02D088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3930-8732-403F-B64E-9E5E2A1FF1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5B78-D067-4002-8DC4-1D184C9DBA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B9C6-0B5E-40EF-88B0-2E4104B52D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32A9-3232-4489-B1CF-4462C18619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0615-5B88-4A12-BCEF-7D893AE9ED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217C-4A53-4288-8AEC-8BCF3379D1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209B-9EB9-468A-90C1-60415F4865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5D6D-D46E-4552-9047-6DCFEE4361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F09B-112E-48A7-A841-7C54E5C5B7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6913-4579-4CEA-BA82-9905A03F7F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B829-FB88-414B-94DB-B4B810F6D7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F3B5-216E-480D-9E91-F03CDAC96D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4698-1D76-4721-95B0-8FA62E2027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FAE8-7A11-4390-B235-A992EC0754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5E2D-648A-4830-8A94-B3A6932D99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DA8F-4FED-40EC-9A05-286C2B1222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C943-8B63-4384-84EE-3FF855EEA5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A74D-59AE-41BD-900A-CA88395E44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A3BE-37D1-42DF-9F73-69A9EAC904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1B77-44C2-468A-9A33-DF86E333DB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E9E0-32C2-4B19-8EB4-ED6BAF7D8A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2E4D-675D-4220-BCE9-3E453BB618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D13C-86B0-4898-A3B4-709A789C02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B550-6C3D-4A9B-968B-5F74209368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F4E9-069F-4C9D-807E-FDBCDDA203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AA57-D28E-49D7-90D6-1FB07EA741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2E57-524D-46DD-960E-59852E41D3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E6BA-9247-438F-A133-6DB74B6844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A0E3-4242-447D-AB95-A80C372260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1AEB-2C38-4C06-B876-2EDF146E8E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FC0A-200C-465A-9F1B-EE607164A6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6AC9-9190-470C-B5A5-5D0B5B1105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7BF5-4D2E-4ADE-B74B-F91C45D465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3B11-B248-4059-B825-AE0DBBF456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54BB-B6DB-4333-AC8A-E4E57B688B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174CD-54E2-45E3-9A87-6F834D2B7A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7332E-09E1-4EF1-B8C2-0934B4DF7C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F9DDE-2AE6-4145-8B6B-5481001647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4B257-3A19-4E9F-AEB7-F94F70264F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6917C-F50E-4207-AF35-9690BEF2C8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070E7-6109-4B81-93EF-C3968B307B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4AA5C-52AD-4D79-ABCA-F77BF41C05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1A48A-71A9-4C29-8083-2E9241E98F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2C32D-CF55-43A2-B6EE-870E903E2B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9426F-BF92-4D9D-BFBE-18500A4F2F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23B02-5B8E-4BDF-BEB8-05F0029EF6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21A64-5662-4283-A3CD-635C9B337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1A33-80F5-41C7-9FED-89F3B185BE1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2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cessor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4FEF-DE9A-440A-832E-F8ABF209A09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struction En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bit instruction 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four cycles to fetch on 8-bit data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03832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762120" y="2819520"/>
          <a:ext cx="7619760" cy="22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19520"/>
                    <a:ext cx="7619760" cy="22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AC26-B0D0-4571-848B-05BFEEDB240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C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;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1, 1, 2, 3, 5, 8, 13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7543800" cy="3224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F786-E136-47FF-AC51-9EEAFC742E7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Assembly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ment: n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translate this to assemb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7772400" cy="349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5EA2-F3FC-403D-85D3-D4194E7AF31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Binary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ment: addi $3, $0,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translate this to machine langu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t: use instruction encodings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6"/>
          <p:cNvGraphicFramePr/>
          <p:nvPr/>
        </p:nvGraphicFramePr>
        <p:xfrm>
          <a:off x="1523880" y="4038480"/>
          <a:ext cx="5562720" cy="16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038480"/>
                    <a:ext cx="556272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F9F6-8589-4DFE-8555-2A7B67E9F47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Binary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languag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96080" cy="2541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A5E4-5223-4DB7-8B1A-2A0307BFDAA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Microarchitectu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yc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 ( [Paterson04], [Harris07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828800" y="190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6" descr="0153"/>
          <p:cNvPicPr/>
          <p:nvPr/>
        </p:nvPicPr>
        <p:blipFill>
          <a:blip r:embed="rId1"/>
          <a:stretch/>
        </p:blipFill>
        <p:spPr>
          <a:xfrm>
            <a:off x="685800" y="2133720"/>
            <a:ext cx="7848720" cy="3821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D757-AE6A-455D-99D6-A0C9C69AB5B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cycle Controll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833480" y="87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2057400" y="1523880"/>
          <a:ext cx="4800600" cy="448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523880"/>
                    <a:ext cx="4800600" cy="44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3BFC-42B9-40C7-B1F2-89640A5089A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t top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ly decompose MIPS into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-level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265572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685800" y="3124080"/>
          <a:ext cx="7543800" cy="21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124080"/>
                    <a:ext cx="754380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F95F-A439-493C-B8EC-8D373E70D7D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ck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230508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0" descr="0156"/>
          <p:cNvPicPr/>
          <p:nvPr/>
        </p:nvPicPr>
        <p:blipFill>
          <a:blip r:embed="rId1"/>
          <a:stretch/>
        </p:blipFill>
        <p:spPr>
          <a:xfrm>
            <a:off x="1219320" y="1600200"/>
            <a:ext cx="6324480" cy="4441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58FB-678E-4382-98FF-37F675FB863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ierarchical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4" name="Object 3"/>
          <p:cNvGraphicFramePr/>
          <p:nvPr/>
        </p:nvGraphicFramePr>
        <p:xfrm>
          <a:off x="1562040" y="1523880"/>
          <a:ext cx="60181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523880"/>
                    <a:ext cx="6018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3CF7-7129-4884-98ED-DD24FAAA026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Part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S Processor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, Packaging,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702D-D30A-4E54-A20F-75F564BB768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D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used in logic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log and VH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ardware using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log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logic before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e code into gates and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a library of 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B56C-564D-4E5B-8C4E-59ECA7FD20F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erilog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fulladd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, c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1(a, b, c, 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r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1(a, b, c, c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ry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 = (a&amp;b) | (a&amp;c) | (b&amp;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230640" y="26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5943600" y="1676520"/>
          <a:ext cx="2682720" cy="15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676520"/>
                    <a:ext cx="268272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A2AB-E52D-4336-8C52-4462C36863E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uit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logic be implemen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Ds and NORs vs. ANDs and 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-in and fan-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de should transistors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hoices affect speed, area,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synthesis makes these choices for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enough for many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-crafted circuits are still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D37A-929E-4570-AAFE-DD93EFB582A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Carry Logic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 = (a&amp;b) | (a&amp;c) | (b&amp;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6"/>
          <p:cNvGraphicFramePr/>
          <p:nvPr/>
        </p:nvGraphicFramePr>
        <p:xfrm>
          <a:off x="914400" y="2362320"/>
          <a:ext cx="3200400" cy="23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3200400" cy="23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5"/>
          <p:cNvSpPr/>
          <p:nvPr/>
        </p:nvSpPr>
        <p:spPr>
          <a:xfrm>
            <a:off x="2209680" y="5486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?  Gate Dela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8"/>
          <p:cNvGraphicFramePr/>
          <p:nvPr/>
        </p:nvGraphicFramePr>
        <p:xfrm>
          <a:off x="4267080" y="2819520"/>
          <a:ext cx="4343400" cy="189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2819520"/>
                    <a:ext cx="434340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9D87-025A-441C-B3DD-ED3F45CBD11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-level Netl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85800" y="16002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ry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r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, y, z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1(x, a, 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2(y, a, 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3(z, b, 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g4(cout, x, y, z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5791320" y="2362320"/>
          <a:ext cx="2743200" cy="20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362320"/>
                    <a:ext cx="2743200" cy="20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48CA-8A66-4A50-9EE3-AC2EA781431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-Level Netl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4800600" y="3048120"/>
          <a:ext cx="3809880" cy="166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3048120"/>
                    <a:ext cx="3809880" cy="16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5"/>
          <p:cNvSpPr/>
          <p:nvPr/>
        </p:nvSpPr>
        <p:spPr>
          <a:xfrm>
            <a:off x="685800" y="1523880"/>
            <a:ext cx="5715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ry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i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i1, i2, i3, i4, c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1(i1, 0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2(i1, 0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3(cn, i1, 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4(i2, 0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5(cn, i2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1(i3, 1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2(i3, 1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3(cn, i3, 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4(i4, 1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5(cn, i4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6(cout, 0, c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6(cout, 1, c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6BC4-740E-4458-80A2-8DC45C68EFE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PICE Netl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BCK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ARRY A B C COUT VDD G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1 I1 A GND GND NMOS W=1U L=0.18U AD=0.3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2 I1 B GND GND NMOS W=1U L=0.18U AD=0.3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3 CN C I1 GND NMOS W=1U L=0.18U AD=0.5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4 I2 B GND GND NMOS W=1U L=0.18U AD=0.15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5 CN A I2 GND NMOS W=1U L=0.18U AD=0.5P AS=0.1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1 I3 A VDD VDD PMOS W=2U L=0.18U AD=0.6P AS=1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2 I3 B VDD VDD PMOS W=2U L=0.18U AD=0.6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3 CN C I3 VDD PMOS W=2U L=0.18U AD=1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4 I4 B VDD VDD PMOS W=2U L=0.18U AD=0.3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5 CN A I4 VDD PMOS W=2U L=0.18U AD=1P AS=0.3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6 COUT CN GND GND NMOS W=2U L=0.18U AD=1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6 COUT CN VDD VDD PMOS W=4U L=0.18U AD=2P AS=2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1 I1 GND 2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3 I3 GND 3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 A GND 4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B B GND 4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C C GND 2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CN CN GND 4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COUT COUT GND 2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C3E9-73C5-4907-88D2-60218ED37D1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hysical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or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&amp;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ce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EAE3-FD0D-4F71-AB64-FA341CF2F05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Floorpla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1"/>
          <a:stretch/>
        </p:blipFill>
        <p:spPr>
          <a:xfrm>
            <a:off x="2311560" y="1546200"/>
            <a:ext cx="4519440" cy="4525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78BB-52A4-4323-B174-7AF75551993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646880" cy="4641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347C-D355-4042-A188-D2B266CCEE0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ctivity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stick diagram for a 4-input NOR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29192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5"/>
          <p:cNvGraphicFramePr/>
          <p:nvPr/>
        </p:nvGraphicFramePr>
        <p:xfrm>
          <a:off x="1676520" y="2057400"/>
          <a:ext cx="6248160" cy="39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624816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Rectangle 6"/>
          <p:cNvSpPr/>
          <p:nvPr/>
        </p:nvSpPr>
        <p:spPr>
          <a:xfrm>
            <a:off x="1752480" y="2057400"/>
            <a:ext cx="52578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5B73-C114-4FDF-9DD7-902FD85EE6A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ndard Cel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 cell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 well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1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ND r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2 Access to I/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 / substrate t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s reg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layouts.tif"/>
          <p:cNvPicPr/>
          <p:nvPr/>
        </p:nvPicPr>
        <p:blipFill>
          <a:blip r:embed="rId1"/>
          <a:stretch/>
        </p:blipFill>
        <p:spPr>
          <a:xfrm>
            <a:off x="4495680" y="1523880"/>
            <a:ext cx="3657600" cy="4475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F19E-05AF-4907-A5C9-17ECED12528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ynthesized Controll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e HDL into gate-level net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&amp; Route using standard cell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772400" cy="16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EAD1-44D7-49D4-87FF-741C0E2531F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itch Match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ed controller area is mostly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is smaller if wires run through/ov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= faster, lower power as wel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snap-together cells for datapaths and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wires into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by abu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s 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lots of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375300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Object 4"/>
          <p:cNvGraphicFramePr/>
          <p:nvPr/>
        </p:nvGraphicFramePr>
        <p:xfrm>
          <a:off x="5105520" y="3352680"/>
          <a:ext cx="3047760" cy="26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352680"/>
                    <a:ext cx="304776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E518-E84A-4000-B309-3019AC73E77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Data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bit datapath built from 8 bitslices (regular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pper at top drives control signals to data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162560" cy="3610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3825-CF80-46F5-A2D2-F7793622BC8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lice Pla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ce plan for bits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ordering, dimensions, wiring tr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 cells for wiring 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053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7238880" cy="3164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43C6-B20A-494E-9DC4-1CA9EE670DE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ea Estim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rea estimates to make floor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to another block you already desig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stimate from transistor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room for large wiring tr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mileage may vary; derate by 2x for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1371600" y="3699000"/>
            <a:ext cx="6248520" cy="2396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C194-8D73-4C7F-BA46-B83480E354C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Verif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 is slow &amp;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IS 0.6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$1000, 3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nm: $3M, 1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ugging chips is very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visibility into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e design is right before build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kt. simulation / formal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 vs. schematic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&amp; electrical rule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tion is &gt; 50% of effort on most chi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6324480" y="1676520"/>
          <a:ext cx="231624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1676520"/>
                    <a:ext cx="231624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AA52-E5DD-4ED8-89BC-BC9A998FF0C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4" descr="1"/>
          <p:cNvPicPr/>
          <p:nvPr/>
        </p:nvPicPr>
        <p:blipFill>
          <a:blip r:embed="rId1"/>
          <a:stretch/>
        </p:blipFill>
        <p:spPr>
          <a:xfrm>
            <a:off x="2057400" y="4495680"/>
            <a:ext cx="4495680" cy="1424160"/>
          </a:xfrm>
          <a:prstGeom prst="rect">
            <a:avLst/>
          </a:prstGeom>
          <a:ln w="0">
            <a:noFill/>
          </a:ln>
        </p:spPr>
      </p:pic>
      <p:sp>
        <p:nvSpPr>
          <p:cNvPr id="249" name="Line 6"/>
          <p:cNvSpPr/>
          <p:nvPr/>
        </p:nvSpPr>
        <p:spPr>
          <a:xfrm flipV="1">
            <a:off x="4114800" y="1600200"/>
            <a:ext cx="1066680" cy="3276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7"/>
          <p:cNvSpPr/>
          <p:nvPr/>
        </p:nvSpPr>
        <p:spPr>
          <a:xfrm flipV="1">
            <a:off x="4419720" y="3809520"/>
            <a:ext cx="3733560" cy="1295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brication &amp; Packag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eout final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, 8, 12” wa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for throughpu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latency (10 weeks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 into individual d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d gold wires from die I/O pads to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4E0172-50xchip"/>
          <p:cNvPicPr/>
          <p:nvPr/>
        </p:nvPicPr>
        <p:blipFill>
          <a:blip r:embed="rId2"/>
          <a:stretch/>
        </p:blipFill>
        <p:spPr>
          <a:xfrm>
            <a:off x="5257800" y="1600200"/>
            <a:ext cx="2895480" cy="2171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E2ED-C12D-4D85-97C6-BA3B049A288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hat chip ope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dust particle or wafer defect kills a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s from 90% to &lt;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die size, maturity of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each part before shipping to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C08F-85F5-4D50-913F-4D5E0B8978E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ustom vs. Synthe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bit Implem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9" descr=""/>
          <p:cNvPicPr/>
          <p:nvPr/>
        </p:nvPicPr>
        <p:blipFill>
          <a:blip r:embed="rId1"/>
          <a:stretch/>
        </p:blipFill>
        <p:spPr>
          <a:xfrm>
            <a:off x="685800" y="2062080"/>
            <a:ext cx="4038480" cy="4033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1" descr=""/>
          <p:cNvPicPr/>
          <p:nvPr/>
        </p:nvPicPr>
        <p:blipFill>
          <a:blip r:embed="rId2"/>
          <a:stretch/>
        </p:blipFill>
        <p:spPr>
          <a:xfrm>
            <a:off x="4844880" y="2133720"/>
            <a:ext cx="3689640" cy="3697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1A1C-6C48-4A7D-96F1-5603D32499D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ping with Complex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esign System-on-Chi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millions (even billions!) of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s to hundreds of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Part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CE6A-6ABC-4C4C-BE3E-DF2C9CDA4E6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PS R3000 Process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bit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neration commercial processor (198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d by John Hennessy (Stanford, MIPS Foun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64 KB C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K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12-40 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6 m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5 I/O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Wat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GI Work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mipsr3000dielarge"/>
          <p:cNvPicPr/>
          <p:nvPr/>
        </p:nvPicPr>
        <p:blipFill>
          <a:blip r:embed="rId1"/>
          <a:stretch/>
        </p:blipFill>
        <p:spPr>
          <a:xfrm>
            <a:off x="4114800" y="2514600"/>
            <a:ext cx="3733920" cy="325764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6"/>
          <p:cNvSpPr/>
          <p:nvPr/>
        </p:nvSpPr>
        <p:spPr>
          <a:xfrm>
            <a:off x="4258440" y="5791320"/>
            <a:ext cx="3405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gecko54000.free.fr/?documentations=1988_MIPS_R3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845D-C1FF-46F6-B56A-9C65456508D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ructured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erarc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ivide and Con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ly system into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modules wherever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tandard cell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well-formed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modules to be treated as black 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nd temp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875F-68F5-4DF9-8A84-2C00D7B9995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Partition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User’s perspective, what does it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 set,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S, x86, Alpha, PIC, ARM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cycle, multcycle, pipelined, supersca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how are functional blocks constru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ple carry, carry lookahead, carry select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cu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how are transistors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CMOS, pass transistors, do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hip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s, memories, random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85BB-3C63-4248-8C7F-5FE062064AD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jski Y-Cha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116160" y="204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Object 4"/>
          <p:cNvGraphicFramePr/>
          <p:nvPr/>
        </p:nvGraphicFramePr>
        <p:xfrm>
          <a:off x="2057400" y="1447920"/>
          <a:ext cx="4876920" cy="46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447920"/>
                    <a:ext cx="487692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5397-B4CA-43A2-8021-D7D57511A6E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Architectu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ubset of MIPS processor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n from Patterson &amp; Hennes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S is a 32-bit architecture with 32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8-bit subset using 8-bit data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implement 8 registers ($0 - $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0 hardwired to 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bit program co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’ll build this processor in the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the key concepts in VLSI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AB03-783E-4094-8CB7-9D5DC843463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struction 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8" name="Picture 181" descr=""/>
          <p:cNvPicPr/>
          <p:nvPr/>
        </p:nvPicPr>
        <p:blipFill>
          <a:blip r:embed="rId1"/>
          <a:stretch/>
        </p:blipFill>
        <p:spPr>
          <a:xfrm>
            <a:off x="685800" y="181296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Prof. David Money Harris</cp:lastModifiedBy>
  <dcterms:modified xsi:type="dcterms:W3CDTF">2011-01-26T22:24:33Z</dcterms:modified>
  <cp:revision>476</cp:revision>
  <dc:subject/>
  <dc:title>PowerPoint Presentation</dc:title>
</cp:coreProperties>
</file>