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B6429-02A1-48F8-8881-FBD3F90A1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92F6-3A05-4D3A-93BA-791DFD189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7817-A70B-4472-986D-A976568A3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59F5D-9DAD-4034-8930-8329223EE4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E330-DF5E-4CB0-99F1-FEE27A707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58BB6-317A-4435-8638-9B7BE77A2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35AB6-998F-4F6F-8DDF-63358339F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000F-658A-483B-880E-0FC93EE5E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FB350-B8C7-4A43-9B11-0016B7DB6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46367-3901-4EE6-ACCE-EDE1238FA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3F87-8F19-45B2-AD1C-60087291A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62A9-AD7A-47C9-A0B2-E89CAFD9A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B8EF-A41A-4AC2-B64E-920980A0C4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53A9-91AE-4701-B166-9B9F9CEFC277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89F40-E084-49D9-86E2-74BE8AB9B8B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33282-4BBC-438B-A1AD-1BCF508C1EF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47DF-CDE8-45BC-B08C-A6F801B0CAB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042F-2243-41E9-92F6-4A01F1B2E27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7F631-04A2-43A2-BFAC-A9EAF5C00FF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9125-6D18-4CB1-AA41-654B407F736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17662-5A0C-4FB5-9A9E-86EFC00D64E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5804F-AB55-41F8-A2FD-8BCD749C636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B5065-4837-43CE-B450-CC43FD806B86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6E8F9-5847-43D6-93E1-3AA35FE53D5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E0205-6929-47F9-9FAC-7B2EAFF822B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0A79-22E0-4AC3-A962-6190508AEF1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F5A5-3C94-487E-8A82-864EBF03F69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103B-CBD3-4EF9-95AF-E1AD684962BC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41B8C-2688-4D94-A59F-5E270FDCEF4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7E18-37D1-4168-BB02-C832AEC13261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292A-E099-44C4-8C47-B5DEE3E1F69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6164-74EF-468C-8A4F-A388D892A18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F9FF3-C335-41CE-B994-1777D1C7852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852AB-645E-4981-9BAC-29A9AA6146D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FC1F-7441-4381-B4ED-EBCC20EF85C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C524-FA9F-44B4-9FEF-D404071BE914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3C765-8A83-4E23-A7E0-C0517E94622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96827-A844-4F90-BC46-BCA1FC6220E6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49962-4DB8-4B78-A3D6-61F139AB57A7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163B1-A7FA-4663-9A13-7A399BF147A3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5E4D0-6984-4DD4-AC2E-B66B26EB554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7DD4-C70A-47AF-86EA-F33CB8B5D46A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EC15-F2E7-4B48-8A75-55B6A8B85816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C409B-A5FF-43C1-B950-4FB6B3E45701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9FD21-ACF4-43AC-BF7E-884AF148F32A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93AAC-4AB2-49B1-82B3-6D4DE7A63E36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ADDDC-0E09-4BE6-87E6-1A85AC28A20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1B883-F67A-4F37-B79A-7FD74ABA3AF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1CEA-46A7-4E25-9688-173026E86D9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3D4A-99F8-4FC5-B838-FA0102631428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A1D0-E0C4-4141-A986-6F3F73ECB146}" type="slidenum">
              <a:t>8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B3780-84EC-42E4-906F-C7B99C5CCED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3T22:33:58Z</dcterms:modified>
  <cp:revision>1499</cp:revision>
  <dc:subject/>
  <dc:title>PowerPoint Presentation</dc:title>
</cp:coreProperties>
</file>