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50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FE004-9956-4689-BE7A-A011289C9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C96B-B8D3-44FC-9012-F443F0B23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FDF4-8FC5-4F13-ADB5-A8B2ADBEA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B07C-339D-44FE-A46F-CECC4BDA45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3725-6F83-4638-AF6D-E45E67760D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F6A8-993F-4D30-B7DC-F4D05140E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34F5-7D90-4036-A248-A2D0E1FC7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CFEC-3D10-409B-9766-5E877E212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C6122-3B2E-472C-83EB-AB52A1A03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4DC5-C40E-4224-8727-21577E12A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B325-9776-4017-BB21-7B33DCEBD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C2590-E820-4458-978D-3C25E7916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56EEB267-D27C-4D05-82B4-5D26F78E9C8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C153-3215-4267-8FB9-6D4F738D0BE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C540-F9D3-459F-945C-C5CA6ACBA2E6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89D3-3466-4065-9A44-ED805F24C85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120C6-C4FE-4610-A776-1CF62A858AB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81080" y="25146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04812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41148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5720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0384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4956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54864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7C2D-D8ED-4B8E-A8FD-B65F25E1B70F}" type="slidenum">
              <a:t>13</a:t>
            </a:fld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4295-0A2E-452A-B54F-7F621566F41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54476-3388-490B-9A33-B5A8A6A2437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23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7F20-1531-4651-A4AD-3DD45A85E9BC}" type="slidenum">
              <a:t>16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5B53-DA79-4577-BC51-6E8F82FE34D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D38E-005B-4AA4-B3B1-DEEC313FC37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28800" y="54864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346D-A8A6-4AB5-BE6B-0F5F010290F6}" type="slidenum">
              <a:t>19</a:t>
            </a:fld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E21F6-72E2-4A4E-B31A-10B6031A57D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81BE-E046-486C-B219-0A47C64AA1A7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1D6B-811E-42E4-B175-D500DEA8746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357C-A99C-42C9-91C0-6A4F0763817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D250-774A-42D7-9290-598B79184D8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F657-AB68-4A0F-A0AE-E8BBEDBC771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86000" y="533412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9E1D-754F-461F-8F3C-CFBADD17DF9E}" type="slidenum">
              <a:t>25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DC8A-D793-469A-9CA2-E608C85930F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6BB9-1441-4AD1-8088-BC4F5B1110C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A8B6-B6C3-441C-BD4F-D92A3C76648D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632A-22F3-464E-B46A-86046CCE240E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05740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6615-582F-48A2-A0B0-CB626E40608C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6EBA-8C5D-49A6-8B19-8FAED564875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99D3-5C96-4AEF-9FB9-15938FE80EA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24480" y="22096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36232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097D-FE26-454D-8F1C-F5BE2537DA76}" type="slidenum">
              <a:t>32</a:t>
            </a:fld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6DFC-E255-4504-8414-896DFCE6B028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34399-2B52-4526-B96F-D8004B261757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7EBF-82A4-453F-9EDE-0D0F3C75720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0B32-FB18-403B-A7AC-C37248D13029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A857-2B15-452E-A982-556A92B3D637}" type="slidenum">
              <a:t>37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erms of 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895480"/>
            <a:ext cx="7621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3733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648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85D9-9F09-4748-B57A-C63472517B42}" type="slidenum">
              <a:t>4</a:t>
            </a:fld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E845-A32D-4D66-B4E6-234473CA72D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B079-96CE-4AC8-B196-210DCE892BA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6050-C0F2-4964-B332-62DF76777B2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4DA6-C04E-4764-8BEF-579CFE14AB8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6F3F-0B9C-43FD-B46B-98A4F950424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56Z</dcterms:modified>
  <cp:revision>1404</cp:revision>
  <dc:subject/>
  <dc:title>PowerPoint Presentation</dc:title>
</cp:coreProperties>
</file>