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3EF5-DE64-4E9A-8EE0-8E9AAB2A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DC67F-2055-4870-851B-EB6E44B18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69C5-C5CF-4BC0-BA5F-A99212A2E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C5C9-328F-49EE-9573-B89404FCBC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5B294-060E-4621-8D27-64E2655B33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8645-ADE3-4689-A5D2-30E11C11C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DCAC-4ABF-498D-8393-979499338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95FC2-9628-4B59-A58B-EFE10421C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65265-9F74-46FF-9317-DF8814DBD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303F-41AA-4067-98F5-32779E559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2728-03A4-4847-990B-ED4988B2B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B68B5-2FA7-48BF-A090-36EA040FB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1B7D0FC-8CFD-4478-A8FD-C5C227D8850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3BC0-5622-457E-B923-F30DFBD3BD7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FAF3-369B-4DA5-A4EA-473B81D88B4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5862-3356-4756-A5BC-B89FF026AB0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5A65F-23AB-4451-B1D6-0F9A0533E95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BEE90-7C17-4021-9187-B37324B875A0}" type="slidenum">
              <a:t>13</a:t>
            </a:fld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D04F-5904-4AC0-8928-787F9790821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B7EA8-5460-4819-BA93-91B62233227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46D4-6F4E-4BE1-9E14-E9DA6D70DDBD}" type="slidenum">
              <a:t>16</a:t>
            </a:fld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842D5-5BAC-4C6F-9669-13190210A74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1C7F-F44D-4A46-A675-ADBC8FAE627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16FA1-5CEB-409A-87A8-10D6184C5628}" type="slidenum">
              <a:t>19</a:t>
            </a:fld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D1FDC-57CA-4172-BB76-A661FC6E66F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11DB1-66ED-4419-997C-F9E4C03A2F6C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64DC9-B5F2-4F39-9FFF-512EC0BC1766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19266-688B-4906-AAE2-52A40B39AAC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D469-49A7-4EBC-B75F-C6401921CB0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955E1-EFA6-45E7-8075-1286F1B5455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20C7-CA37-40EF-B757-514A77149D6E}" type="slidenum">
              <a:t>25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E714-4A7B-4521-8C38-3C0A14409F0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8CDC5-1BCD-4F16-8529-D67EEE7966C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4524C-57B2-4956-BF32-A4758B4C794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3580F-C483-47DE-B1CC-517A96182CA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2743200"/>
          <a:ext cx="2438280" cy="182556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181480" y="2743200"/>
          <a:ext cx="2819520" cy="328608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CE3D-D10D-461B-9898-6F2FFF5773C6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BBBB-F29F-479E-B2C1-69A233179F79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16DCB-EAFD-40DA-B7B5-0EE0E0CA4CB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AB70-D71F-40B6-9DDE-85324A55E66D}" type="slidenum">
              <a:t>32</a:t>
            </a:fld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337A7-0E76-4925-A654-62A645269E9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9275C-8F73-4E3D-89B0-919A4A40CCB2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1268-1B2B-4497-83B0-3B2919E6DFB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22D4-C86E-4EF7-98C7-3D5E709858DA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089CB-B7CB-4C04-99C1-23E41914D878}" type="slidenum">
              <a:t>37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8D07-B4A5-47C7-A10E-BC8195B87AD2}" type="slidenum">
              <a:t>4</a:t>
            </a:fld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5E88C-F1EF-4588-90BD-EEB0BE2E8BE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6ED32-EF8F-4AEF-8AF2-EFC6C3DAC32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A9E90-6380-446F-BD8A-15B03642BED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EDD9-0D88-4576-9063-09A54BA32BD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7: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9A55-12CB-4F71-8D4F-A3944A3A28A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56Z</dcterms:modified>
  <cp:revision>1404</cp:revision>
  <dc:subject/>
  <dc:title>PowerPoint Presentation</dc:title>
</cp:coreProperties>
</file>