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29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0.wmf" ContentType="image/x-wmf"/>
  <Override PartName="/ppt/media/image31.wmf" ContentType="image/x-wmf"/>
  <Override PartName="/ppt/media/image32.wmf" ContentType="image/x-wmf"/>
  <Override PartName="/ppt/media/image35.wmf" ContentType="image/x-wmf"/>
  <Override PartName="/ppt/media/image40.wmf" ContentType="image/x-wmf"/>
  <Override PartName="/ppt/media/image30.wmf" ContentType="image/x-wmf"/>
  <Override PartName="/ppt/media/image42.wmf" ContentType="image/x-wmf"/>
  <Override PartName="/ppt/media/image38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36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.jpeg" ContentType="image/jpeg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CDA86-FECB-4F7B-80F1-0DE8E85613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891AF-E4EA-40B7-96E9-1C84010CF2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54A68-704F-4BE9-A39A-AB0D8724BA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C4B93-24A3-4FA8-8CA2-17CA0468E1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B73FD-C5EA-4856-98CC-04FBB1B805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E0898-B013-414E-9355-E17CB06651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8282E-7F8F-402E-9659-8D9F71A0F2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206E7-E282-42CA-AFE5-B6DF410930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F4958-8ECB-4A3D-8D59-3582B68F68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D4E76-8EFD-4200-A019-100840D126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067F5-BC9B-4BBE-B7D9-A2EC2BE8AA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CBDD5-FB0C-47F0-8C1F-466E3F3E22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FE79-2331-4838-8D64-68293331159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6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ircuit Pitfal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98F2B-9E93-4C01-B842-EACC4B492161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nte Carlo Simul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process variation increases, the worst-case corners become too pessimistic for practic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e Carlo: repeated simulations with parameters randomly varied each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scatter plot of results to predict y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impact o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410080" y="3581280"/>
            <a:ext cx="2560680" cy="22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0A5FC-E11F-4A45-85B2-E339B7ACAC02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i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supply noise / ground bou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ive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feed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delay (for noise to settle 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incorrect compu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39B2A-50DC-4514-AA4F-1F90A1DC3D53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ide wear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onnect wear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voltag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zing 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 time between failures (MTB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of devices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ours of operation / number of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ures in time (F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of failures / thousand hours / million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038480" cy="221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3698F-85E0-4114-A00C-D16C20FDD018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elerated Lifetime Tes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ed reliability typically exceeds 1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products come to market in 1-2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lerated lifetime testing required to predict adequate long-term 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52480" y="3352680"/>
            <a:ext cx="3578400" cy="2676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951440" y="5791320"/>
            <a:ext cx="93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rnaud08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BBEE4-C9D5-42AC-9D9D-A94AB66392C5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ot Carri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fields across channel impart high energies to some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“hot” carriers may be blasted into the gate oxide where they become trap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mulation of charge in oxide causes shift i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ually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ifts too far for devices to operate cor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chieve reasonable product life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t problems for inverters and NORs with slow input risetime and long propagation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97C47-6F38-4CB9-A383-94C1C596DDAB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BT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gative bias temperature in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field applied across oxide forms dangling bonds called traps at Si-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mulation of traps cause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ronounced for pMOS transistors with strong negative bias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t high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95280" y="4191120"/>
            <a:ext cx="1828800" cy="741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600200" cy="30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DB324-91C8-4C5C-91D6-7FD6021A7FDE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DD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ime-dependent dielectric break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ual increase in gate leakage when an electric field is applied across an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ess-induced leakage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10-year life at 125 C, keep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low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 V/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08A36-8F81-4C17-AE99-A732282E318C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lectromig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wind” causes movement of metal atoms alo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ssive electromigration leads to open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significant for unidirectional (DC)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current density 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urrent / ar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 dependence on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’s Equ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limits: 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1 – 2 mA /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25960" y="315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114800" y="4137120"/>
          <a:ext cx="1676520" cy="104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4137120"/>
                    <a:ext cx="167652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324480" y="3992400"/>
            <a:ext cx="2340000" cy="1420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627240" y="544032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hristiansen0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A5498-2D2E-496D-AB5A-0B7478E4BD7F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migration Vide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333760" cy="400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EE4EA-0E3C-4693-8B70-4E0C621F5B88}" type="slidenum">
              <a:t>18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migration Video 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3BFBF-1DEF-43A6-9161-0F7B9AF2C77C}" type="slidenum">
              <a:t>19</a:t>
            </a:fld>
          </a:p>
        </p:txBody>
      </p:sp>
    </p:spTree>
  </p:cSld>
  <p:transition>
    <p:zoom dir="out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 Pitf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9A581-0D71-4016-8345-6FFAB13AAE4C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lf-Heat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through wire resistance generates 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ide surrounding wires is a thermal ins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tends to build up in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ter wires are more resistive,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heating limits AC current densities for 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limits: 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m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15 mA /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30560" y="307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371600" y="3809880"/>
          <a:ext cx="108252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809880"/>
                    <a:ext cx="10825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BC51F-7F0D-4187-AFE2-A37FA8019F20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vervoltage Fail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oltages can blow out tiny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static dischar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S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lovolts from static electricity when the package pins are hand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xide break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65 nm process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 V caus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rc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rough thin gate ox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nch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uses depletion region between source and drain to touch, leading to high current flow and destructive overhe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157F0-2A65-4273-A63E-14208AB99632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u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162920" y="4419720"/>
            <a:ext cx="1676160" cy="12556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chup: positive feedback leading t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GND sh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problem for 1970’s CMOS processes bef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as well underst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by minimizing resistance of body to GND /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lenty of substrate and well t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295280" y="3668760"/>
            <a:ext cx="5334120" cy="242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481C3-B9A6-4121-A5E5-A43023AEB735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uard Ring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chup risk greatest when diffusion-to-substrate diodes could become forward-bi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round sensitive region with guard ring to collect injected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6933960" cy="297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C2F21-D08D-44EF-B351-88B9DBD38A41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ft Err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70’s, DRAMs were observed to randomly flip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imately linked to alpha particles and cosmic ray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isions with atoms create electron-hole pairs in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arriers are collected on p-n junctions, disturbing the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26000" y="4343400"/>
            <a:ext cx="3222720" cy="16700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579120" y="571500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aumann0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B9F98-3C3A-4532-8DC9-C3DD77648DFA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adiation Harden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tion hardening reduces soft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node capacitance to minimize impact of collected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use redund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ual-interlocked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-correcting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 for soft errors that do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105520" y="2514600"/>
            <a:ext cx="3193920" cy="208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87D26-858B-4AE8-A914-C7F1D8374780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ircuit Pitfal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ve puzz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circuit and symptom, diagnose cause and recommend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hese pitfalls have caused failures in real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14F5E-B6EB-4667-950E-A2B6AA5F0E2E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1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:1 multiplex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x works when selected D is 0 but not 1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fails at low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fails in SFSF corn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219320" y="2301840"/>
          <a:ext cx="2971800" cy="14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01840"/>
                    <a:ext cx="2971800" cy="14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Threshold 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never rises abov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raised by the body eff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hreshold drop is most serious as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comes a greater fraction of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Use transmission gates, not pass transis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0" y="38098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4191120"/>
            <a:ext cx="68580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5562720"/>
            <a:ext cx="6095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5189C-737A-4CC7-AE40-46085380BBB9}" type="slidenum">
              <a:t>27</a:t>
            </a:fld>
          </a:p>
        </p:txBody>
      </p:sp>
    </p:spTree>
  </p:cSld>
  <p:transition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a 0 into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Q spontaneously flips to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Lea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is a dynamic node holding value as charge on the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subthreshold leakage may disturb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Staticize node with 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periodically refresh node (requires fast clock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actical processes with big leak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371600" y="2286000"/>
          <a:ext cx="2362320" cy="122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86000"/>
                    <a:ext cx="2362320" cy="12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6934320" y="4911840"/>
          <a:ext cx="1717560" cy="12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4911840"/>
                    <a:ext cx="171756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2286000" y="38098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4191120"/>
            <a:ext cx="6477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295280" y="4876920"/>
            <a:ext cx="7239240" cy="1218960"/>
            <a:chOff x="1295280" y="4876920"/>
            <a:chExt cx="7239240" cy="1218960"/>
          </a:xfrm>
        </p:grpSpPr>
        <p:sp>
          <p:nvSpPr>
            <p:cNvPr id="161" name=""/>
            <p:cNvSpPr/>
            <p:nvPr/>
          </p:nvSpPr>
          <p:spPr>
            <a:xfrm>
              <a:off x="2286000" y="4876920"/>
              <a:ext cx="6248520" cy="12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95280" y="5257800"/>
              <a:ext cx="27432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02E0E-236D-4268-81B1-5B9BABADC956}" type="slidenum">
              <a:t>28</a:t>
            </a:fld>
          </a:p>
        </p:txBody>
      </p:sp>
    </p:spTree>
  </p:cSld>
  <p:transition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3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ino AND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harge gate (Y=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eval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Y spontaneously flips to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Lea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is a dynamic node holding value as charge on the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subthreshold leakage may disturb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Kee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666880" y="2209680"/>
          <a:ext cx="205740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209680"/>
                    <a:ext cx="2057400" cy="15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3429000" y="4876920"/>
          <a:ext cx="1905120" cy="120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4876920"/>
                    <a:ext cx="190512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2286000" y="38098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00200" y="4191120"/>
            <a:ext cx="6858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0" y="4876920"/>
            <a:ext cx="609588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BE4DD-D2A4-454A-8EDE-3086BC9935BC}" type="slidenum">
              <a:t>29</a:t>
            </a:fld>
          </a:p>
        </p:txBody>
      </p:sp>
    </p:spTree>
  </p:cSld>
  <p:transition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ari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 dim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ing / Wear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29354-3E30-4FD2-8039-632759005593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4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eudo-nMOS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only one input is true, Y =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haps only happens in SF corn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Ratio 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OS and pMOS fight each 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pMOS is too strong, nMOS cannot pull X low enoug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Check that ratio is satisfied in all cor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2971800" cy="1150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286000" y="38098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4191120"/>
            <a:ext cx="6858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0" y="4876920"/>
            <a:ext cx="6095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7933B-861B-43F7-95FB-5EFD663F588D}" type="slidenum">
              <a:t>30</a:t>
            </a:fld>
          </a:p>
        </p:txBody>
      </p:sp>
    </p:spTree>
  </p:cSld>
  <p:transition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5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stuck at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only happen for certain latches where input is driven by a small gate located far aw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Ratio Failure (aga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ies resistance of D driver, wi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, and tgate must be mu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weak feedback inver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s: Check relative str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unbuffered diffusion inputs where driver is 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295280" y="2286000"/>
          <a:ext cx="182880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86000"/>
                    <a:ext cx="182880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5867280" y="3989520"/>
          <a:ext cx="2286000" cy="14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3989520"/>
                    <a:ext cx="2286000" cy="14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2286000" y="38098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4191120"/>
            <a:ext cx="68580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295280" y="5257800"/>
            <a:ext cx="7231320" cy="685800"/>
            <a:chOff x="1295280" y="5257800"/>
            <a:chExt cx="7231320" cy="685800"/>
          </a:xfrm>
        </p:grpSpPr>
        <p:sp>
          <p:nvSpPr>
            <p:cNvPr id="193" name=""/>
            <p:cNvSpPr/>
            <p:nvPr/>
          </p:nvSpPr>
          <p:spPr>
            <a:xfrm>
              <a:off x="2362320" y="5257800"/>
              <a:ext cx="61642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95280" y="5638680"/>
              <a:ext cx="68580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2C397-7B33-486E-8E25-D652E82FA3D3}" type="slidenum">
              <a:t>31</a:t>
            </a:fld>
          </a:p>
        </p:txBody>
      </p:sp>
    </p:spTree>
  </p:cSld>
  <p:transition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6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ino AND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harge gate whi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B = 0, so Z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is observed to sometimes 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Charge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X was low, it shares charge with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s: Limit charge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 if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&gt;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precharge node X to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2286000" cy="13971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715000" y="4622760"/>
            <a:ext cx="2286000" cy="13971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0006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600200" y="4800600"/>
          <a:ext cx="175248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4800600"/>
                    <a:ext cx="17524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2286000" y="3809880"/>
            <a:ext cx="3124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4114800"/>
            <a:ext cx="41148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219320" y="4495680"/>
            <a:ext cx="6705360" cy="1600200"/>
            <a:chOff x="1219320" y="4495680"/>
            <a:chExt cx="6705360" cy="1600200"/>
          </a:xfrm>
        </p:grpSpPr>
        <p:sp>
          <p:nvSpPr>
            <p:cNvPr id="207" name=""/>
            <p:cNvSpPr/>
            <p:nvPr/>
          </p:nvSpPr>
          <p:spPr>
            <a:xfrm>
              <a:off x="2438280" y="4495680"/>
              <a:ext cx="5486400" cy="16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19320" y="4876920"/>
              <a:ext cx="3124080" cy="12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4DE82-4477-4A66-A9BD-C729EE4DA457}" type="slidenum">
              <a:t>32</a:t>
            </a:fld>
          </a:p>
        </p:txBody>
      </p:sp>
    </p:spTree>
  </p:cSld>
  <p:transition>
    <p:zoom dir="ou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7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gate +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harge gate while transmission gate latch is opa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latch becomes transparent, X 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Charge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 was low, it shares charge with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Buffer dynamic nodes befo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ing transmission g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006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2057400" cy="1170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362320" y="3809880"/>
            <a:ext cx="3124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00200" y="4191120"/>
            <a:ext cx="41148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4495680"/>
            <a:ext cx="3352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1F074-31BF-4348-94E1-D851604406F9}" type="slidenum">
              <a:t>33</a:t>
            </a:fld>
          </a:p>
        </p:txBody>
      </p:sp>
    </p:spTree>
  </p:cSld>
  <p:transition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8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changes while latch is opa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if D comes from a far-away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Diffusion Input Noise Sensi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 &lt; 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ransmission gate turns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ikely because of power supply noise or coupling on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Buffer D lo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006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2286000" cy="11458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5029200" y="4876920"/>
            <a:ext cx="2590920" cy="11937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0" y="3809880"/>
            <a:ext cx="3733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4114800"/>
            <a:ext cx="67057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0" y="4876920"/>
            <a:ext cx="5257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9D5D6-5222-4C85-B693-B4B162DCD579}" type="slidenum">
              <a:t>34</a:t>
            </a:fld>
          </a:p>
        </p:txBody>
      </p:sp>
    </p:spTree>
  </p:cSld>
  <p:transition>
    <p:zoom dir="ou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CMOS gates are very rob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settle to correct value if you wait long 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circuits suffer from a variety of pitf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off between performance &amp; robus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 to check circuits for pitf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 chips, you need an automatic che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rules aren’t worth the paper they are printed on unless you back them up with a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AEB84-828F-447F-9013-E7221261F236}" type="slidenum">
              <a:t>35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876920" y="2362320"/>
            <a:ext cx="1831680" cy="1614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cess Vari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shold Vol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s on placement of dopants in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deviation inversely proportional to channe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nel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atic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ross-chip linewidth vari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CL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line edge roughness (L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hing variations affect w, s,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600200" y="2819520"/>
            <a:ext cx="2173320" cy="600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572000" y="4572000"/>
            <a:ext cx="1703520" cy="814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764400" y="2867040"/>
            <a:ext cx="108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ernstein0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7560" y="5334120"/>
            <a:ext cx="209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sy Texas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7202520" y="3200400"/>
            <a:ext cx="1484280" cy="2614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082640" y="5715000"/>
            <a:ext cx="168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sy Larry Pileg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C46C1-B5BD-47EC-A5CB-2D79861BCD0B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patial Distribu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s show spatial 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t-to-l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2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afer-to-waf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2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e-to-d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D2D) /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er-d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thin-d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ID) /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ad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r transistors match b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97280" y="1981080"/>
            <a:ext cx="3837240" cy="3335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409360" y="5334120"/>
            <a:ext cx="161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sy M. Pelg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D3F19-C8CE-4ADA-9600-E7D64F9BC956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nvironmental Vari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usually designed +/-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or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hip droop f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ing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bient temperature r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die temperature elev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chip power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943600" y="1523880"/>
            <a:ext cx="2738520" cy="1981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629760" y="350532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sy I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638680" y="3886200"/>
            <a:ext cx="2962440" cy="671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867280" y="4648320"/>
            <a:ext cx="1514520" cy="1303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467480" y="487692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arris01b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33FD5-92F5-4E21-89C7-A24D5D641DCB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g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change over time as they wear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bias temperature in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-dependent dielectric break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s threshold voltag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on this lat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6DBA7-1E72-4373-B80E-08D9C4CE4EB7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 Corn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extremes of process variations in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(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2133360" cy="2068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419720" y="4876920"/>
            <a:ext cx="3733560" cy="106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4993D-4B73-40DD-8A6A-30688739DDE8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rner Check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s are simulated in different corners to verify different performance and correctness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7638840" cy="26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3960D-1073-435B-9906-8F8662D5B824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4-05T17:38:40Z</dcterms:modified>
  <cp:revision>1810</cp:revision>
  <dc:subject/>
  <dc:title>PowerPoint Presentation</dc:title>
</cp:coreProperties>
</file>