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11CF-EE1C-4661-8C81-5C5F8678B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0BBF0-D777-4287-A3A2-B50E5E74C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2DDC-9BC7-4570-95AA-DF07BFFCD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B0ADA-65D8-4D65-951B-A1898A3DA3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107C-6D1D-4E43-9FE9-D701F5F953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75D51-C2E3-45F7-B32D-E8E563ADD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D632-D9F3-489F-A353-253D83A08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C311-0CC6-472D-95AE-C4F826C99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3DA24-0177-4142-9DCF-3BE28872A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8D6D-58A9-4AE0-9837-315F7F585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E429-0C56-4846-B622-A8D66E3F1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24D1B-76F1-4D56-B7E0-390E4D955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682F-2C60-4160-A961-82C6A2B4C55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&amp;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1103C-1D39-4A72-9BC2-ED42FEF5595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l Sca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y gate tunneling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are only about 4 atomic layers thi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dielectrics have helped continued scaling of effective oxide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 stability at low voltage is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nard scaling predicts cost, speed, power all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65 nm, some designers find they must choose just two of the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C49AB-7144-4C9D-92D6-B01A7227F49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ross-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s, t al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/ scaled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ize scaled by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7B4A-3B2A-4B26-A9C8-C392C8C3BF6D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523880"/>
          <a:ext cx="6781680" cy="3556080"/>
        </p:xfrm>
        <a:graphic>
          <a:graphicData uri="http://schemas.openxmlformats.org/drawingml/2006/table">
            <a:tbl>
              <a:tblPr/>
              <a:tblGrid>
                <a:gridCol w="4114800"/>
                <a:gridCol w="1371600"/>
                <a:gridCol w="129528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: spac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: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: heigh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die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wire resistance/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w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fringing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parallel plat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otal wir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un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RC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talk noi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energy per bit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E27B-3C3E-4771-9F6B-EF08A7A479A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523880"/>
          <a:ext cx="6705720" cy="127008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828800"/>
                <a:gridCol w="9907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/ Semi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epeated wire RC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ed wir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1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per b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C68A-9B46-490F-BB57-F4080ED5E725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er micron is remaining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1/5 of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wires are getting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acking transist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a majo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 are getting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possible to cross chip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E611-E658-4487-97BA-650805B2E1E3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 Industry Association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l. Technology Roadmap for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4872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622B6-C537-4D4B-BC1D-5C09D6DD8D6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ity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299E2-868F-47D8-A2A2-3C9DFE35457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st Improv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3, $0.01 bought you 100,000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re’s Law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3335400"/>
            <a:ext cx="7543800" cy="2687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5320" y="5788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8313C-52CB-4060-AD81-CEDB6128FD19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made a gloomy forecas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would reach minimum at 250 – 180 nm, then get worse because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leadin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kgate block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62520" y="2971800"/>
          <a:ext cx="47242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971800"/>
                    <a:ext cx="47242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867640" y="578808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IA9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5CFB-C7BF-46D7-B87F-9A7137D5FFDF}" type="slidenum">
              <a:t>18</a:t>
            </a:fld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chable Radiu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send a signal across a large fast chip in one cycle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microarchitect can plan around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off-chip memory latencies were tol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245736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7FA0-41A6-4A76-A4FB-F8495C08AF1A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78A6-F712-4627-BCC6-1FC41CF853D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VP Patrick Gelsinger (ISSCC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caling continues at present pace, by 2005, high speed processors would have power density of nuclear reactor, by 2010, a rocket nozzle, and by 2015, surface of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s usual will not work in the futu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to powe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8000" y="578808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Intel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3200400" cy="19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99EC-6005-449C-B8C5-7D08CD9A186C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in gate oxides and shor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 in high value because of velocity s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decreas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devi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causes expon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OF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utur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426120" cy="2565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10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3962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700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6AEF-F1C7-489B-BD6F-B6938960EC4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 is increasing faster than designer productivity (gates /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design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500 for a high-end micro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pensive design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to raise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y on synthesis, IP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good engineering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CB52-AFD9-42DC-8351-EE78038D7DA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Lim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oore’s Law run out of st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build transistors smaller than an ato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asons have been predicted for end of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,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demise have been exagg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B372-39FB-4603-9206-A473B67BC4DB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LSI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ing pric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(1-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profit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o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curring engineering cost (N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D6C2-B6AA-46F5-8C10-3BDCCDEAD431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size of desig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benefits, training,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front end: $1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 front end: $1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back end: $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costs: $5M in 4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ixture and package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1C75-4C6D-4D5E-926E-13D5972CB84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urring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 / (Dice per wafer * Y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: $500 - $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e per waf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: Y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cost proportional to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, cost increases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872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86200" y="2819520"/>
          <a:ext cx="190512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19520"/>
                    <a:ext cx="19051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10B0-6288-47DE-9898-DE07CCF3A4F4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xed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heets and applicatio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3EB3-EBA4-489A-B8F4-601F996E71C8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to start a company to build a wireless communications chip.  How much venture capital must you ra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you are smarter than everyone else, you can get away with a small team in just two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 digital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analog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support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7A2F-9D51-4501-9F34-E797E5617D33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desig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120k * 7 = $84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des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240k * 3 = $72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5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70k * 5 = $35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 tools: $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s: $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6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@ $7.91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6M design &amp;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C4B5E-2DA7-4F2D-A62F-094B736C6BF8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’s La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Moore’s Law has been driving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120" y="3502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2133360" cy="1913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4089240"/>
            <a:ext cx="4191120" cy="185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105520" y="2514600"/>
            <a:ext cx="3276360" cy="2027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00400" y="5791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re’s Law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6483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llary: clock speeds have im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9CE2C-275E-4A44-B563-781E53F96C7E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ore transistors per 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faster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fast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icroarchitecture (more I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gate delays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FF6F-1BCC-4057-B927-433BB1C51C13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constant in VLSI is constan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shrinks by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faster and lowe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do not impr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may get wo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facto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95480" y="4572000"/>
          <a:ext cx="99072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572000"/>
                    <a:ext cx="990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19720" y="3654360"/>
            <a:ext cx="4038480" cy="22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76F08-2E8C-48EF-97F0-B11FBC5C2B2C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nard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Dennard in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 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remain the same as features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imensions (x, y, z =&gt; W, L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F439-E9D9-4D73-8596-8543B249B736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523880"/>
          <a:ext cx="5334120" cy="4429080"/>
        </p:xfrm>
        <a:graphic>
          <a:graphicData uri="http://schemas.openxmlformats.org/drawingml/2006/table">
            <a:tbl>
              <a:tblPr/>
              <a:tblGrid>
                <a:gridCol w="2484360"/>
                <a:gridCol w="1095840"/>
                <a:gridCol w="17539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nard Scal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oxide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upply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hreshold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: substrate do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(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ON curr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: effective resis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: gate capaci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/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: clock frequ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: switching energy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: switching power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: area per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power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current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D77CA-FAC6-4A38-818A-F8235D91DAA1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per micron is nearly independent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N resistance * micron improv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et faster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 goes down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nsity goes up with scaling (b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1B0F-84C5-4412-8EBF-D353F86215D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is typically about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ical FO4 inverter delay for a process of 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nm) is about 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ON resistance of a unit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ran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4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= (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15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30) ps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 = 16.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resistance is roughly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962520"/>
            <a:ext cx="6858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2BB1-6F06-4CBA-AE0C-4189BF59FE30}" type="slidenum">
              <a:t>9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31T16:16:51Z</dcterms:modified>
  <cp:revision>2224</cp:revision>
  <dc:subject/>
  <dc:title>PowerPoint Presentation</dc:title>
</cp:coreProperties>
</file>