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3FC64-D480-439F-A3C2-EA4D47C53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323ED-D242-42BC-9807-4197E3956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4706-C1F5-4371-AE5F-8855ECC527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E6F5-9C9F-498B-8D16-DE2E68FE10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5A89-11DB-44D8-A804-28096855BB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8E53-C48E-4728-AB54-B9C1161C6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52EC3-EDAC-4E8F-9DDC-AD8BBF917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1FF0-9B5D-44EF-9FB5-2529C9BCB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AD322-5221-4874-9DA6-4FC227C205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3E2D-17C1-4623-9855-F8A87F2C1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EEB8B-9FBA-437C-91C8-F83F92911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6A7F-08AF-4CEC-9151-9B7A83CB9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A054-A0F7-47E6-BE03-46B0659EC9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3A4F-E688-48CA-89CE-7B2117ACA59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164B-8037-4EC2-8D38-0EF1775CE37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C56A3-FC97-4B38-B4EB-94FF7745859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C2B5A-AF54-4E78-AE67-EBE118AF26D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7940E-7BC3-4CA6-B710-0773ED1A397A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B26B-3AEA-4CDA-8542-238E4D82E2E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1F07-60DF-40CE-9716-B0FE6171ABE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1263-502D-423E-8204-B8C5E230AAE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’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18E6-92AE-4250-9864-6D426A4F5F3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373E4-9312-4169-803A-59D4B7AD9159}" type="slidenum">
              <a:t>18</a:t>
            </a:fld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1185A-C959-4F5F-AD96-D2644B2A7BFE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C9A2-C079-4CC8-B4B0-C72FDBA34B5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3CFC-9B0E-4E3C-8B66-ACB8F8CBA9C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16E1-666F-4847-BB28-BEE1CFF5298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D91C-C4D0-44CC-B744-B9DEAC3CAE0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’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2A43-3903-492A-B7CC-16ACF5D195D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0102-EE88-480B-A0CF-388D16818F9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C1A5C-C29E-4A78-9C55-455BD9BD667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AE63-DB08-4B07-8134-0B5568B67F6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6548-69E2-48B9-9EF6-6D4A3A7E97B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A6C0-3110-48A6-BF2F-68C2B359AE3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5135-4A4D-4BB8-ABDF-A5A158AF717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’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’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’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868F9-2E4E-4C54-A9BB-6A22BF41EB2B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FE860-2D4B-4DDD-A570-7D43EC8E71C5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F4A8-CD4D-4624-A93A-73AF6A80900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15931-C594-4B3A-B8F1-783A2F2BC41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523880"/>
          <a:ext cx="5334120" cy="4429080"/>
        </p:xfrm>
        <a:graphic>
          <a:graphicData uri="http://schemas.openxmlformats.org/drawingml/2006/table">
            <a:tbl>
              <a:tblPr/>
              <a:tblGrid>
                <a:gridCol w="2484360"/>
                <a:gridCol w="1095840"/>
                <a:gridCol w="17539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3E9D-5013-4606-8088-800A9ACD6B7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F21C-58D2-44CA-95A4-1B2CB232DBF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396252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5: Scaling and Economic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2A5E0-F4F0-4E4A-A3E4-0233C8343D5E}" type="slidenum">
              <a:t>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31T16:16:51Z</dcterms:modified>
  <cp:revision>2224</cp:revision>
  <dc:subject/>
  <dc:title>PowerPoint Presentation</dc:title>
</cp:coreProperties>
</file>