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0C64D-4F51-4AB4-AD0D-228691A69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1592-AED5-48FD-956D-247E9A369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9F7A5-4114-4B6E-8A2E-D6F38BE421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93FF-ECF8-44BD-85B6-454DD49F1A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C3A3-3D87-43B0-9F20-AFEDF67CB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5519-D059-4C93-9256-9CE1A3B33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771FB-D4CD-4667-B043-FF4B1E0E2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576F9-C2CF-4F6F-BBAB-A187E1D78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43DBD-3C9D-4F37-A98E-49250A412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333A-3821-4002-9371-24A5CBE7A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EA16-7320-4708-8C96-9E0DF6678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FEC2-EB15-4D0A-93D5-6B4645CEFE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BE77-59C3-4679-BF78-93003AB029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DD5F3-98BE-4C82-98EA-D574654FE22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mporary processes normally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352680"/>
          <a:ext cx="5562720" cy="2586240"/>
        </p:xfrm>
        <a:graphic>
          <a:graphicData uri="http://schemas.openxmlformats.org/drawingml/2006/table">
            <a:tbl>
              <a:tblPr/>
              <a:tblGrid>
                <a:gridCol w="2286000"/>
                <a:gridCol w="32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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(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1EEC-9190-4A0C-84D2-F796234DD6C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C76F5-186D-4928-8189-BF341F4DB1C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per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wires diffusion barrier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is also pr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resistance is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1891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219320" y="2971800"/>
          <a:ext cx="380988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971800"/>
                    <a:ext cx="380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87C5C-ED1B-45FE-9E04-CDD086E2726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sheet resistance of a 0.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hick Cu wire in a 65 nm process.  Ignore d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otal resistance if the wire is 0.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and 1 mm long.  Ignore the barrier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95280" y="2438280"/>
          <a:ext cx="403884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40388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295280" y="4648320"/>
          <a:ext cx="41148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648320"/>
                    <a:ext cx="41148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905120" y="2362320"/>
            <a:ext cx="3581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572000"/>
            <a:ext cx="3657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B706-BD40-4949-A188-36BB19C36993}" type="slidenum">
              <a:t>13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6CB8-4113-48AE-B400-9693C77BB39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49140-F38F-4281-A9BE-6F63A8530A3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 Formul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of a line without neighbors can be approxim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mpirical formula is accurate to 6% for AR &lt;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2443320"/>
          <a:ext cx="57150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43320"/>
                    <a:ext cx="5715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BA222-2E6A-43C1-B374-3BB95611C2E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dense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67FBA-FEF3-4525-ACD0-9EC597B2EF39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DEFD-2864-40EC-A152-7D94F09E4ED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1 mm wire.  Assume wire capacitance is 0.2 fF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and that a unit-sized inverter has R = 10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 = 0.1 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fF) + (1000 + 8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+ 0.6 fF) = 281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3873600"/>
            <a:ext cx="5638680" cy="191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3352680"/>
            <a:ext cx="6019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D6F09-12E4-4751-89B6-4CDCC6A86126}" type="slidenum">
              <a:t>19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EFC5-0F1A-4AA6-9D89-1060D81BDAE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re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energy per unit length to send a bit of information (one rising and one falling transition) in a CMO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(0.2 pF/mm)(1.0 V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pJ/bit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mW/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048120"/>
            <a:ext cx="6019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B901-C756-4220-BD06-9A38A4BA3F92}" type="slidenum">
              <a:t>20</a:t>
            </a:fld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0EF03-2ADE-478F-8DDD-66CEDFADA8E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4191120" y="4800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80060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1814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18148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18148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5562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5627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5627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79011-15A5-441D-93F5-9E00CF11319B}" type="slidenum">
              <a:t>22</a:t>
            </a:fld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C7EB8-D5AC-42B5-9ED0-3ED234A2448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CCF60-F0CB-4B3E-ADCC-7EBE46D05491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70572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11FC-8034-4AE2-B2F4-AB9C9926F0E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31558-C760-405B-B696-BEC4773154A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985EC-04E1-476A-BE15-DD7989549D7D}" type="slidenum">
              <a:t>27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952880" y="16002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F81B-EB12-4A0B-9C56-6FF2B098D07C}" type="slidenum">
              <a:t>28</a:t>
            </a:fld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4800600"/>
            <a:ext cx="44956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8070C-AAF8-45FE-9A2A-D6937B3CA873}" type="slidenum">
              <a:t>29</a:t>
            </a:fld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A557F-5604-45C4-ABE2-86A9144C9B67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4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65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0089-51B1-494B-9021-1B149C55854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eater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/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87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% premium over unrepeated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power is consumed in the large 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peaters are downsized for minimum ED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emium is onl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creases by 14% from mi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C0C3-72E6-4498-8C17-424DD8F29357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493A-4961-4ACC-8B5B-BFB01B9B25C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 for within-cell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2 for vertic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3 for horizont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er and wider, (density vs. sp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layers: thick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B118-9B22-48E7-9F77-331317A0317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46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90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64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5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343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995640" cy="2602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6560" y="57913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Thompson0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9960" y="57913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Moon08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B553-035F-495A-A76E-AB912E880FF6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connect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n a wire is analogous to current in a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: narrow size impedes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: trough under the leaky pipe must fill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ance: paddle wheel inertia opposes changes in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for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006720"/>
            <a:ext cx="3962160" cy="30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526C8-EAEA-471F-86C3-613D54123BC4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0512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0476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657600"/>
            <a:ext cx="129528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18A7B-17E1-429C-B3D6-9151AFC1A42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52480" y="1981080"/>
            <a:ext cx="2819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3A577-3D84-4915-B387-86136556AFEF}" type="slidenum">
              <a:t>9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29T15:24:17Z</dcterms:modified>
  <cp:revision>940</cp:revision>
  <dc:subject/>
  <dc:title>PowerPoint Presentation</dc:title>
</cp:coreProperties>
</file>