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42.png" ContentType="image/png"/>
  <Override PartName="/ppt/media/image2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191EF-2B1F-4D81-9D2D-D7BA7BF1B5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689CF-935D-4531-A9C4-2BA8F1FF3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017DA-3DD7-4366-9B4C-F1CDB76CF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11682-4B14-471B-8295-BB8A0C8380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93685-96DC-4C5F-8AF7-C4D59DD75D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178C6-E55A-4735-BBB8-0CCC2C8E7F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08319-9B87-469F-9A67-16CFEBED4C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3142D-6500-4952-BCD9-84C4C0BF43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79F3D-6B51-4422-840E-C90BA9E46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8C6E-7AC4-4FE8-A1AC-13B6DF715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239D4-F97C-47B6-8E71-4C620889E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DF00B-AE06-4925-958C-6398C2445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2042-877A-4561-8CEA-F7F43F285B8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tial Circuit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149EB-C0CC-4849-B93F-B63F316DA2FA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latches are now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638680" y="1828800"/>
          <a:ext cx="274320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828800"/>
                    <a:ext cx="27432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25146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F0933-A917-49D4-B55D-83AD2D4F1C49}" type="slidenum">
              <a:t>10</a:t>
            </a:fld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4120" y="1828800"/>
          <a:ext cx="304776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828800"/>
                    <a:ext cx="304776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BB435-47DD-4975-82F0-E22934DE99C4}" type="slidenum">
              <a:t>11</a:t>
            </a:fld>
          </a:p>
        </p:txBody>
      </p:sp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Very robust (most impor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slow (1.5 – 2 FO4 del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lock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952880" y="1600200"/>
          <a:ext cx="320040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32004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0E34A-FE14-4B36-8FAB-A12AEECEB86F}" type="slidenum">
              <a:t>12</a:t>
            </a:fld>
          </a:p>
        </p:txBody>
      </p:sp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410080" y="1676520"/>
          <a:ext cx="266724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676520"/>
                    <a:ext cx="26672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8954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ADF2F-02B6-41F0-BFC4-6B8D61184F43}" type="slidenum">
              <a:t>13</a:t>
            </a:fld>
          </a:p>
        </p:txBody>
      </p:sp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is built as pair of back-to-back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00200" y="2057400"/>
          <a:ext cx="480060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48006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EB793-F9C2-4753-AADF-28C9DF0F4FEB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: ignore clock when en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x: increase latch D-Q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Gating: increase en setup time,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33720" y="2971800"/>
          <a:ext cx="396216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396216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82E52-3E8C-4C67-BBEA-F8B10173E9EC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output low when reset ass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 vs. a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52480" y="2362320"/>
          <a:ext cx="524844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62320"/>
                    <a:ext cx="52484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3F42C-F0DF-4F1E-BDB4-ACA88F1ECC9E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t / 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forces output high when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with asynchronous set and r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2801880"/>
          <a:ext cx="693396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01880"/>
                    <a:ext cx="693396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03B54-86ED-4715-A6AD-29F5AB436696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Metho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114800" y="1447920"/>
          <a:ext cx="44276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447920"/>
                    <a:ext cx="44276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AF37E-FC10-47BC-9965-BDAC6C45650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ing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67080" y="2286000"/>
          <a:ext cx="4419720" cy="36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0"/>
                    <a:ext cx="441972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85800" y="2743200"/>
          <a:ext cx="3657600" cy="3162240"/>
        </p:xfrm>
        <a:graphic>
          <a:graphicData uri="http://schemas.openxmlformats.org/drawingml/2006/table">
            <a:tbl>
              <a:tblPr/>
              <a:tblGrid>
                <a:gridCol w="700200"/>
                <a:gridCol w="29574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et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Setup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Hold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685800" y="1828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and Propagation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930B3-DBE7-4E74-BB0B-21671DD2F7D4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 Elem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and Min-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Phase C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00830-8B71-43A2-935F-9B2D6BBE9284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x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8120" y="1676520"/>
          <a:ext cx="5410080" cy="27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410080" cy="27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39736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38080" y="1752480"/>
          <a:ext cx="22100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752480"/>
                    <a:ext cx="22100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905120" y="1828800"/>
            <a:ext cx="990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7C00F-4F02-45E5-BAE8-374A9E124F17}" type="slidenum">
              <a:t>20</a:t>
            </a:fld>
          </a:p>
        </p:txBody>
      </p:sp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505320" y="1600200"/>
          <a:ext cx="464796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00200"/>
                    <a:ext cx="464796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85800" y="1828800"/>
          <a:ext cx="271620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828800"/>
                    <a:ext cx="27162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666880" y="17524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50B1F-22CE-4FB8-9395-9F27B65DA570}" type="slidenum">
              <a:t>21</a:t>
            </a:fld>
          </a:p>
        </p:txBody>
      </p:sp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886200" y="1752480"/>
          <a:ext cx="4648320" cy="33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752480"/>
                    <a:ext cx="4648320" cy="33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486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62120" y="1752480"/>
          <a:ext cx="34988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752480"/>
                    <a:ext cx="3498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286000" y="17524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9E289-91FC-455C-AD62-E01F6C3A21F4}" type="slidenum">
              <a:t>22</a:t>
            </a:fld>
          </a:p>
        </p:txBody>
      </p:sp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n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1981080"/>
          <a:ext cx="141264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4126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657600" y="1600200"/>
          <a:ext cx="5029200" cy="341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00200"/>
                    <a:ext cx="502920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219320" y="1981080"/>
            <a:ext cx="1523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AE980-8CE3-4E77-9835-F449A6C28B2E}" type="slidenum">
              <a:t>23</a:t>
            </a:fld>
          </a:p>
        </p:txBody>
      </p:sp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38080" y="1981080"/>
          <a:ext cx="276408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276408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038480" y="1752480"/>
          <a:ext cx="4434120" cy="33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752480"/>
                    <a:ext cx="44341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838080" y="2666880"/>
            <a:ext cx="3276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reduced by non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: hold applies twice each cycle, vs. only once for flo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flop is made of two latch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19810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D6374-01E2-421B-AC5E-476A926CB6A6}" type="slidenum">
              <a:t>24</a:t>
            </a:fld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62120" y="1981080"/>
          <a:ext cx="190476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9047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733920" y="1676520"/>
          <a:ext cx="4732200" cy="33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76520"/>
                    <a:ext cx="47322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838080" y="266688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increased by pulse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1981080"/>
            <a:ext cx="1523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DC41F-4E09-44F2-941F-47393C606B18}" type="slidenum">
              <a:t>25</a:t>
            </a:fld>
          </a:p>
        </p:txBody>
      </p:sp>
    </p:spTree>
  </p:cSld>
  <p:transition>
    <p:zoom dir="ou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lop-based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unches on one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tup before next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late, system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early, time is w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ps have hard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latch-ba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an pass through latch while 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ycle of logic can borrow time into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each loop completes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FC149-156F-4942-B479-4B19FFE87658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152360" y="1523880"/>
          <a:ext cx="683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523880"/>
                    <a:ext cx="683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A4EB8-ECD9-42C9-9721-BD65A8FF286B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w Much Borrowing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809880" y="1676520"/>
          <a:ext cx="440856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676520"/>
                    <a:ext cx="440856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762120" y="2057400"/>
          <a:ext cx="282564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28256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85800" y="1600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62120" y="3733920"/>
          <a:ext cx="169848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733920"/>
                    <a:ext cx="16984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76212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F7081-1432-4C96-84AC-2AF867CE8E28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zero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s really have uncertainty in arriv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maximum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minimum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748DD-76E2-4ADB-84C6-7BD25AF21407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and previous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parating previous, current,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SM,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4495680"/>
          <a:ext cx="7696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495680"/>
                    <a:ext cx="7696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6381D-BB9A-453A-A980-6B968B633C91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838080" y="1828800"/>
          <a:ext cx="274320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828800"/>
                    <a:ext cx="27432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AED0D-A889-4BFF-8E8D-20EEF6BFA1D0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La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724280" y="1676520"/>
          <a:ext cx="371628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76520"/>
                    <a:ext cx="371628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762120" y="2057400"/>
          <a:ext cx="3460680" cy="194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346068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85800" y="1523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4343400"/>
          <a:ext cx="41148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343400"/>
                    <a:ext cx="4114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685800" y="3962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D4123-28C3-4614-9590-9FC4E32A5C02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o-Phase Clock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tup times are violated, reduce clock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old times are violated, chip fails at any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working chips are most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ools to 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asy way to guarantee hold times is to use 2-phase latches with big nonoverlap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hese clock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1, ph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E90B4-654A-4079-BD56-7925F5E66C09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afe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years used flip-flop with nonoverlapping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– nonoverlap adds to setu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 hold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dustry, use a better timing 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ffers to slow signals if hold time is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905120" y="3733920"/>
          <a:ext cx="480060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480060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2D8F5-471C-4CF1-BD1C-C8D14AD29DF7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aptive Sequenc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s include timing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ep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 inaccur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run faster and check for near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 introduced as “Raz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frequency until at the verge of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reduce cycle time by ~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715000" y="1371600"/>
          <a:ext cx="25304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371600"/>
                    <a:ext cx="25304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5F37-08AC-4BDD-BC91-9A524012E3C3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asy to use, supported by all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Transparent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skew tolerance and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some skew tol &amp; borrow, hold tim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62120" y="4162320"/>
            <a:ext cx="7619760" cy="18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D2EB7-0085-48B7-AAD1-E8FB62D6F8A5}" type="slidenum">
              <a:t>35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kens moved through pipeline at constant speed, no sequencing elements would b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ber-optic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pulses (tokens) are sent down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pulse sent before first reaches end of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hardware to separate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s min time between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ve pipel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ircuits, dispersion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ast tokens so they don’t catch slow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E98D5-28A8-4268-975D-BA21BE890801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Overh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ip-flops to delay fast tokens so they move through exactly one stage each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y adds some delay to the slow 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circuit slower than just the log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equenc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call this clock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applies to asynchronous circuits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e side effect of maintaining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352F4-459C-4ECB-B21D-088E2407C88A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evel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k.a. transparent latch, D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ip-fl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dge 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k.a. master-slave flip-flop, D flip-flop, D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ge-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F5008-3D0D-42CC-BCE5-4287DB905F2C}" type="slidenum">
              <a:t>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lock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72200" y="1828800"/>
          <a:ext cx="20574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828800"/>
                    <a:ext cx="20574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86728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1970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3623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27432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3581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9625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4343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4724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51814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55627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39A71-540E-49BD-8195-D702AFF7F9DA}" type="slidenum">
              <a:t>7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inverted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324480" y="1752480"/>
          <a:ext cx="1694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752480"/>
                    <a:ext cx="1694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25146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5BEE2-BE30-4CDA-B887-4BFD8F9A28EE}" type="slidenum">
              <a:t>8</a:t>
            </a:fld>
          </a:p>
        </p:txBody>
      </p: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5880" y="1600200"/>
          <a:ext cx="22734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00200"/>
                    <a:ext cx="22734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3352680"/>
            <a:ext cx="3353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733920"/>
            <a:ext cx="3353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41911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75D3D-6F7F-497D-A9DE-A789BAE1C6BE}" type="slidenum">
              <a:t>9</a:t>
            </a:fld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3T06:25:45Z</dcterms:modified>
  <cp:revision>1291</cp:revision>
  <dc:subject/>
  <dc:title>PowerPoint Presentation</dc:title>
</cp:coreProperties>
</file>