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1.png" ContentType="image/png"/>
  <Override PartName="/ppt/media/image29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42.png" ContentType="image/png"/>
  <Override PartName="/ppt/media/image2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92487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E7EC5-33B0-412A-9B49-8F498EEB6D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45A2E-C077-4D44-9E11-7D7F5A89C9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C0D65-FBB8-42FC-8681-68F4525DBF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A3979-B013-4F60-84C9-876D3EA571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35F42-B729-4AE2-B48D-F44A81A6B4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0517E-AACF-4D7B-9734-C2FD0F14B1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10EA2-9F21-4C99-A2D5-AFF581952F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92B4A-3AD5-466F-B004-D0C690BAA0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E0AD9-196C-4FE9-B7BB-8D6956AA46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F7DA4-774E-4D3B-BB02-CAAFF996AE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E3BD7-2174-4B57-A00E-66E4F2EE35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9AD21-D62F-427F-BF68-21AB0F706A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CD11-E5A0-4FBE-82D5-899946D17CC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1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tial Circuit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5D26F-F6D0-400D-8FE3-4269E3FA1108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stat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driving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latches are now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f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638680" y="1828800"/>
          <a:ext cx="274320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828800"/>
                    <a:ext cx="274320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600200" y="19810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25146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9E741-44A7-488A-BDA5-4D7D0EC4AD82}" type="slidenum">
              <a:t>10</a:t>
            </a:fld>
          </a:p>
        </p:txBody>
      </p:sp>
    </p:spTree>
  </p:cSld>
  <p:transition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ed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s diffusio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inve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334120" y="1828800"/>
          <a:ext cx="3047760" cy="21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828800"/>
                    <a:ext cx="304776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600200" y="19810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2438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31BCA-28EF-41FC-9910-C5507262A627}" type="slidenum">
              <a:t>11</a:t>
            </a:fld>
          </a:p>
        </p:txBody>
      </p:sp>
    </p:spTree>
  </p:cSld>
  <p:transition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e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ackd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used in 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Very robust (most import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her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her slow (1.5 – 2 FO4 del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lock 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952880" y="1600200"/>
          <a:ext cx="3200400" cy="23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600200"/>
                    <a:ext cx="320040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600200" y="20574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8B657-8609-4A62-8CD9-D7B74E8F78F2}" type="slidenum">
              <a:t>12</a:t>
            </a:fld>
          </a:p>
        </p:txBody>
      </p:sp>
    </p:spTree>
  </p:cSld>
  <p:transition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buffered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410080" y="1676520"/>
          <a:ext cx="2667240" cy="24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1676520"/>
                    <a:ext cx="266724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1600200" y="20574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2438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28954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E320B-BF47-466D-9EA1-5D8031A7AD41}" type="slidenum">
              <a:t>13</a:t>
            </a:fld>
          </a:p>
        </p:txBody>
      </p:sp>
    </p:spTree>
  </p:cSld>
  <p:transition>
    <p:zoom dir="ou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lip-Flop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 is built as pair of back-to-back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600200" y="2057400"/>
          <a:ext cx="480060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057400"/>
                    <a:ext cx="480060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C25D6-9B31-4A75-A20A-0EBE39C478CF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nab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: ignore clock when en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x: increase latch D-Q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Gating: increase en setup time,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133720" y="2971800"/>
          <a:ext cx="3962160" cy="31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971800"/>
                    <a:ext cx="3962160" cy="31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03EED-6B62-477E-83EF-77E7F9C630AE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output low when reset asse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ous vs. asynchron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752480" y="2362320"/>
          <a:ext cx="524844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362320"/>
                    <a:ext cx="524844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40115-ADD1-4E9B-B22F-2594FE9D9A24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t / Re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forces output high when 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 with asynchronous set and re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62120" y="2801880"/>
          <a:ext cx="693396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01880"/>
                    <a:ext cx="693396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941D9-8A9E-424E-B6ED-F687DDDCD85D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Metho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114800" y="1447920"/>
          <a:ext cx="442764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447920"/>
                    <a:ext cx="442764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CE37F-5F2F-435D-BA95-5505EB7E5B67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iming Diagra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267080" y="2286000"/>
          <a:ext cx="4419720" cy="36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286000"/>
                    <a:ext cx="4419720" cy="36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685800" y="2743200"/>
          <a:ext cx="3657600" cy="3162240"/>
        </p:xfrm>
        <a:graphic>
          <a:graphicData uri="http://schemas.openxmlformats.org/drawingml/2006/table">
            <a:tbl>
              <a:tblPr/>
              <a:tblGrid>
                <a:gridCol w="700200"/>
                <a:gridCol w="295740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 Prop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 Cont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c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Clk-&gt;Q Prop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c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Clk-&gt;Q Cont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d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 D-&gt;Q Prop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d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 D-&gt;Q Cont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et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Setup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Hold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685800" y="18288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ion and Propagation Del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9DD94-A555-4B02-A85B-DC2B8D4223D7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ing Elemen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 and Min-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Phase C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777F4-B247-4F35-ADFC-30A6DD53F3B8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ax-Delay: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048120" y="1676520"/>
          <a:ext cx="5410080" cy="27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76520"/>
                    <a:ext cx="5410080" cy="27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397368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838080" y="1752480"/>
          <a:ext cx="221004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752480"/>
                    <a:ext cx="22100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905120" y="1828800"/>
            <a:ext cx="9903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3EA3E-118A-4391-B3A6-16CC96D5341E}" type="slidenum">
              <a:t>20</a:t>
            </a:fld>
          </a:p>
        </p:txBody>
      </p:sp>
    </p:spTree>
  </p:cSld>
  <p:transition>
    <p:zoom dir="ou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x Delay: 2-Phase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505320" y="1600200"/>
          <a:ext cx="4647960" cy="43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600200"/>
                    <a:ext cx="4647960" cy="43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685800" y="1828800"/>
          <a:ext cx="271620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828800"/>
                    <a:ext cx="271620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2666880" y="1752480"/>
            <a:ext cx="381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B7135-51F3-42D0-90A8-96FCF3C5805D}" type="slidenum">
              <a:t>21</a:t>
            </a:fld>
          </a:p>
        </p:txBody>
      </p:sp>
    </p:spTree>
  </p:cSld>
  <p:transition>
    <p:zoom dir="ou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x Delay: Pulsed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886200" y="1752480"/>
          <a:ext cx="4648320" cy="334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752480"/>
                    <a:ext cx="4648320" cy="33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34862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762120" y="1752480"/>
          <a:ext cx="349884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752480"/>
                    <a:ext cx="34988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2286000" y="1752480"/>
            <a:ext cx="1828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21784-9E37-4CC7-BE4C-A506EAAD51DD}" type="slidenum">
              <a:t>22</a:t>
            </a:fld>
          </a:p>
        </p:txBody>
      </p:sp>
    </p:spTree>
  </p:cSld>
  <p:transition>
    <p:zoom dir="ou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n-Delay: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62120" y="1981080"/>
          <a:ext cx="1412640" cy="3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14126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657600" y="1600200"/>
          <a:ext cx="5029200" cy="341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600200"/>
                    <a:ext cx="502920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1219320" y="1981080"/>
            <a:ext cx="1523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E02EB-05CD-4355-B611-3F781842AABA}" type="slidenum">
              <a:t>23</a:t>
            </a:fld>
          </a:p>
        </p:txBody>
      </p:sp>
    </p:spTree>
  </p:cSld>
  <p:transition>
    <p:zoom dir="ou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n-Delay: 2-Phase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838080" y="1981080"/>
          <a:ext cx="2764080" cy="3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276408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038480" y="1752480"/>
          <a:ext cx="4434120" cy="33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1752480"/>
                    <a:ext cx="4434120" cy="33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838080" y="2666880"/>
            <a:ext cx="32767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time reduced by nonoverl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dox: hold applies twice each cycle, vs. only once for flo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 flop is made of two latch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1981080"/>
            <a:ext cx="1828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CEA67-BD8F-4809-8AA9-E7D67DBCFE33}" type="slidenum">
              <a:t>24</a:t>
            </a:fld>
          </a:p>
        </p:txBody>
      </p:sp>
    </p:spTree>
  </p:cSld>
  <p:transition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n-Delay: Pulsed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762120" y="1981080"/>
          <a:ext cx="1904760" cy="3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190476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733920" y="1676520"/>
          <a:ext cx="4732200" cy="33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676520"/>
                    <a:ext cx="473220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838080" y="2666880"/>
            <a:ext cx="327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time increased by pulse 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1981080"/>
            <a:ext cx="1523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3FA00-793E-4180-BB2E-0571D21CE0E3}" type="slidenum">
              <a:t>25</a:t>
            </a:fld>
          </a:p>
        </p:txBody>
      </p:sp>
    </p:spTree>
  </p:cSld>
  <p:transition>
    <p:zoom dir="ou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ime Borrow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flop-based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launches on one rising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setup before next rising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rrives late, system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rrives early, time is wa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ps have hard 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latch-bas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an pass through latch while trans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cycle of logic can borrow time into 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each loop completes in on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029A6-BD8D-41C2-B0CC-187FC3B989C9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ime Borrowing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152360" y="1523880"/>
          <a:ext cx="68392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1523880"/>
                    <a:ext cx="68392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D3CB7-7EF3-499F-9FB1-7E2ECEA34F2A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ow Much Borrowing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809880" y="1676520"/>
          <a:ext cx="440856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676520"/>
                    <a:ext cx="440856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762120" y="2057400"/>
          <a:ext cx="282564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057400"/>
                    <a:ext cx="282564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685800" y="1600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762120" y="3733920"/>
          <a:ext cx="1698480" cy="3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3733920"/>
                    <a:ext cx="169848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762120" y="3124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69CFD-B5AB-4977-BC26-0FB26569A175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Ske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assumed zero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s really have uncertainty in arriva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s maximum propag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minimum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s time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D578C-76AB-42AA-904A-639662665F5E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binationa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depends on current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quentia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depends on current and previous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separating previous, current,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SM, pip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62120" y="4495680"/>
          <a:ext cx="769608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495680"/>
                    <a:ext cx="76960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B03F7-395D-4F57-854D-1A9B7930B15B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ew: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562640" y="1523880"/>
          <a:ext cx="390204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62640" y="1523880"/>
                    <a:ext cx="390204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838080" y="1828800"/>
          <a:ext cx="2743200" cy="11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828800"/>
                    <a:ext cx="27432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E4D38-5909-4101-AE6C-AFE618792BF2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ew: Latch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724280" y="1676520"/>
          <a:ext cx="3716280" cy="14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76520"/>
                    <a:ext cx="3716280" cy="14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762120" y="2057400"/>
          <a:ext cx="3460680" cy="194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057400"/>
                    <a:ext cx="3460680" cy="19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685800" y="15238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62120" y="4343400"/>
          <a:ext cx="41148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343400"/>
                    <a:ext cx="41148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685800" y="3962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965DF-8425-4188-AE1A-F0B05E17CBCD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wo-Phase Clock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etup times are violated, reduce clock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hold times are violated, chip fails at any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lass, working chips are most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ools to analyz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asy way to guarantee hold times is to use 2-phase latches with big nonoverlap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these clock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h1, ph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72787-41C6-4C54-AE5D-B95A4FAC67CC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afe Flip-Flo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 years used flip-flop with nonoverlapping c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– nonoverlap adds to setup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 hold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ndustry, use a better timing analy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ffers to slow signals if hold time is at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905120" y="3733920"/>
          <a:ext cx="480060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733920"/>
                    <a:ext cx="480060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FD9A2-4E8B-4981-820A-90BD440ABD89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daptive Sequenc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rs include timing mar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depend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 inaccura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: run faster and check for near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 introduced as “Raz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frequency until at the verge of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reduce cycle time by ~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715000" y="1371600"/>
          <a:ext cx="253044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371600"/>
                    <a:ext cx="25304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427C4-CE57-4C3E-978B-7846A38EAEF8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easy to use, supported by all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Transparent Lat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skew tolerance and time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, some skew tol &amp; borrow, hold tim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62120" y="4162320"/>
            <a:ext cx="7619760" cy="18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7F4BA-59BE-442A-A937-D8DDB0643E57}" type="slidenum">
              <a:t>35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kens moved through pipeline at constant speed, no sequencing elements would be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iber-optic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pulses (tokens) are sent down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pulse sent before first reaches end of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hardware to separate pul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per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ts min time between pul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ve pipel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st circuits, dispersion i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fast tokens so they don’t catch slow 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81CEC-17D5-41CF-B84E-9040A7E42F58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Overhea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lip-flops to delay fast tokens so they move through exactly one stage each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vitably adds some delay to the slow 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circuit slower than just the log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sequenc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eople call this clock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t applies to asynchronous circuits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vitable side effect of maintaining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2DCFD-1845-40E3-B2B4-514C0C17F298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El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Level sen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k.a. transparent latch, D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ip-fl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dge trigg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k.a. master-slave flip-flop, D flip-flop, D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ge-tri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724280" y="3429000"/>
          <a:ext cx="3016440" cy="21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429000"/>
                    <a:ext cx="301644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724280" y="3429000"/>
          <a:ext cx="3016440" cy="214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429000"/>
                    <a:ext cx="301644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74ABC-5800-4F85-B3BD-9FC4B6EA7C49}" type="slidenum">
              <a:t>6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lock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d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noise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172200" y="1828800"/>
          <a:ext cx="2057400" cy="14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828800"/>
                    <a:ext cx="205740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5867280" y="3352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1970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236232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27432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3581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396252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43434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00200" y="4724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51814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00200" y="556272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61CF2-E6E2-4BC5-8DEA-16F1D0F51E78}" type="slidenum">
              <a:t>7</a:t>
            </a:fld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inverted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324480" y="1752480"/>
          <a:ext cx="169416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1752480"/>
                    <a:ext cx="16941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600200" y="20574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25146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62FD8-4625-45C8-8AEC-AE2F8D642B1D}" type="slidenum">
              <a:t>8</a:t>
            </a:fld>
          </a:p>
        </p:txBody>
      </p:sp>
    </p:spTree>
  </p:cSld>
  <p:transition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ing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ackd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s e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noise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diffusio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e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095880" y="1600200"/>
          <a:ext cx="227340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600200"/>
                    <a:ext cx="227340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600200" y="19810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2438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3352680"/>
            <a:ext cx="33530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3733920"/>
            <a:ext cx="3353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419112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7652F-5611-4003-9252-34685F5F3BE7}" type="slidenum">
              <a:t>9</a:t>
            </a:fld>
          </a:p>
        </p:txBody>
      </p:sp>
    </p:spTree>
  </p:cSld>
  <p:transition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3-03T06:25:45Z</dcterms:modified>
  <cp:revision>1291</cp:revision>
  <dc:subject/>
  <dc:title>PowerPoint Presentation</dc:title>
</cp:coreProperties>
</file>