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8004DD3-2EC9-4848-B212-C7FFD0089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F34E330-6EF6-4970-BC9B-30B4E1E60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F0B8411-7EA1-43E7-8414-2A6BD97C6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9D23428-2183-4826-9FB2-3095BBAA0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2D412C0-94AD-4DFF-9B71-7A5D47658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DDC8150-A799-4F67-AD5F-8FEC5EA2C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0097B3A-DED6-4B9E-B7A9-C7CECED79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A1E7E65-FD68-437C-B34F-7F08AF1D6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48EE119-67C5-4816-927C-1B03E7B73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9A722F1-ACEC-4C45-BD0E-784679698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3F51CA6-5455-4481-B7F5-47368C08E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2D12CDB-0C35-4FF6-9D43-9E6DCAE64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078BFAB-1D0D-4BF6-BFFE-7444D293C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7AC748A-05CC-448C-BA06-3143BE8A5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FB021D5-6F97-466F-AFFA-823E1D837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2D66763-21D5-42D4-A5EC-70B453C89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6870E8F-BEAC-4799-A9EB-FE10746BF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0A6D5A3-F3A2-48C5-97E6-8B3EB0626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E89BBC0-27F3-4338-9BA1-E4DEE19F8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B269C4D-FBD1-4DCE-B723-54727A5A1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C083C6F-C984-42C5-9A38-698C2EFEA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9C19B1A-CFCB-4598-BEED-D6013685F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AA7C9EB-CAA3-4F75-9295-9EA664EB4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3E52249-D2B0-4259-9894-06AE26012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34E19AD-695D-41E9-8962-955D2911C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9C63288-BD08-4C18-BF3F-62E001612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B8A26E8-1C18-4E9C-82BC-31DB82774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CFB8F6A-A4E9-4988-8943-654E03B6C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A6234E2-019A-4003-B173-7FE8CC188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83FB365-E2B6-4490-A665-4FD03D4F5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B7F1F7A-E873-4855-93E4-105FE573E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E135F3B-B411-4C02-A520-B2FEC6A3E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CFA39CD-8D60-42D8-8368-F75409528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B37DF44-BC9F-420F-A82C-177E2DE1F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2E70B65-3532-4F8D-9C6D-BD2088A3E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ABAFCAF-41B8-4875-AD54-56CC85471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F4EB74D-C96D-4E93-A7F0-D449484B8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2BA227E-A3EE-4ACA-8C4B-1F764E144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E150382-1365-41EF-802B-84B414909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9415370-906A-4F00-B076-EA2D70896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05E6DD6-33C2-486F-8CF8-83CEFAF66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08B0694-6809-4313-94D2-17DE5876B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8176D14-614D-4335-8E66-F4EC2E8D7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C37A69B-EC31-4396-B167-3A511CA08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43AA46C-9B31-4086-BDF5-2FF93E3FB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F5E55B9-1B80-4031-869F-3E7CF6761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8DAC-163F-4E65-8DF2-7C60B5C9C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15E1-8FAA-47FF-966E-8853FB94B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FA23-EDDA-4398-8630-BDAD04F8D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DBE6-2942-43BB-AFB3-800EC6DF5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F41D-FCDF-44CC-909D-D1141BA08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CF8B-C7C3-4393-874D-642547279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7800-3E63-47A1-92C1-B77A9633D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3810-DF27-47ED-90F0-83C3EF79F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D3F9-7139-42B9-B5CE-464D48982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4A59-54DB-4941-AEC2-2FD21E6BB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0B5F-90E8-4A29-8595-BCA93E1B9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42C9-60C3-4D5C-9FF7-D61477603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75ED-4BC6-4277-B5AE-BC44B4555F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3AD-16DD-4F19-9163-DA5E1DB5DF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11B-47EF-47B8-B8C6-8F74ABEFBF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707B-D4C3-41D9-ACB0-E8C0728417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0F2-2BF4-4AAF-A2CC-2AC620A08B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AAA-C077-4BC4-9E1E-C295683FC2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CEB-910A-4D94-BDCF-1DD6C29290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E711-4242-46CE-9152-3E148BFF98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78D-42C5-4A1E-8548-D286330337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F003-9234-49DF-97C4-C88C54FCC7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29A-8BAD-41CF-B632-AD45A87B12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2FBE-E513-4002-9197-E646AAB309B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F5E9-F6F1-4813-A3C0-CDE3A24450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CC2-DC72-4AD7-98D8-34D5C8BF2F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829A-F204-45ED-866A-5E76E09F56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31E-CCF2-40B7-8FC6-CD06AD9991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3B8-6685-483B-B375-9784BF023A9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E8B-6FF7-4C90-AC55-C996AA2846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D357-3B92-42C0-A3A5-04D1B54751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8F8D-22F2-48E6-AE29-C537CD1DBE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BAA9-CA15-4793-AE61-1D3592137A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7E8-60D5-4D57-ADC2-828051CA2A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A5E6-0BC5-4B60-B6AC-E3E52FF5DD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7CD2-E10A-4D7F-9872-2BBB93C16F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4160-1A78-40EB-84A2-E75539D400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1C3-898F-4D75-9A61-48CFBEA4DA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342-D758-46BA-8EDA-2E60CAF169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8B1C-50E6-4CD5-B7D4-19868A4BEE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11E7-FEA1-4B48-B6B4-D5EAC94660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9F2-BA46-41E6-AFBD-1FFDD1B15E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2D84-5A1B-4220-A004-40709EAE2B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B39-A75B-430F-8743-6475E15350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C92-E001-4A30-935B-D98CEF7AE4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28F-D96B-4989-A577-ED61833853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973A-CF55-436B-B658-82581D9B71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728-01AA-4193-B9BE-682CD9990C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8E09-FE03-4A67-B2C9-3D9D5EE2C2D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A680-3FD9-4585-BC76-DE5FE4D7C18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3AD6-7786-46B4-B277-9E3E0B9E58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928C-50E6-45D5-BB4E-A820606022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9FE9-55C9-4A26-9F5C-228750DEB25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6AB-DDCA-4421-8227-FDCA029D7B5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572-B90E-4770-B217-2285946F34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C27-EABE-4A36-AC6F-C29AD43F94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CD44-6EA0-42D9-80C9-9CDD89485A8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1:31:51Z</dcterms:modified>
  <cp:revision>411</cp:revision>
  <dc:subject/>
  <dc:title>PowerPoint Presentation</dc:title>
</cp:coreProperties>
</file>