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B53884-4D59-4A99-8CB2-EC8A1999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7BE8F4-9333-4311-8382-03D317657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EF7085-DDBD-48DD-8C00-5DB924B24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B02062-AB96-4DB1-98F6-EB61921F1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2B676B5-C9E3-4446-B061-3A029F9D0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4F7CD1-0213-4037-8F22-08D6F1C6D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91306B-4BFB-4009-942B-56AC0F65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05F78D-7787-4158-9C95-691F7494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C103B8D-725B-4D0D-AC4D-8F15D2BE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E4FA40-7CF5-4849-9088-05D21FC7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A2F584-A42A-491E-969B-64175249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556CDA-973C-431C-BB96-6A76E88B3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A4B332-FFF7-4B8B-B254-BA4050AC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F7A78D-569F-4B78-A257-F848DED7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774D97-2CBF-4DAE-9CBC-ECE19DD47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343849-1E37-4EF6-A675-02F5566E4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CBB3CE-759B-451F-A3AD-941F599C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9683BBB-8F57-40C8-95D8-2F469781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DFBB36-15C9-4F5D-9AC0-32F210FD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11F4DC5-2A5D-4963-A524-10514FAD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6CD6A3-D8F8-4D06-979F-D1D49B5B3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D21F1D7-E98E-448E-90DF-751B8D123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F9D048-136E-4F6B-A640-64AE6E89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4D48C5-6B90-4B74-814B-489A79FD4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9BEC6A-7BD9-4654-B3DD-30A902A9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8051DE-C842-4CFD-A869-196A4E8F2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2B0188-7D4B-4625-AED7-EAC823B3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2496C3-7DB8-425F-BF80-DC5DFC850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5609CC-5328-4584-B7BE-9824F45A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C7AAC2-E424-4DAF-BCB0-6C9BD2949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A183D9C-F915-4584-859D-2D72E373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B09844-C333-46B3-B661-ECD38DF9C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B725539-E0BD-4DC0-8469-5E8DA283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FF0DA1-0C11-4C3F-BAD4-F777D016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D104070-BF1A-46FC-84FD-EB8758D0D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EAED0A-0CD7-4BD8-869C-4B90139EE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3BF7C4-F81F-4A2B-AC4E-01CB505B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8517EC-5FE2-4379-9E7D-F46582364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88366C-6B3D-47EC-AA9C-51261756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A45147-C72E-41C2-9B04-912C901D1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0E572E5-2753-4CF5-B6F7-A95EECFD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A43135-9756-4BCF-9F0C-943E5EFD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0AABEF-0200-4E4E-B0F7-95BCE9B7D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551FA1-8547-47ED-B408-BE1FAB66B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50B4-B859-456A-A10A-E63CB43B5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1A87-6E94-41EE-83CF-6A6EDADC2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7A36-C1D3-4B3D-87FA-F31A16E35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3FFA-594C-4F15-B6AF-A53B5E40FD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9518-2AD8-443C-ACBE-7CE10D806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4A58-97C7-420C-B1A1-E0210EED3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17D3-6A1B-454E-B3C7-A4C036AC6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7F91-B212-4632-BACF-372DCD329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AA57-9FE8-485E-8BD1-70AEC645D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839C-E732-4486-81A0-BDAB9D350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F24E-E0E2-4586-B780-1293DD7EC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CF4F-3CC5-40EB-A304-EC9748227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034D-DEFF-486A-B828-376D8ED47F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4D88-9E25-4215-B2E9-1F09741A6B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03B-12E1-4E62-B0EB-C7C525FC1F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9570-AB16-4A46-A81D-43EE54BE455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EF8D-9D33-4FF8-9675-4B6D079F2D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B139-CADD-43DE-836A-8278FF8A79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5DFE-F0CF-416B-9CA0-F04C4518EE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1C5-2475-4B21-B2DA-B03A7E562B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AB9-271B-492C-9B65-A1672768A8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CE27-999D-4020-BBBA-73473DD1E0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E869-ED51-433B-A693-5CEB0BEE0B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D762-74B1-4193-BE99-3513D65D38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05FA-64B4-4E4C-98EC-E59D0CEC30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652-0D22-4796-BBF8-83321EF621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DAF3-AA93-4005-8F63-A3E921EEAF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DDC6-CD48-4602-B6D7-2F18F4F49F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B9E6-5BBD-409A-BC5E-940FD95211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592-CFE8-476B-BDE0-40CE0A15A9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BF8-5B21-4F4C-BDC3-AEE1BCFCAB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AE6E-3605-4241-8AF7-16429887580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FA4C-70DC-479C-889B-EAB7E000E7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A0C-EA3F-47D0-8740-74D3FEF26A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6FD6-723C-4DD7-AE79-FD8CCC32EB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6454-C42A-4C6A-A244-6E194E2C96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309-BE1A-4BFA-916E-708B91A781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FB0-B3D5-456F-9547-8A56CBEA41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5C3-62C9-4ADF-86BD-37D6A4EAB4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B1A-CB9B-4D17-AE8B-B3924044BB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9EC8-0A74-42CD-AA98-453BE1BBDD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FEB-3C5F-487B-8D6E-C50DD44A9D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964-EC86-4D01-B73F-5AE7555C35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9258-B1DD-4E5E-96CA-F43A7B7A30C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E68-FAC3-4CA0-93D3-C0081AA992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4698-67C0-4545-92D4-0CC8475F1C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280A-E40F-4F4D-B7AB-2547F3190E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9EB-411C-4E1F-8A5E-F4967A9819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79C-5768-42AA-9A1D-9BB88F2ED9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8685-9438-4E1A-8728-FB8E7977B2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EBA4-CE79-4F6A-8226-9021D087A1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9F3-C27F-4AA6-B1AB-B6D91BAF14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A8A4-3FCF-4A5D-BC1D-5EF7411679D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41FF-3D1A-47D9-B20C-506DE73D57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11F-2F20-4C4F-BD66-BDED9D64F5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2:35:18Z</dcterms:modified>
  <cp:revision>325</cp:revision>
  <dc:subject/>
  <dc:title>PowerPoint Presentation</dc:title>
</cp:coreProperties>
</file>