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22.jpeg" ContentType="image/jpeg"/>
  <Override PartName="/ppt/media/image42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0.wmf" ContentType="image/x-wmf"/>
  <Override PartName="/ppt/media/image31.wmf" ContentType="image/x-wmf"/>
  <Override PartName="/ppt/media/image46.png" ContentType="image/png"/>
  <Override PartName="/ppt/media/image43.wmf" ContentType="image/x-wmf"/>
  <Override PartName="/ppt/media/image32.wmf" ContentType="image/x-wmf"/>
  <Override PartName="/ppt/media/image47.png" ContentType="image/png"/>
  <Override PartName="/ppt/media/image44.wmf" ContentType="image/x-wmf"/>
  <Override PartName="/ppt/media/image45.wmf" ContentType="image/x-wmf"/>
  <Override PartName="/ppt/media/image10.wmf" ContentType="image/x-wmf"/>
  <Override PartName="/ppt/media/image48.png" ContentType="image/png"/>
  <Override PartName="/ppt/media/image38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9234488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234000" cy="69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0680" cy="34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231880" y="-360"/>
            <a:ext cx="4000680" cy="34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-36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523188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975A06D-0EB5-4A12-ABE5-33159D83D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8B7B076-6DFF-454B-A152-FB325EE3F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A41E244-4D05-42BE-BEE3-F8DD112E1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F819B0A-06AB-4014-90C8-DC37232D2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FA9E2EA-0434-4A99-A6A5-4B6E46B7E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8247D38-63F0-477D-B04D-1238D9DC1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3683FCE-CBDB-43C1-865B-8B2EA9A84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F5156AB-08D6-4F01-ADC0-D9EF7329C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1C18598-EF64-4745-AB85-291C94173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932CE84-5F1A-4779-8687-637E770FC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8CF0D26-D2BB-4D70-821E-1154893F0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EBCDB3A-4345-411A-B488-C576C3CCD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DC2461F-8485-445F-8C19-1111472A7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8602837-53FD-4509-8E8A-BEBCAF6F5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4AA610A-2756-4496-A66D-1DFBB0B74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30314A8-843F-44F7-8F39-569AE4921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F0377B8-15CD-424F-807D-D87A63D52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E882C2B-B194-4230-953C-5716357F9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44E34ED-E835-457D-9388-053CDB1F8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8603473-94CB-417D-AD1D-5A418E11F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055652E-CE1A-4276-8B37-2545D6AF8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629DA9F-810C-4C01-B241-F1D0BDAC2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A1FCBB2-03EE-4E5D-93B2-A801C575D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9F6C837-396B-45F2-BAC5-099907F72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2336D34-6F1B-4BBB-80B5-151B22A16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9D817AC-029A-4447-BFEB-CBFAFD7E8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2ACBFC2-D547-4BD3-B944-733A7F716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CCB2D53-10DB-4617-9D88-F1FDCE2A1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E753218-1D2E-44CA-8F7D-B3C461BD2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BE39278-EC34-4E32-B454-D1FCFFD77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699D37D-56A4-4AD5-B2C0-452E5F84B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45AF92E-39ED-48F5-84D0-4EA092AED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817E102-7782-459A-ACC5-768B36E8E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70E2B21-E48A-4523-802C-9FF814E47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6CE11CE-CA2D-4CB3-94BF-FC609AAE5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3713CB6-5CA4-4FA3-A6EA-0914C5156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3F597FB-A06D-4976-AB06-A8F704BDA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21B4217-CC4B-412F-A273-5D70AB78A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238CF0F-A82E-40AE-94D0-33F2180E0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48F9447-1FD3-49FC-9A88-5DF59117E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EDAEBDB-3BFB-4F74-AB88-A52211E35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AA6EB53-4644-469F-ACC1-2A108E31E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5DA8DFB-F619-42AF-86DD-4B8108B26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9F19B47-82CF-4620-8174-2A15B82C7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E53F6-7C7E-4FE5-B7E2-FA8840CAE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3414E-2475-4880-9895-01B37E552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57031-1D03-46CF-A0BC-0053B557D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DC9A5-E18A-479A-B8C3-DCBADC9105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2CAB8-DF30-44BB-8326-4558459D65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072B1-D1CE-4B0B-8C43-5AC215F2C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4E6F4-4D89-444C-A013-A856EFD50D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FBF4A-2FAA-459B-988B-8D5914513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05A2C-98D1-480E-8448-797AC7ECF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9498C-132F-4175-969D-D0787CE9D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06E1B-A6D0-4A21-8BE6-328255BD6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C2CDB-1A7C-407B-B829-D876B6FB2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51AA-D142-46E6-B474-670CBA3E7D6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cture 0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AE3A-50ED-420D-B371-F6124180ED3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upply Volt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D = 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8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decreased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damage modern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3, 2.5, 1.8, 1.5, 1.2, 1.0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DF06-11F6-4EA6-8CE3-964F87A154D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s as Swi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view MOS transistors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t gate controls path from source to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990720" y="2590920"/>
          <a:ext cx="7162560" cy="34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90920"/>
                    <a:ext cx="716256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3E8B-9556-4BF8-94C4-8974F57FE34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7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45"/>
          <p:cNvGraphicFramePr/>
          <p:nvPr/>
        </p:nvGraphicFramePr>
        <p:xfrm>
          <a:off x="4191120" y="1523880"/>
          <a:ext cx="35938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3880"/>
                    <a:ext cx="35938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1905120"/>
          <a:ext cx="1447920" cy="16761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Object 46"/>
          <p:cNvGraphicFramePr/>
          <p:nvPr/>
        </p:nvGraphicFramePr>
        <p:xfrm>
          <a:off x="762120" y="4572000"/>
          <a:ext cx="3733560" cy="10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572000"/>
                    <a:ext cx="37335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0"/>
          <p:cNvSpPr/>
          <p:nvPr/>
        </p:nvSpPr>
        <p:spPr>
          <a:xfrm>
            <a:off x="16002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3"/>
          <p:cNvSpPr/>
          <p:nvPr/>
        </p:nvSpPr>
        <p:spPr>
          <a:xfrm>
            <a:off x="16002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8"/>
          <p:cNvSpPr/>
          <p:nvPr/>
        </p:nvSpPr>
        <p:spPr>
          <a:xfrm>
            <a:off x="9144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9"/>
          <p:cNvSpPr/>
          <p:nvPr/>
        </p:nvSpPr>
        <p:spPr>
          <a:xfrm>
            <a:off x="9144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5"/>
          <p:cNvSpPr/>
          <p:nvPr/>
        </p:nvSpPr>
        <p:spPr>
          <a:xfrm>
            <a:off x="5944320" y="41148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6"/>
          <p:cNvSpPr/>
          <p:nvPr/>
        </p:nvSpPr>
        <p:spPr>
          <a:xfrm>
            <a:off x="5944680" y="304812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1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2"/>
          <p:cNvSpPr/>
          <p:nvPr/>
        </p:nvSpPr>
        <p:spPr>
          <a:xfrm>
            <a:off x="5943600" y="411480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4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5867280" y="4114800"/>
            <a:ext cx="83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5868360" y="304812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3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4"/>
          <p:cNvSpPr/>
          <p:nvPr/>
        </p:nvSpPr>
        <p:spPr>
          <a:xfrm>
            <a:off x="5867280" y="41148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0"/>
          <p:cNvSpPr/>
          <p:nvPr/>
        </p:nvSpPr>
        <p:spPr>
          <a:xfrm>
            <a:off x="4800600" y="32767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E0C4-B1FB-4330-923B-E92C0A9D110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Object 21"/>
          <p:cNvGraphicFramePr/>
          <p:nvPr/>
        </p:nvGraphicFramePr>
        <p:xfrm>
          <a:off x="1295280" y="4572000"/>
          <a:ext cx="127332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72000"/>
                    <a:ext cx="12733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48"/>
          <p:cNvSpPr/>
          <p:nvPr/>
        </p:nvSpPr>
        <p:spPr>
          <a:xfrm>
            <a:off x="2362320" y="2286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9"/>
          <p:cNvSpPr/>
          <p:nvPr/>
        </p:nvSpPr>
        <p:spPr>
          <a:xfrm>
            <a:off x="2362320" y="2819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0"/>
          <p:cNvSpPr/>
          <p:nvPr/>
        </p:nvSpPr>
        <p:spPr>
          <a:xfrm>
            <a:off x="2362320" y="3429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109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50" name="Text Box 52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54"/>
            <p:cNvSpPr/>
            <p:nvPr/>
          </p:nvSpPr>
          <p:spPr>
            <a:xfrm>
              <a:off x="541116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55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56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57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58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10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57" name="Text Box 111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12"/>
            <p:cNvSpPr/>
            <p:nvPr/>
          </p:nvSpPr>
          <p:spPr>
            <a:xfrm>
              <a:off x="5410440" y="213372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13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14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15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16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31"/>
          <p:cNvGrpSpPr/>
          <p:nvPr/>
        </p:nvGrpSpPr>
        <p:grpSpPr>
          <a:xfrm>
            <a:off x="4268880" y="2209680"/>
            <a:ext cx="3579480" cy="2593440"/>
            <a:chOff x="4268880" y="2209680"/>
            <a:chExt cx="3579480" cy="2593440"/>
          </a:xfrm>
        </p:grpSpPr>
        <p:sp>
          <p:nvSpPr>
            <p:cNvPr id="164" name="Text Box 118"/>
            <p:cNvSpPr/>
            <p:nvPr/>
          </p:nvSpPr>
          <p:spPr>
            <a:xfrm>
              <a:off x="693432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19"/>
            <p:cNvSpPr/>
            <p:nvPr/>
          </p:nvSpPr>
          <p:spPr>
            <a:xfrm>
              <a:off x="5410800" y="220968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20"/>
            <p:cNvSpPr/>
            <p:nvPr/>
          </p:nvSpPr>
          <p:spPr>
            <a:xfrm>
              <a:off x="6933960" y="43434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21"/>
            <p:cNvSpPr/>
            <p:nvPr/>
          </p:nvSpPr>
          <p:spPr>
            <a:xfrm>
              <a:off x="6933960" y="34290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22"/>
            <p:cNvSpPr/>
            <p:nvPr/>
          </p:nvSpPr>
          <p:spPr>
            <a:xfrm>
              <a:off x="4268880" y="41148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23"/>
            <p:cNvSpPr/>
            <p:nvPr/>
          </p:nvSpPr>
          <p:spPr>
            <a:xfrm>
              <a:off x="4268880" y="32004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124"/>
          <p:cNvGrpSpPr/>
          <p:nvPr/>
        </p:nvGrpSpPr>
        <p:grpSpPr>
          <a:xfrm>
            <a:off x="4269240" y="2209680"/>
            <a:ext cx="3579480" cy="2593080"/>
            <a:chOff x="4269240" y="2209680"/>
            <a:chExt cx="3579480" cy="2593080"/>
          </a:xfrm>
        </p:grpSpPr>
        <p:sp>
          <p:nvSpPr>
            <p:cNvPr id="171" name="Text Box 125"/>
            <p:cNvSpPr/>
            <p:nvPr/>
          </p:nvSpPr>
          <p:spPr>
            <a:xfrm>
              <a:off x="693468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26"/>
            <p:cNvSpPr/>
            <p:nvPr/>
          </p:nvSpPr>
          <p:spPr>
            <a:xfrm>
              <a:off x="541044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27"/>
            <p:cNvSpPr/>
            <p:nvPr/>
          </p:nvSpPr>
          <p:spPr>
            <a:xfrm>
              <a:off x="6934320" y="43430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28"/>
            <p:cNvSpPr/>
            <p:nvPr/>
          </p:nvSpPr>
          <p:spPr>
            <a:xfrm>
              <a:off x="6934320" y="34286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29"/>
            <p:cNvSpPr/>
            <p:nvPr/>
          </p:nvSpPr>
          <p:spPr>
            <a:xfrm>
              <a:off x="4269240" y="41144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30"/>
            <p:cNvSpPr/>
            <p:nvPr/>
          </p:nvSpPr>
          <p:spPr>
            <a:xfrm>
              <a:off x="4269240" y="32000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80"/>
          <p:cNvGrpSpPr/>
          <p:nvPr/>
        </p:nvGrpSpPr>
        <p:grpSpPr>
          <a:xfrm>
            <a:off x="4267080" y="2209680"/>
            <a:ext cx="3429000" cy="2590560"/>
            <a:chOff x="4267080" y="2209680"/>
            <a:chExt cx="3429000" cy="2590560"/>
          </a:xfrm>
        </p:grpSpPr>
        <p:sp>
          <p:nvSpPr>
            <p:cNvPr id="178" name="Rectangle 53"/>
            <p:cNvSpPr/>
            <p:nvPr/>
          </p:nvSpPr>
          <p:spPr>
            <a:xfrm>
              <a:off x="4267080" y="411444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75"/>
            <p:cNvSpPr/>
            <p:nvPr/>
          </p:nvSpPr>
          <p:spPr>
            <a:xfrm>
              <a:off x="4267080" y="312408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76"/>
            <p:cNvSpPr/>
            <p:nvPr/>
          </p:nvSpPr>
          <p:spPr>
            <a:xfrm>
              <a:off x="6934320" y="43430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77"/>
            <p:cNvSpPr/>
            <p:nvPr/>
          </p:nvSpPr>
          <p:spPr>
            <a:xfrm>
              <a:off x="6934320" y="34286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8"/>
            <p:cNvSpPr/>
            <p:nvPr/>
          </p:nvSpPr>
          <p:spPr>
            <a:xfrm>
              <a:off x="70102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79"/>
            <p:cNvSpPr/>
            <p:nvPr/>
          </p:nvSpPr>
          <p:spPr>
            <a:xfrm>
              <a:off x="54100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4" name="Object 19"/>
          <p:cNvGraphicFramePr/>
          <p:nvPr/>
        </p:nvGraphicFramePr>
        <p:xfrm>
          <a:off x="3505320" y="1905120"/>
          <a:ext cx="5029200" cy="38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905120"/>
                    <a:ext cx="502920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ADCD-EBFD-42EA-BE19-452D1DD4C1A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OR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Object 31"/>
          <p:cNvGraphicFramePr/>
          <p:nvPr/>
        </p:nvGraphicFramePr>
        <p:xfrm>
          <a:off x="1219320" y="4495680"/>
          <a:ext cx="12841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495680"/>
                    <a:ext cx="12841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2"/>
          <p:cNvGraphicFramePr/>
          <p:nvPr/>
        </p:nvGraphicFramePr>
        <p:xfrm>
          <a:off x="3505320" y="1600200"/>
          <a:ext cx="5181480" cy="42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600200"/>
                    <a:ext cx="518148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6415-FCBB-4C73-AE39-E98003B4653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low if ALL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high if ANY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2209680" y="2438280"/>
          <a:ext cx="4648320" cy="35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4648320" cy="35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5"/>
          <p:cNvSpPr/>
          <p:nvPr/>
        </p:nvSpPr>
        <p:spPr>
          <a:xfrm>
            <a:off x="2209680" y="2666880"/>
            <a:ext cx="449604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759D-26F5-405C-9CA3-E8626137B1F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 are fabricated on silicon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hography process similar to printing 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each step, different materials are deposited or e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st to understand by viewing both top and cross-section of wafer in a simplified manufactur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E006-93C4-43A9-852D-7FCDACEF356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Cross-se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 p-type substrate for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n-well for body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609480" y="2590920"/>
          <a:ext cx="8153640" cy="26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815364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EC76-5304-479C-B3B4-582C5B1AEA3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and Substrate T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rate must be tied to GND and n-well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to lightly-doped semiconductor forms poor connection called Shottky 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eavily doped well and substrate contacts /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457200" y="3130560"/>
          <a:ext cx="8077320" cy="29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30560"/>
                    <a:ext cx="807732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37A6-8F88-42C5-9CF2-4C1452D648B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Mask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nd wires are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section taken along dashe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533520" y="2514600"/>
          <a:ext cx="800100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800100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73C8-103D-4DF2-8EEB-0378409E0CB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ircuits: many transistors on one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y Large Scale Integ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LSI): bucketloa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lementary Metal Oxide Semicond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cheap, low pow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:  How to build your own simple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logic gates from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layout and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 of the course: How to build a good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BA9E-0678-444F-922E-B951417CFCA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tailed Mask View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4038480" y="1523880"/>
          <a:ext cx="4148280" cy="44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523880"/>
                    <a:ext cx="4148280" cy="44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4544-15B6-45CB-9A85-BCB1A9F9D47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built in huge factories called f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clean rooms as large as football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0301"/>
          <p:cNvPicPr/>
          <p:nvPr/>
        </p:nvPicPr>
        <p:blipFill>
          <a:blip r:embed="rId1"/>
          <a:stretch/>
        </p:blipFill>
        <p:spPr>
          <a:xfrm>
            <a:off x="1295280" y="2514600"/>
            <a:ext cx="4572000" cy="3392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5868720" y="5410080"/>
            <a:ext cx="203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of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Machines Corporati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authorized use not permit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3330-FE60-46A2-81E1-31348F0B558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Ste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blank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verter from the botto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ep will be to form the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wafer with protective layer o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layer where n-well should be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ant or diffuse n dopants into exposed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5"/>
          <p:cNvGraphicFramePr/>
          <p:nvPr/>
        </p:nvGraphicFramePr>
        <p:xfrm>
          <a:off x="533520" y="5097600"/>
          <a:ext cx="815328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097600"/>
                    <a:ext cx="815328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4991-1695-414C-A81B-0072C27D4E5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xid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op of Si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 – 1200 C with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or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oxidation furn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533520" y="487692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7692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DCD8-3265-4AF6-9F7E-92A98C96751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on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resist is a light-sensitive organic poly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ens where exposed t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533520" y="472428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2428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0F15-8D93-4EAB-B0FF-B819B0D6EED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thograph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photoresist through n-well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exposed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4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5"/>
          <p:cNvGraphicFramePr/>
          <p:nvPr/>
        </p:nvGraphicFramePr>
        <p:xfrm>
          <a:off x="990720" y="3429000"/>
          <a:ext cx="648468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429000"/>
                    <a:ext cx="64846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29A5-06BE-43F0-87B1-6A9E73A5282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ith hydrofluoric acid (H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ps through skin and eats bone; nasty stuff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ttacks oxide where resist has been ex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D771-C3F1-4AF6-9C43-4960004414B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remaining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ixture of acids called piranah 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so resist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melt in next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533520" y="4898880"/>
          <a:ext cx="807696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98880"/>
                    <a:ext cx="807696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AD88-7627-4F1D-805D-215C7F642B0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w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 is formed with diffusion or ion 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arsenic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until As atoms diffuse into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Implan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wafer with beam of As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blocked by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ly enter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533520" y="488808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8808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49A0-0C86-45AE-A676-2BE30C95EB2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Ox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the remaining oxide using 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to bare wafer with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steps involve similar series of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33520" y="5105520"/>
          <a:ext cx="815328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05520"/>
                    <a:ext cx="81532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4E6E-78A5-40EB-8500-F7FDBA985A7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Latt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built on a silico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Group IV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crystal lattice with bonds to four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4"/>
          <p:cNvGraphicFramePr/>
          <p:nvPr/>
        </p:nvGraphicFramePr>
        <p:xfrm>
          <a:off x="2895480" y="2895480"/>
          <a:ext cx="312444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95480"/>
                    <a:ext cx="312444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6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9CBF-A453-423F-91D7-8C951B22C41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 very thin layer of gate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6-7 atomic lay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Vapor Deposition (CVD) of silicon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Silane gas (Si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many small crystals called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ily doped to be good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86EB-B600-414E-AB75-C6AA74EFFEE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 Patter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ame lithography process to pattern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6"/>
          <p:cNvGraphicFramePr/>
          <p:nvPr/>
        </p:nvGraphicFramePr>
        <p:xfrm>
          <a:off x="304920" y="2590920"/>
          <a:ext cx="822960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22960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7"/>
          <p:cNvGraphicFramePr/>
          <p:nvPr/>
        </p:nvGraphicFramePr>
        <p:xfrm>
          <a:off x="533520" y="4772160"/>
          <a:ext cx="8153280" cy="122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72160"/>
                    <a:ext cx="815328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F9CE-E649-4A95-ABB3-B773A419ADA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Aligned Proces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xide and masking to expose where n+ dopants should be diffused or impl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diffusion forms nMOS source, drain, and n-well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4A58-1B14-4239-A805-41C07B419BE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oxide and form n+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-aligned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gate blocks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is better than metal for self-aligned gates because it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melt during la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4"/>
          <p:cNvGraphicFramePr/>
          <p:nvPr/>
        </p:nvGraphicFramePr>
        <p:xfrm>
          <a:off x="609480" y="4751280"/>
          <a:ext cx="8077320" cy="13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51280"/>
                    <a:ext cx="807732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5"/>
          <p:cNvGraphicFramePr/>
          <p:nvPr/>
        </p:nvGraphicFramePr>
        <p:xfrm>
          <a:off x="380880" y="3352680"/>
          <a:ext cx="822960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52680"/>
                    <a:ext cx="82296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4201-52C5-47D7-876F-C8CFBFFC521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 dopants were diff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ion implanta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gions are still calle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3BAD-E047-44D5-802F-86B9181F3FC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oxide to complete patterning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B331-4334-4F38-9CE2-B81BED0EB58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set of steps form p+ diffusion regions for pMOS source and drain and substrat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4"/>
          <p:cNvGraphicFramePr/>
          <p:nvPr/>
        </p:nvGraphicFramePr>
        <p:xfrm>
          <a:off x="380880" y="3276720"/>
          <a:ext cx="822960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76720"/>
                    <a:ext cx="82296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56D5-5ACF-49A2-B664-76CE4BC2224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need to wire together th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chip with thick field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here contact cut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533520" y="4675320"/>
          <a:ext cx="815328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75320"/>
                    <a:ext cx="81532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5"/>
          <p:cNvGraphicFramePr/>
          <p:nvPr/>
        </p:nvGraphicFramePr>
        <p:xfrm>
          <a:off x="304920" y="3581280"/>
          <a:ext cx="800100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80010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63062-D9B0-4BB6-B068-6111F69F96C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al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tter on aluminum over whole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to remove excess metal, leav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533520" y="4660920"/>
          <a:ext cx="815328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60920"/>
                    <a:ext cx="815328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5"/>
          <p:cNvGraphicFramePr/>
          <p:nvPr/>
        </p:nvGraphicFramePr>
        <p:xfrm>
          <a:off x="304920" y="2362320"/>
          <a:ext cx="792468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362320"/>
                    <a:ext cx="79246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18E2-EC14-4160-8AB8-141842123CD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specified with set of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dimensions of masks determine transistor size (and hence speed, cost, and p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istance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by minimum width of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improves 30% every 3 years or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for feature size when describing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rules in term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142F-BEDA-4563-9F74-817D446B532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pa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silicon has no free carriers and conducts poo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dopants increases the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V: extra electron (n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III: missing electron, called hole (p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1905120" y="4027320"/>
          <a:ext cx="441936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027320"/>
                    <a:ext cx="44193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9000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FF8D-4438-4001-9FAF-7B5B51136D1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Design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rules to get you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96080" cy="403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D4DBF-1865-40FF-BBFF-DE0BFA96023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1163520" cy="28958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dimensions specified as Width /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 is 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1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, this is 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,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4191120" cy="237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2A5C-E961-4694-8862-DDACED6F85D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transistors are stacks of gate, oxide, 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logic gates out of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masks to specify layout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you know everything necessary to start designing schematics and layout for a simple chi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F67A-DE25-40FD-9F9D-43FA6017625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bout these No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 © 2011 David Money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notes may be used and modified for educational and/or non-commercial purposes so long as the source is at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D88D-8139-4A65-8DDC-BDC5C16578D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n Junc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unction between p-type and n-type semiconductor forms a d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only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2286000" y="2881440"/>
          <a:ext cx="434340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81440"/>
                    <a:ext cx="43434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19D5-CF3A-4A39-804D-CD925447AD3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inals: gate, source, drain,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body stack looks like a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body are 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 is a very good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metal – oxide – semiconductor (MOS)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gat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made of metal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Metal gates are returning tod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4267080" y="3800520"/>
          <a:ext cx="4289400" cy="21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800520"/>
                    <a:ext cx="4289400" cy="21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455A-7619-4EBC-8E91-99390196D44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is usually tied to ground (0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low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type body is at low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-body and drain-body diodes ar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urrent flows, transistor i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5"/>
          <p:cNvGraphicFramePr/>
          <p:nvPr/>
        </p:nvGraphicFramePr>
        <p:xfrm>
          <a:off x="2209680" y="3733920"/>
          <a:ext cx="419112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733920"/>
                    <a:ext cx="419112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C0D4-037F-4F0A-B964-1C2F579DDF0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high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charge on gate of 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charge attracted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s a channel under gate to n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urrent can flow through n-type silicon from source through channel to drain, transistor i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2819520" y="4114800"/>
          <a:ext cx="3429000" cy="18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114800"/>
                    <a:ext cx="342900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32E6-287A-4D11-AD40-727BE3D6460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, but doping and voltage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tied to high 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ow: transisto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high: transist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indicates inver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2057400" y="3733920"/>
          <a:ext cx="441972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733920"/>
                    <a:ext cx="44197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5-01-22T22:35:18Z</dcterms:modified>
  <cp:revision>325</cp:revision>
  <dc:subject/>
  <dc:title>PowerPoint Presentation</dc:title>
</cp:coreProperties>
</file>