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11CBC-6A0E-4C9C-98C3-FBBD506B0C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8D2B4-FCD1-432D-BD41-F3F14221C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D71B9-AB77-41DE-9C1C-171C119461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0F651-FC5B-4EF2-ACCB-81E0A46028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9E9BA-5230-448B-AC9A-2A467CC356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78A84-3620-4481-925A-1E94FA6A6A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A4C6F-A284-4C20-9C32-F3CF509DD4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BB76F-E90A-4AEF-8DE9-6B9B4EFB15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D3E2C-4AC5-4544-90EB-9CD71AAEA3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1F126-70A9-4F41-B01F-FE6472993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FD83E-2CA3-4E8D-874E-69EA3FD754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A8896-620A-4A1B-9504-D61A59830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4263-585C-4FEC-9297-125E891CC54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9: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binational Circuit Desig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1E56C-DF57-4055-A3B3-134A1B553CED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put Or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parasitic delay model was too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parasitic delay for Y fa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arrives latest? 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 arrives latest?  2.3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05120" y="3733920"/>
          <a:ext cx="396216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396216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495680" y="25146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8954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17B77-2F91-49BA-8035-3CD1FA9B95F4}" type="slidenum">
              <a:t>10</a:t>
            </a:fld>
          </a:p>
        </p:txBody>
      </p:sp>
    </p:spTree>
  </p:cSld>
  <p:transition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ner &amp; Outer Inpu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 is closest to output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 is closest to rail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put arrival time is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latest input to inner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5880" y="1676520"/>
          <a:ext cx="3657600" cy="18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76520"/>
                    <a:ext cx="3657600" cy="18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592CB-358D-41A0-9EE1-A054EDB950A3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ymmetric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s favor one input over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uppose input A of a NAND gate is most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er transistor on A (less capacit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st size of non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otal resistance is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8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 approaches g = 1 on 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otal logical effort goe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715000" y="2819520"/>
          <a:ext cx="3276720" cy="23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819520"/>
                    <a:ext cx="32767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905120" y="38098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4191120"/>
            <a:ext cx="914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4648320"/>
            <a:ext cx="914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CCBEB-756F-4200-A9A0-C906C5E78AF9}" type="slidenum">
              <a:t>12</a:t>
            </a:fld>
          </a:p>
        </p:txBody>
      </p:sp>
    </p:spTree>
  </p:cSld>
  <p:transition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ymmetric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 can be made perfectly sym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905120" y="2438280"/>
          <a:ext cx="419076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438280"/>
                    <a:ext cx="41907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4C5FD-C0C8-4A15-9728-0B5E407046E6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e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 favor one edge over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uppose rising output of inverter is most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ize noncritical nMOS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logical effort by comparing to unskewed inverter with same effective resistance on that 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5 / 3 = 5/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5 / 1.5 = 5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600200" y="2895480"/>
          <a:ext cx="5334120" cy="15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895480"/>
                    <a:ext cx="533412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209680" y="5257800"/>
            <a:ext cx="1981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5715000"/>
            <a:ext cx="1981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EBC9A-A2C4-4DBF-B733-0937090308E9}" type="slidenum">
              <a:t>14</a:t>
            </a:fld>
          </a:p>
        </p:txBody>
      </p:sp>
    </p:spTree>
  </p:cSld>
  <p:transition>
    <p:zoom dir="ou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- and LO-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: Logical effort of a skewed gate for a particular transition is the ratio of the input capacitance of that gate to the input capacitance of an unskewed inverter delivering the same output current for the same tran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 reduce size of noncritical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-skew gates favor rising output (small n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-skew gates favor falling output (small p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smaller for favored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arger for the other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82A9B-0DFF-4A31-ADBB-570CE730FE24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544760"/>
          <a:ext cx="7769160" cy="43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44760"/>
                    <a:ext cx="776916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85800" y="1544760"/>
          <a:ext cx="7769160" cy="439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544760"/>
                    <a:ext cx="776916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85800" y="1542960"/>
          <a:ext cx="7772400" cy="440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1542960"/>
                    <a:ext cx="777240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Skewe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87C60-44AB-4686-B5AC-151CC22B6B7A}" type="slidenum">
              <a:t>16</a:t>
            </a:fld>
          </a:p>
        </p:txBody>
      </p:sp>
    </p:spTree>
  </p:cSld>
  <p:transition>
    <p:zoom dir="ou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ymmetric 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asymmetric and skewe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ize noncritical transistor on unimportan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parasitic delay for 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048120" y="3657600"/>
          <a:ext cx="327636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657600"/>
                    <a:ext cx="327636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4F2BE-64FB-408A-9A72-09B4D42BCDDA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P/N Rati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lected P/N ratio for unit rise and fall resistanc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-3 for an inver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: choose ratio for least averag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driving identical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(1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/2 = (P + 1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dP = (1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2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t delay for P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243320" y="5373720"/>
          <a:ext cx="50472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3320" y="5373720"/>
                    <a:ext cx="5047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286000" y="3733920"/>
            <a:ext cx="3886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4191120"/>
            <a:ext cx="3886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4572000"/>
            <a:ext cx="4876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5029200"/>
            <a:ext cx="48765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5410080"/>
            <a:ext cx="1219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172200" y="2971800"/>
          <a:ext cx="1924200" cy="14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2971800"/>
                    <a:ext cx="192420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C68A1-35F4-45AF-B78C-1015E8CD6F31}" type="slidenum">
              <a:t>18</a:t>
            </a:fld>
          </a:p>
        </p:txBody>
      </p:sp>
    </p:spTree>
  </p:cSld>
  <p:transition>
    <p:zoom dir="ou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685800" y="3505320"/>
          <a:ext cx="78487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05320"/>
                    <a:ext cx="78487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685800" y="3505320"/>
          <a:ext cx="7848720" cy="19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505320"/>
                    <a:ext cx="78487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Rati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best P/N ratio is sqrt of equal delay rat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mproves average delay slightly for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ignificantly decreases area an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99937-2E3B-4BFE-AB9A-E03FD8C2DFAD}" type="slidenum">
              <a:t>19</a:t>
            </a:fld>
          </a:p>
        </p:txBody>
      </p:sp>
    </p:spTree>
  </p:cSld>
  <p:transition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Pu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P/N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31264-CE06-4DA6-AF21-17D3C092CEF3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p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 vs. 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imple stages vs. fewer high fan-i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st-arriving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rea and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imple stages vs. fewer high fan-i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6695D-23E8-43EF-8D58-48DF817EA3D1}" type="slidenum">
              <a:t>20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mux(input  s, d0, d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put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ign y = s ? d1 : d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Sketch a design using AND, OR, and NOT g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981080" y="4038480"/>
          <a:ext cx="3353040" cy="19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038480"/>
                    <a:ext cx="335304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07416-256A-48FF-B4C3-238504620942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Sketch a design using NAND, NOR, and NOT gates.  Assume ~S i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828800" y="2666880"/>
          <a:ext cx="4343400" cy="23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666880"/>
                    <a:ext cx="4343400" cy="23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57C57-55B8-4005-A3D6-305F349EE01A}" type="slidenum">
              <a:t>4</a:t>
            </a:fld>
          </a:p>
        </p:txBody>
      </p:sp>
    </p:spTree>
  </p:cSld>
  <p:transition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bble Push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network of AND / 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to NAND / NOR +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bubbles around to simplify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DeMorgan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477120" y="2133720"/>
          <a:ext cx="1981080" cy="11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2133720"/>
                    <a:ext cx="198108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143000" y="3352680"/>
          <a:ext cx="6781680" cy="264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352680"/>
                    <a:ext cx="6781680" cy="26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7208D-C7A4-4464-9B6F-FD5276F4C5F2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Sketch a design using one compound gate and one NOT gate. Assume ~S i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71600" y="3048120"/>
          <a:ext cx="6095880" cy="24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048120"/>
                    <a:ext cx="6095880" cy="24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41158-3223-436F-9E05-EDE97EB9CFEA}" type="slidenum">
              <a:t>6</a:t>
            </a:fld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oun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of compou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90720" y="2057400"/>
          <a:ext cx="6705360" cy="40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6705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72428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952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5334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5638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4952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5181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55627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5791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E7A06-DF68-4DAD-865E-B054CFA6D36B}" type="slidenum">
              <a:t>7</a:t>
            </a:fld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ltiplexer has a maximum input capacitance of 16 units on each input.  It must drive a load of 160 units.  Estimate the delay of the two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19320" y="4648320"/>
          <a:ext cx="175248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648320"/>
                    <a:ext cx="175248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066680" y="3124080"/>
          <a:ext cx="2971800" cy="16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124080"/>
                    <a:ext cx="297180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419720" y="3124080"/>
          <a:ext cx="3962160" cy="157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124080"/>
                    <a:ext cx="396216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143000" y="2743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160 / 16 = 10   B = 1   N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495680" y="4572000"/>
          <a:ext cx="138600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4572000"/>
                    <a:ext cx="13860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828800" y="2819520"/>
            <a:ext cx="1828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46483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4876920"/>
            <a:ext cx="1600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518148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541008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57913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457200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48769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51055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541008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571500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71EDA-5DA6-40EA-836A-6BAAE46D9669}" type="slidenum">
              <a:t>8</a:t>
            </a:fld>
          </a:p>
        </p:txBody>
      </p:sp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838080" y="2514600"/>
          <a:ext cx="754380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754380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e your designs with transistor sizes that achieve this de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38080" y="2514600"/>
          <a:ext cx="754380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514600"/>
                    <a:ext cx="754380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838080" y="2514600"/>
          <a:ext cx="7543800" cy="301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514600"/>
                    <a:ext cx="75438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13CBB-45FA-4749-A1DF-43E157BF49C8}" type="slidenum">
              <a:t>9</a:t>
            </a:fld>
          </a:p>
        </p:txBody>
      </p:sp>
    </p:spTree>
  </p:cSld>
  <p:transition>
    <p:zoom dir="ou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24T01:33:11Z</dcterms:modified>
  <cp:revision>1061</cp:revision>
  <dc:subject/>
  <dc:title>PowerPoint Presentation</dc:title>
</cp:coreProperties>
</file>