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1B5C1-D07D-468F-BD63-0842F3649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32A8B-9363-4C1B-8370-491DCFD04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E9BA-F2BC-4C09-80FB-F7BF0E36E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9E2C1-2F52-41C0-9CD0-1ECE9EB3C9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FDC47-658D-4EC7-92C9-1A6626DD5E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569DE-F2B0-4122-81BD-E7265064E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27F2-6416-4EF3-90CC-C4E8D0720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493FD-DFAF-414F-9BDE-9D3032ED9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585E-E339-4154-977A-202F60C06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02DE1-3953-436B-AB31-FAAFE8A72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55208-70DE-498C-94A5-86E36133E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92F56-87AE-40D2-82F2-42278EA02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50B0-4F45-4EF0-B8BD-EE7274B5123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9: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binational Circuit Desig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B72C7-8EC5-4509-ADD6-D749B03DFF6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Or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arasitic delay model was too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arasitic delay for Y f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arrives latest? 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arrives latest?  2.3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05120" y="3733920"/>
          <a:ext cx="39621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39621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25146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8954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4600-E6D7-45BD-B9E8-722A48558996}" type="slidenum">
              <a:t>10</a:t>
            </a:fld>
          </a:p>
        </p:txBody>
      </p:sp>
    </p:spTree>
  </p:cSld>
  <p:transition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ner &amp; Outer Inpu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output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rail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put arrival time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latest input to inner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5880" y="1676520"/>
          <a:ext cx="3657600" cy="18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76520"/>
                    <a:ext cx="3657600" cy="18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6747C-71B1-4B3A-B4EB-5DD712342FD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 favor one input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input A of a NAND gate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er transistor on A (less capaci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size of non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otal resistance is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 approaches g = 1 on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otal logical effort go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715000" y="2819520"/>
          <a:ext cx="327672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819520"/>
                    <a:ext cx="32767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905120" y="38098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41911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46483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03470-3D77-4A7C-A071-5527AD4676BC}" type="slidenum">
              <a:t>12</a:t>
            </a:fld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can be made perfectly 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05120" y="2438280"/>
          <a:ext cx="419076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41907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5ED13-0646-4739-A750-A17C6B22DBE7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favor one edge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rising output of inverter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nMOS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logical effort by comparing to unskewed inverter with same effective resistance on that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3 = 5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1.5 = 5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00200" y="2895480"/>
          <a:ext cx="533412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53341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209680" y="52578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57150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1F98-A7A2-49E7-9FD0-D4A3692DF906}" type="slidenum">
              <a:t>14</a:t>
            </a:fld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- and LO-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Logical effort of a skewed gate for a particular transition is the ratio of the input capacitance of that gate to the input capacitance of an unskewed inverter delivering the same output current for the same tran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reduce size of noncritical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 gates favor rising output (small n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-skew gates favor falling output (small p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smaller for favor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arger for the other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8F48-7BB3-4A5A-8328-F05C6992EC1B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85800" y="1542960"/>
          <a:ext cx="7772400" cy="440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542960"/>
                    <a:ext cx="77724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EB06D-59E0-4970-A82F-3F4F6ADB3B2D}" type="slidenum">
              <a:t>16</a:t>
            </a:fld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symmetric and 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transistor on unimportan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parasitic delay for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8120" y="3657600"/>
          <a:ext cx="32763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2763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F7313-C13E-4BC1-82E1-3EF50BCAC041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P/N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lected P/N ratio for unit rise and fall resistan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3 for an inver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choose ratio for least averag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driving identical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1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 = (P + 1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dP = (1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delay for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243320" y="5373720"/>
          <a:ext cx="50472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3320" y="5373720"/>
                    <a:ext cx="5047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286000" y="37339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41911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4572000"/>
            <a:ext cx="4876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5029200"/>
            <a:ext cx="4876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41008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172200" y="2971800"/>
          <a:ext cx="1924200" cy="14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2971800"/>
                    <a:ext cx="192420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E7C4A-631A-4686-BC60-D88BBA159532}" type="slidenum">
              <a:t>18</a:t>
            </a:fld>
          </a:p>
        </p:txBody>
      </p:sp>
    </p:spTree>
  </p:cSld>
  <p:transition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ati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best P/N ratio is sqrt of equal delay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roves average delay slightly for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gnificantly decreases area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A46B9-155E-4397-8D2E-FB87282EDF60}" type="slidenum">
              <a:t>19</a:t>
            </a:fld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Pu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01CB7-4FF0-41CE-9E8C-33A0AAFC941E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p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 vs.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st-arriving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rea and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15E77-46A2-446D-850C-541744518806}" type="slidenum">
              <a:t>20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mux(input  s, d0, d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y = s ? d1 : d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ketch a design using AND, OR, and NOT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81080" y="4038480"/>
          <a:ext cx="3353040" cy="19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335304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3CC1A-371F-4180-9041-34ADAC7F7948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Sketch a design using NAND, NOR, and NOT gates. 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28800" y="2666880"/>
          <a:ext cx="4343400" cy="23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666880"/>
                    <a:ext cx="4343400" cy="23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81AF-6CFD-474B-A910-1F706A7324F7}" type="slidenum">
              <a:t>4</a:t>
            </a:fld>
          </a:p>
        </p:txBody>
      </p:sp>
    </p:spTree>
  </p:cSld>
  <p:transition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bble Pus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etwork of AND / 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NAND / NOR +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bubbles around to simplify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DeMorgan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77120" y="2133720"/>
          <a:ext cx="198108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2133720"/>
                    <a:ext cx="198108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143000" y="3352680"/>
          <a:ext cx="6781680" cy="26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352680"/>
                    <a:ext cx="6781680" cy="26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DA07-B225-4430-8DA6-6AA59D9FD8A8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Sketch a design using one compound gate and one NOT gate.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71600" y="3048120"/>
          <a:ext cx="609588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8120"/>
                    <a:ext cx="609588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4C3E1-98CD-4D89-8480-9540FC813138}" type="slidenum">
              <a:t>6</a:t>
            </a:fld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90720" y="2057400"/>
          <a:ext cx="670536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6705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72428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5638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5181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55627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791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757B-B57F-405B-BA7C-178A36632A7B}" type="slidenum">
              <a:t>7</a:t>
            </a:fld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ltiplexer has a maximum input capacitance of 16 units on each input.  It must drive a load of 160 units.  Estimate the delay of the two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19320" y="4648320"/>
          <a:ext cx="175248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648320"/>
                    <a:ext cx="17524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066680" y="3124080"/>
          <a:ext cx="2971800" cy="16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124080"/>
                    <a:ext cx="29718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419720" y="3124080"/>
          <a:ext cx="3962160" cy="157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124080"/>
                    <a:ext cx="396216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143000" y="2743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60 / 16 = 10   B = 1   N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495680" y="4572000"/>
          <a:ext cx="138600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4572000"/>
                    <a:ext cx="13860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828800" y="2819520"/>
            <a:ext cx="1828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4648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8769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51814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5791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4572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48769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571500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525F-149D-4EDE-A842-ADCD59203BCC}" type="slidenum">
              <a:t>8</a:t>
            </a:fld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your designs with transistor sizes that achieve this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38080" y="2514600"/>
          <a:ext cx="7543800" cy="301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514600"/>
                    <a:ext cx="7543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1BD0B-694C-453E-83D9-6CCCF17319CF}" type="slidenum">
              <a:t>9</a:t>
            </a:fld>
          </a:p>
        </p:txBody>
      </p:sp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24T01:33:11Z</dcterms:modified>
  <cp:revision>1061</cp:revision>
  <dc:subject/>
  <dc:title>PowerPoint Presentation</dc:title>
</cp:coreProperties>
</file>