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96B4B-5249-44E2-8413-14DEC55AF2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12F23-F7D0-4EF6-B654-E48AD94DD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3D23A-40C6-4A60-9756-D6A1726E4F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3A228-79F4-4874-946E-6B2B799D9A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89EDE-ED5C-4490-8C79-5987C04283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B2698-3BE0-40C2-8326-EDAF69AC5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293EC-2354-4D27-9439-0A3E467D07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FD94B-2F6F-48B8-A7AE-5DB3F7E671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89B07-0EBC-4209-811D-589900C32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EEA7F-B8F5-454C-BD5A-EB57DF11C0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C5862-2D20-4955-9230-ADE766C1EA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C398A-0A9C-45BD-BC38-DA2AB5AF93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4296-40B8-49B7-BACD-B0082CF45A3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8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PICE Simul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C949C-11FE-420F-B8D2-F777D2064585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1523880"/>
            <a:ext cx="822960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mosiv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ibm065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n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g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M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=100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=50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dc Vds 0 1.0 0.05 SWEEP Vgs 0 1.0 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019920" y="1981080"/>
          <a:ext cx="2743200" cy="18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981080"/>
                    <a:ext cx="2743200" cy="18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561AF-CA1E-4FEF-B10A-A7B61A6DE172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-V Characteris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I-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4496040" cy="338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E5143-95F4-486E-9EF1-BA1112C86591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SFET El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element for MOSF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name drain gate source body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W=&lt;width&gt; L=&lt;lengt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AS=&lt;area source&gt; AD = &lt;area drain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PS=&lt;perimeter source&gt; PD=&lt;perimeter drai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7C1B9-6724-43EB-9264-2EC771D580AC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ent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1447920"/>
            <a:ext cx="8229600" cy="49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inv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SUPPLY=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scale=25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ibm065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SUPPLY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L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'SUPPLY' 50ps 0ps 0ps 100ps 20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M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=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=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AS=20 PS=18 AD=20 PD=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M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=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AS=40 PS=26 AD=40 PD=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0.1ps 8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248520" y="1752480"/>
          <a:ext cx="2286000" cy="20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1752480"/>
                    <a:ext cx="228600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8AE46-21EF-460F-ABEE-F0E184BDF2F8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ent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oaded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sh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fa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152880" y="2257560"/>
            <a:ext cx="5457600" cy="371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0F0EB-0980-4177-9974-54DA6FB7841D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b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e common elements as sub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anout-of-4 Inverter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i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1994040"/>
            <a:ext cx="693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ubckt inv a y N=4 P=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1 y a gnd gnd NMOS W='N' L=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AS='N*5' PS='2*N+10' AD='N*5' PD='2*N+10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2 y a vdd vdd PMOS W='P' L=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AS='P*5' PS='2*P+10' AD='P*5' PD='2*P+10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495680" y="4114800"/>
          <a:ext cx="3810240" cy="18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4114800"/>
                    <a:ext cx="3810240" cy="18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2BB59-3E15-42A9-9AF8-103128EA412D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O4 Inverter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70851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end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1447920"/>
            <a:ext cx="8229600" cy="47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o4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SUPPLY=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H=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scale=25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ibm065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ub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global vdd 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lib/inv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SUPPLY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L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'SUPPLY' 0ps 20ps 20ps 120ps 28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* shape input wave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'    * reshape input wave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F2F50-52E3-4C59-8BC0-A178270486B8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O4 Inverter Delay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447920"/>
            <a:ext cx="822960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3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**2' * device under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**3' *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**4' * load on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0.1ps 28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ising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RIG v(c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alling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RIG v(c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 param='(tpdr+tpdf)/2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average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ri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is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2*SUPPLY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8*SUPPLY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fal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all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8*SUPPLY' FALL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2*SUPPLY' FALL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7A5DF-245D-4508-9BF3-637BEFBC582B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O4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441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52973-C49B-4BA2-8D1A-2FCE43766506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PICE can automatically adjust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k value that optimizes some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Best P/N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ve assumed 2:1 gives equal rise/fall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e see rise is actually slower than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/N ratio gives equal del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run a bunch of sims with different P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let HSPICE optimizer do it for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1DAC6-4598-4AF6-A49C-C39101DA1E83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to SP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en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Characte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FF589-E45E-4C9E-99EA-ABBDCC1FEBAF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Optim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447920"/>
            <a:ext cx="845820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o4opt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SUPPLY=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scale=25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ibm065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ub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global vdd 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lib/inv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SUPPLY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L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'SUPPLY' 0ps 20ps 20ps 120ps 28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hape input wave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eshape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3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16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device under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066DE-888A-4132-A8B3-2AB473B7E555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Optim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447920"/>
            <a:ext cx="822960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6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256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load on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Optimization set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P1=optrange(8,4,16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earch from 4 to 16, guess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odel optmod opt itropt=30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maximum of 30 it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bestratio param='P1/4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compute best P/N r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0.1ps 280ps SWEEP OPTIMIZE=optrange RESULTS=diff MODEL=optm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ising propagation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RIG v(c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alling propagation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RIG v(c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 param='(tpdr+tpdf)/2' goal=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average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diff param='tpdr-tpdf' goal = 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diff between del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5C33F-9FE2-40CF-97CB-E217C419EDF6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/N ratio for equal delay is 2.9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7.9 ps (slower than 2:1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pMOS transistors waste power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dom design for exactly equal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ratio gives lowest average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1ps 1000ps SWEEP OPTIMIZE=optrange RESULTS=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p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ODEL=opt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/N ratio of 1.8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8.8 ps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5.2 ps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7.0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/N ratios of 1.5:1 – 2.2:1 gives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17.2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215B7-24A3-4909-8D3A-922FBCA3CF74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Measur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PICE can measur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taneous P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average P over some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print P(vd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asure pwr AVG P(vdd) FROM=0ns TO=10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in single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to separat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reful about input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89020-8E25-4375-87CF-9AED818426C9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can be measured from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ith FO4 inverter, shape input, loa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219320" y="2666880"/>
          <a:ext cx="6553080" cy="29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666880"/>
                    <a:ext cx="655308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DC281-0632-4C4B-9E26-DFFD0433DC18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 Plo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-intercept is parasit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pe is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fits straigh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well in any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input slop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724280" y="2984400"/>
            <a:ext cx="3810240" cy="301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33157-022F-4AFE-A82C-0534936F7574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 Dat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AND gates in IBM 65 nm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 is greater for outer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logical effort is better than 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5867640" cy="269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575D8-894B-4B6F-90F4-B826AEFC8BC7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53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061CC-03A0-4924-B712-5FDC59CA0D51}" type="slidenum">
              <a:t>27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 to SPI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ulation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gram wi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egrat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cuit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h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in 1970’s at Berke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ommercial version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PICE is a robust industry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many enhancements that we will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in FORTRAN for punch-card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s elements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description is called a SPI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EEDC2-ABCF-4819-B6EC-4C8EF1C376FF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riting Spice Dec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a SPICE deck is like writing a good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: sketch schematic on paper or in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 existing decks whenever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: strive for c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name, email, date,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ously com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 what results should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with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arbage In, Garbage Ou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B475F-7FD9-4F67-86B3-CE36CCCBC1E5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C Circui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523880"/>
            <a:ext cx="822960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c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avid_Harris@hmc.edu 2/2/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Find the response of RC circuit to rising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w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ps 0 100ps 0 150ps 1.0 1ns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tran 20ps 1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plot v(in) v(o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019920" y="1828800"/>
          <a:ext cx="2743200" cy="14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828800"/>
                    <a:ext cx="2743200" cy="14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97114-E94B-4745-8FEF-83BD8681A8C4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sult (Graphical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3880" y="1501920"/>
            <a:ext cx="5639040" cy="430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A80FE-5715-4372-8B1D-08B8C6DF93A4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dd vdd gnd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iecewise Lin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in in gnd pwl 0ps 0 100ps 0 150ps 1.0 1ns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ls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ck clk gnd PULSE 0 1.0 0ps 100ps 100ps 300ps 8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5800" y="4179960"/>
          <a:ext cx="7848720" cy="17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79960"/>
                    <a:ext cx="7848720" cy="17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B1886-3248-48DC-AC1E-B96F8736A599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PICE El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85800" y="1600200"/>
            <a:ext cx="5257440" cy="4419720"/>
            <a:chOff x="685800" y="1600200"/>
            <a:chExt cx="5257440" cy="4419720"/>
          </a:xfrm>
        </p:grpSpPr>
        <p:grpSp>
          <p:nvGrpSpPr>
            <p:cNvPr id="72" name=""/>
            <p:cNvGrpSpPr/>
            <p:nvPr/>
          </p:nvGrpSpPr>
          <p:grpSpPr>
            <a:xfrm>
              <a:off x="691560" y="1601280"/>
              <a:ext cx="5244480" cy="4416840"/>
              <a:chOff x="691560" y="1601280"/>
              <a:chExt cx="5244480" cy="441684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691560" y="1601280"/>
                <a:ext cx="1248840" cy="275760"/>
                <a:chOff x="691560" y="1601280"/>
                <a:chExt cx="1248840" cy="27576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814680" y="160128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ett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691560" y="160128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1940760" y="1601280"/>
                <a:ext cx="3995280" cy="275760"/>
                <a:chOff x="1940760" y="1601280"/>
                <a:chExt cx="3995280" cy="27576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2063520" y="160128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lem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1940760" y="160128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691560" y="1877040"/>
                <a:ext cx="1248840" cy="276120"/>
                <a:chOff x="691560" y="1877040"/>
                <a:chExt cx="1248840" cy="2761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814680" y="187704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91560" y="187704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1940760" y="1877040"/>
                <a:ext cx="3995280" cy="276120"/>
                <a:chOff x="1940760" y="1877040"/>
                <a:chExt cx="3995280" cy="2761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2063520" y="187704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Resis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1940760" y="187704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691560" y="2153160"/>
                <a:ext cx="1248840" cy="275760"/>
                <a:chOff x="691560" y="2153160"/>
                <a:chExt cx="1248840" cy="27576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814680" y="215316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691560" y="215316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1940760" y="2153160"/>
                <a:ext cx="3995280" cy="275760"/>
                <a:chOff x="1940760" y="2153160"/>
                <a:chExt cx="3995280" cy="27576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2063520" y="215316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apaci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940760" y="215316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691560" y="2429280"/>
                <a:ext cx="1248840" cy="276120"/>
                <a:chOff x="691560" y="2429280"/>
                <a:chExt cx="1248840" cy="27612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814680" y="242928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691560" y="242928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1940760" y="2429280"/>
                <a:ext cx="3995280" cy="276120"/>
                <a:chOff x="1940760" y="2429280"/>
                <a:chExt cx="3995280" cy="27612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2063520" y="242928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duc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1940760" y="242928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691560" y="2705400"/>
                <a:ext cx="1248840" cy="275760"/>
                <a:chOff x="691560" y="2705400"/>
                <a:chExt cx="1248840" cy="27576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814680" y="270540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691560" y="270540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1940760" y="2705400"/>
                <a:ext cx="3995280" cy="275760"/>
                <a:chOff x="1940760" y="2705400"/>
                <a:chExt cx="3995280" cy="27576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063520" y="270540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utual Induc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940760" y="270540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691560" y="2981520"/>
                <a:ext cx="1248840" cy="276120"/>
                <a:chOff x="691560" y="2981520"/>
                <a:chExt cx="1248840" cy="27612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814680" y="298152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91560" y="298152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1940760" y="2981520"/>
                <a:ext cx="3995280" cy="276120"/>
                <a:chOff x="1940760" y="2981520"/>
                <a:chExt cx="3995280" cy="2761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2063520" y="298152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dependent voltage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940760" y="298152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691560" y="3257640"/>
                <a:ext cx="1248840" cy="275760"/>
                <a:chOff x="691560" y="3257640"/>
                <a:chExt cx="1248840" cy="2757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814680" y="325764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91560" y="325764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1940760" y="3257640"/>
                <a:ext cx="3995280" cy="275760"/>
                <a:chOff x="1940760" y="3257640"/>
                <a:chExt cx="3995280" cy="2757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2063520" y="325764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dependent current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940760" y="325764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691560" y="3533400"/>
                <a:ext cx="1248840" cy="275760"/>
                <a:chOff x="691560" y="3533400"/>
                <a:chExt cx="1248840" cy="2757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814680" y="353340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91560" y="353340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1940760" y="3533400"/>
                <a:ext cx="3995280" cy="275760"/>
                <a:chOff x="1940760" y="3533400"/>
                <a:chExt cx="3995280" cy="27576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063520" y="353340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OSFE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940760" y="353340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691560" y="3809520"/>
                <a:ext cx="1248840" cy="276120"/>
                <a:chOff x="691560" y="3809520"/>
                <a:chExt cx="1248840" cy="2761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814680" y="380952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91560" y="380952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1940760" y="3809520"/>
                <a:ext cx="3995280" cy="276120"/>
                <a:chOff x="1940760" y="3809520"/>
                <a:chExt cx="3995280" cy="2761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063520" y="380952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iod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940760" y="380952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691560" y="4085640"/>
                <a:ext cx="1248840" cy="275760"/>
                <a:chOff x="691560" y="4085640"/>
                <a:chExt cx="1248840" cy="27576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814680" y="408564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Q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91560" y="408564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940760" y="4085640"/>
                <a:ext cx="3995280" cy="275760"/>
                <a:chOff x="1940760" y="4085640"/>
                <a:chExt cx="3995280" cy="2757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063520" y="408564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ipolar transis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940760" y="408564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691560" y="4361760"/>
                <a:ext cx="1248840" cy="276120"/>
                <a:chOff x="691560" y="4361760"/>
                <a:chExt cx="1248840" cy="2761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814680" y="436176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W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91560" y="436176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1940760" y="4361760"/>
                <a:ext cx="3995280" cy="276120"/>
                <a:chOff x="1940760" y="4361760"/>
                <a:chExt cx="3995280" cy="2761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2063520" y="436176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ossy transmission lin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940760" y="436176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691560" y="4637880"/>
                <a:ext cx="1248840" cy="275760"/>
                <a:chOff x="691560" y="4637880"/>
                <a:chExt cx="1248840" cy="27576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814680" y="463788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91560" y="463788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1940760" y="4637880"/>
                <a:ext cx="3995280" cy="275760"/>
                <a:chOff x="1940760" y="4637880"/>
                <a:chExt cx="3995280" cy="27576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063520" y="463788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ubcircui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940760" y="463788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91560" y="4914000"/>
                <a:ext cx="1248840" cy="276120"/>
                <a:chOff x="691560" y="4914000"/>
                <a:chExt cx="1248840" cy="2761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814680" y="491400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91560" y="491400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1940760" y="4914000"/>
                <a:ext cx="3995280" cy="276120"/>
                <a:chOff x="1940760" y="4914000"/>
                <a:chExt cx="3995280" cy="2761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063520" y="491400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Voltage-controlled voltage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40760" y="491400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691560" y="5190120"/>
                <a:ext cx="1248840" cy="275760"/>
                <a:chOff x="691560" y="5190120"/>
                <a:chExt cx="1248840" cy="2757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814680" y="519012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91560" y="519012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1940760" y="5190120"/>
                <a:ext cx="3995280" cy="275760"/>
                <a:chOff x="1940760" y="5190120"/>
                <a:chExt cx="3995280" cy="2757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063520" y="519012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Voltage-controlled current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940760" y="519012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691560" y="5465880"/>
                <a:ext cx="1248840" cy="275760"/>
                <a:chOff x="691560" y="5465880"/>
                <a:chExt cx="1248840" cy="2757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814680" y="546588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91560" y="546588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1940760" y="5465880"/>
                <a:ext cx="3995280" cy="275760"/>
                <a:chOff x="1940760" y="5465880"/>
                <a:chExt cx="3995280" cy="27576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2063520" y="546588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urrent-controlled voltage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940760" y="546588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691560" y="5742000"/>
                <a:ext cx="1248840" cy="276120"/>
                <a:chOff x="691560" y="5742000"/>
                <a:chExt cx="1248840" cy="2761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814680" y="574200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691560" y="574200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1940760" y="5742000"/>
                <a:ext cx="3995280" cy="276120"/>
                <a:chOff x="1940760" y="5742000"/>
                <a:chExt cx="3995280" cy="2761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2063520" y="574200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urrent-controlled current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940760" y="574200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9" name=""/>
            <p:cNvSpPr/>
            <p:nvPr/>
          </p:nvSpPr>
          <p:spPr>
            <a:xfrm>
              <a:off x="685800" y="1600200"/>
              <a:ext cx="5257440" cy="441972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19A60-F94D-47E1-8DEB-4083B152FD7B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62120" y="1523880"/>
          <a:ext cx="4876560" cy="3953160"/>
        </p:xfrm>
        <a:graphic>
          <a:graphicData uri="http://schemas.openxmlformats.org/drawingml/2006/table">
            <a:tbl>
              <a:tblPr/>
              <a:tblGrid>
                <a:gridCol w="1625400"/>
                <a:gridCol w="1625400"/>
                <a:gridCol w="1625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itu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p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762120" y="5562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100 femptofarad capacitor = 100fF, 100f, 100e-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899D9-4967-4FD8-98A9-B256EFDEC92D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24T01:10:49Z</dcterms:modified>
  <cp:revision>989</cp:revision>
  <dc:subject/>
  <dc:title>PowerPoint Presentation</dc:title>
</cp:coreProperties>
</file>