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8BDE-2F85-4C0F-BBF7-BBF6E33A68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3C5F-76AD-414C-A5DC-648B0AED0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4D41-EBE0-477D-836C-CB79CB842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BDF4F-2A35-4D1A-A530-ADE7D66337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636E3-7DEE-402D-BC40-CB9F427A0C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BD6A-7E1E-4E52-A49F-A250AF714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09C4C-41DE-4D34-ADAF-17A8F1DD7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2AEE9-800C-47EF-8E37-7BB63D5A1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0A55-B868-4E77-A45A-37AC059A1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3431-D3F3-420E-B289-66A3A8BAE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07EC2-B94C-4AC6-A001-1D188438F7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3226-4FF6-4A4B-891E-3BC2DF05F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5D38-CA58-41A7-B748-BECB1DDA36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CADA-5222-4223-ADA8-A45FDD3C14E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F0EC9-D980-42FC-A3EA-5E2240C8085C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102EE-BCD2-4776-8E49-B4F86298119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CF08D-237E-4378-A627-092D8187249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00A8B-7FEF-4DE9-93B7-CEBE09F238F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C67E1-BBB4-42D8-903E-3EBEBA3BBFE0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085D-9F50-45AC-AF16-FF3FFCAB14E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1BAB-7936-4872-A0B7-82304DE188FF}" type="slidenum">
              <a:t>16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E426-0E2F-4E57-ABE1-46320AD8B92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5B79-DF13-4487-BBBE-1F6AA6F3ED3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B111A-A495-4006-BF4B-64FC3403E0B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4DA41-BC40-47A5-9878-7282076F95C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B45A2-391E-4315-9A5F-3E7DC31AFB1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E4621-C537-4DBE-9BA2-4290D864A00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3447-11E7-4157-AD84-ABA2929738C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169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9D13-2BBD-4B38-82C8-2F155279E97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590920"/>
          <a:ext cx="4267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4267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5D7D3-29A4-4E6B-A950-2BBE20614FA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C0DB-CD4B-4327-948F-C4FC8ED1B34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55F4B-8DF1-4B51-9C77-8D6ABA3427A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5BCF7-B833-4131-BE40-50018C67BE9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28476-CEBF-4535-A973-BCA4522507C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2724-8C7D-4859-A36B-DC86C4CEDC1B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D117F-E739-49D4-8467-DF4DC27E2963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C7198-4DB9-4C55-A3C3-5D466E760FD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78376-6A1B-4A08-9D37-06C65FDE3FA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4AB1-FB42-487B-8A48-3B60405C46D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CC74-1535-401A-84DE-829218419F8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CFC6-039D-43F8-8A96-E38ECE68A61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3A04-7D3E-436D-A183-D30943F8660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2:01:09Z</dcterms:modified>
  <cp:revision>2043</cp:revision>
  <dc:subject/>
  <dc:title>PowerPoint Presentation</dc:title>
</cp:coreProperties>
</file>