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jpeg" ContentType="image/jpeg"/>
  <Override PartName="/ppt/media/image28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2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35.png" ContentType="image/png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7859E-FA39-49F1-BF46-EEFD4F4B2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0605-74BC-4546-A111-C7A8BECA03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1CBF8-6190-428E-850C-13FD37514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4FA6A-BBBD-464C-B820-5960E5E6BF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0D033-79A1-487D-90D9-9CEC2FBDBB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4E0A8-E349-46D6-8971-1D9E5F87A2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C4B18-6AD7-4D70-8398-C8BCFB3DE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F47DB-0B88-4E3F-9DF2-308241D5A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BE055-D637-4D47-8625-0A6996153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99C2B-DB75-4914-936A-11FC43F00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F9DCB-0490-4672-8C40-FD0BCFC94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19E39-C99B-4E14-920B-E1C084AA1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B39A-C127-42C3-8127-B11B8F40DF2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5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&amp; Transient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875B8-CFE6-4C81-A482-09B43631405A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urrent vs.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out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,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i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2209680"/>
          <a:ext cx="777240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7724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A8E3-E9DB-46E3-8204-C85F9D2EC033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2743200"/>
          <a:ext cx="685800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743200"/>
                    <a:ext cx="685800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where |currents| are equa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705720" y="4267080"/>
          <a:ext cx="2057400" cy="13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267080"/>
                    <a:ext cx="205740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2D018-B683-469B-A210-D9F9A50796F2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62120" y="2133720"/>
          <a:ext cx="7619760" cy="376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2133720"/>
                    <a:ext cx="761976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8580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3628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1523880"/>
            <a:ext cx="914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14600"/>
            <a:ext cx="17524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8BC65-D345-434F-91BF-DF7D3AD184D6}" type="slidenum">
              <a:t>12</a:t>
            </a:fld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Transfer Curv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be points on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-457200" y="2819520"/>
          <a:ext cx="5257800" cy="25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2819520"/>
                    <a:ext cx="525780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105520" y="2666880"/>
          <a:ext cx="3733560" cy="28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666880"/>
                    <a:ext cx="3733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51770-DBFB-4435-9F8A-5646731EA1FD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erating Reg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t transistor operating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029200" y="3276720"/>
          <a:ext cx="373392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76720"/>
                    <a:ext cx="373392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85800" y="2743200"/>
          <a:ext cx="4267080" cy="2371680"/>
        </p:xfrm>
        <a:graphic>
          <a:graphicData uri="http://schemas.openxmlformats.org/drawingml/2006/table">
            <a:tbl>
              <a:tblPr/>
              <a:tblGrid>
                <a:gridCol w="1422000"/>
                <a:gridCol w="1422720"/>
                <a:gridCol w="142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209680" y="3200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3200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35812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358128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3962520"/>
            <a:ext cx="12189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96252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434340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4343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47242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72428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867280" y="1600200"/>
          <a:ext cx="205740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0574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7C944-5E0E-4079-A8AC-BC33D3D66838}" type="slidenum">
              <a:t>14</a:t>
            </a:fld>
          </a:p>
        </p:txBody>
      </p:sp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ta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switching point will move from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kew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gates: collapse into equivalen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438280" y="2819520"/>
          <a:ext cx="4343400" cy="32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434340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3897D-7F81-48D3-B6AF-ED69973B48E7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Margi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noise can a gate input see before it does not recognize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14400" y="2438280"/>
          <a:ext cx="7467480" cy="35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38280"/>
                    <a:ext cx="746748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14ECA-DE58-4182-9285-34F06035A778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Lev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ximize noise margins, select logic levels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y gain point of DC transfer character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2F1A4-4B3C-4519-B972-B732FF4813A4}" type="slidenum">
              <a:t>17</a:t>
            </a:fld>
          </a:p>
        </p:txBody>
      </p:sp>
    </p:spTree>
  </p:cSld>
  <p:transition>
    <p:zoom dir="ou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olving differentia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is usually considered to be a step or r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0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CB157-063A-404B-8446-299DF0E96E40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Step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nd step response of inverter driving load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1981080"/>
          <a:ext cx="309096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30909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09480" y="4343400"/>
          <a:ext cx="5195880" cy="16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343400"/>
                    <a:ext cx="5195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019920" y="4114800"/>
          <a:ext cx="2743200" cy="17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4114800"/>
                    <a:ext cx="274320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486400" y="1981080"/>
          <a:ext cx="2936880" cy="193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1981080"/>
                    <a:ext cx="29368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6019920" y="4038480"/>
            <a:ext cx="25146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4267080"/>
            <a:ext cx="2743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3124080"/>
            <a:ext cx="12952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2590920"/>
            <a:ext cx="12952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981080"/>
            <a:ext cx="1752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AB955-0929-4530-8E0A-3773B1B43581}" type="slidenum">
              <a:t>19</a:t>
            </a:fld>
          </a:p>
        </p:txBody>
      </p:sp>
    </p:spTree>
  </p:cSld>
  <p:transition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 and Noise Mar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0E607-B5A9-4627-9ED1-A64159F937A6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ing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ing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erage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utput crossing 0.2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0.8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utput crossing 0.8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0.2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726080" y="1600200"/>
            <a:ext cx="3884400" cy="346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23A12-9C11-4C35-95E0-C3FE771C12CC}" type="slidenum">
              <a:t>20</a:t>
            </a:fld>
          </a:p>
        </p:txBody>
      </p:sp>
    </p:spTree>
  </p:cSld>
  <p:transition>
    <p:zoom dir="ou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ll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erage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E9ED3-E564-4016-BAB3-AE8B089BC7BB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ulated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differential equations by hand is too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CE simulator solves the equations numer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ore accurate I-V models to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mulations take time to write, may hid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133720" y="3276720"/>
          <a:ext cx="3657600" cy="29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76720"/>
                    <a:ext cx="365760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4775F-0579-442F-AFE5-D1B952AFAF1C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ould like to be able to easily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accurate as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easier to ask “What if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p response usually looks like a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RC response with a decaying expon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C delay models to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total capacitance on outpu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ective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a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e transistors by finding their effectiv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average current as gate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6BBE4-7498-4BDF-B163-F240C22F5AE7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ffectiv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ley models have limit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ccurate enough for moder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complicated for much h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cation: treat transistor as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effective resistanc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veraged across switching of digital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inaccurate to predict current at any give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ood enough to predict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D8A75-2A7D-4604-825F-AE52FD0638A5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Delay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quivalent circuits for 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switch + capacitance and ON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nMOS has resistance 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pMOS has resistance 2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nversely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2120" y="4038480"/>
          <a:ext cx="75438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038480"/>
                    <a:ext cx="75438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72FA6-49E0-4224-9B2F-AC4B877D967C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Val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of gate width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ly decline to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nanometer tec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with shorter channe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fer to minimum contacted device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aybe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matter as long as you are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819B5-D857-412A-9892-B52EE7C3A90B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Delay Estim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1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62120" y="2057400"/>
          <a:ext cx="769608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6960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8380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6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2666880"/>
            <a:ext cx="30481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2057400"/>
            <a:ext cx="304812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8878D-9EAB-4E88-BA25-BCEB1A7EFC33}" type="slidenum">
              <a:t>27</a:t>
            </a:fld>
          </a:p>
        </p:txBody>
      </p:sp>
    </p:spTree>
  </p:cSld>
  <p:transition>
    <p:zoom dir="ou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lay Model Comparis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4419360" cy="41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50A73-0669-4B8B-AE76-54B424F54FDF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 a 3-input NAND with transistor widths chosen to achieve effective rise and fall resistances equal to a unit inverter (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971800" y="2819520"/>
          <a:ext cx="3352680" cy="29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819520"/>
                    <a:ext cx="33526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54864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840D6-0D20-4723-BE44-F211FA007FC4}" type="slidenum">
              <a:t>29</a:t>
            </a:fld>
          </a:p>
        </p:txBody>
      </p:sp>
    </p:spTree>
  </p:cSld>
  <p:transition>
    <p:zoom dir="ou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source is gr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source &gt; 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pass transistor pa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ransistor would turn itself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s pull no high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a degraded “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degraded value slowly (low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transistors pull no low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s are needed to pass both 0 and 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400800" y="1828800"/>
          <a:ext cx="1828800" cy="17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828800"/>
                    <a:ext cx="18288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5590A-BD18-4FC6-99D1-603A35CAFFE6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C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e the 3-input NAND gate with gate and diffusion capaci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BBFD5-2246-4CA2-9C15-2B182B461BFB}" type="slidenum">
              <a:t>30</a:t>
            </a:fld>
          </a:p>
        </p:txBody>
      </p:sp>
    </p:spTree>
  </p:cSld>
  <p:transition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more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ransistors look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up or pulldown network model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more delay of 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752480" y="3984480"/>
          <a:ext cx="601992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984480"/>
                    <a:ext cx="601992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16412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2743200"/>
          <a:ext cx="7794720" cy="14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743200"/>
                    <a:ext cx="77947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EBAAD-4138-4F34-92E9-E1306BF6A752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1409760" cy="19051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worst-case rising and falling delay of 3-input NAND driv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cal g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48320" y="2057400"/>
          <a:ext cx="3733560" cy="199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057400"/>
                    <a:ext cx="373356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914400" y="2286000"/>
          <a:ext cx="3048120" cy="142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286000"/>
                    <a:ext cx="3048120" cy="14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905120" y="5105520"/>
          <a:ext cx="1218960" cy="284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5120" y="5105520"/>
                    <a:ext cx="121896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8"/>
          <a:stretch/>
        </p:blipFill>
        <p:spPr>
          <a:xfrm>
            <a:off x="3505320" y="3886200"/>
            <a:ext cx="16603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4876920" y="4876920"/>
          <a:ext cx="3809880" cy="60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4876920"/>
                    <a:ext cx="380988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04A2B-533B-4D53-ABF9-78596E82D07E}" type="slidenum">
              <a:t>32</a:t>
            </a:fld>
          </a:p>
        </p:txBody>
      </p:sp>
    </p:spTree>
  </p:cSld>
  <p:transition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Compon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has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or 11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of 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h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al to loa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A9340-97DF-4B5E-B49C-5A240C4C8FF7}" type="slidenum">
              <a:t>33</a:t>
            </a:fld>
          </a:p>
        </p:txBody>
      </p:sp>
    </p:spTree>
  </p:cSld>
  <p:transition>
    <p:zoom dir="ou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mination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-case (contamination) delay can be substantially less than propagation de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If all three inputs fall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505320" y="4572000"/>
          <a:ext cx="512100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572000"/>
                    <a:ext cx="51210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143000" y="2666880"/>
          <a:ext cx="3276720" cy="17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666880"/>
                    <a:ext cx="327672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762120" y="4495680"/>
            <a:ext cx="2743200" cy="12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A575F-13F5-4345-B46F-EA4191B11BDF}" type="slidenum">
              <a:t>34</a:t>
            </a:fld>
          </a:p>
        </p:txBody>
      </p:sp>
    </p:spTree>
  </p:cSld>
  <p:transition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1600200" y="3621240"/>
          <a:ext cx="586728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621240"/>
                    <a:ext cx="58672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d contacted diffusion on every s /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yout minimizes diffusion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3 layout shares one diffusio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output capacitance by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d uncontacted diffusion might help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8ED61-D5FD-4507-BDED-07B47594B931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 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layout is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838080" y="2209680"/>
          <a:ext cx="7315200" cy="36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31520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4886A-2364-47E2-BDC0-6569D5712D45}" type="slidenum">
              <a:t>36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k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2090880"/>
          <a:ext cx="7772400" cy="34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90880"/>
                    <a:ext cx="777240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905120" y="2895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124080"/>
            <a:ext cx="1828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2895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41911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038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6483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6CD6F-98EB-4F84-BA57-8BE799F0DA97}" type="slidenum">
              <a:t>4</a:t>
            </a:fld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etween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size and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KCL, must settle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solv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raphical solution gives mor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638680" y="2971800"/>
          <a:ext cx="312444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971800"/>
                    <a:ext cx="312444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69D9D-7D91-4BEC-9692-0CF5B0EBDB4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pends on region of transisto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nMOS and pMO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D8746-6988-44B8-8F98-DE22C7AF33A0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1600200"/>
          <a:ext cx="7772400" cy="2225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30481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8168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30481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6483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51814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5720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1055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56F7B-F76D-4200-856F-BCBDA0B11D3E}" type="slidenum">
              <a:t>7</a:t>
            </a:fld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5800" y="1600200"/>
          <a:ext cx="7772400" cy="2225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572000"/>
            <a:ext cx="2667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A5FE0-F9D4-439C-A3D7-D31F7DBF032F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is wider than nMOS such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14400" y="1905120"/>
          <a:ext cx="716292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1629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17D7-3547-41BF-8FEE-C08C3FD6BAB1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32:42Z</dcterms:modified>
  <cp:revision>704</cp:revision>
  <dc:subject/>
  <dc:title>PowerPoint Presentation</dc:title>
</cp:coreProperties>
</file>