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6.png" ContentType="image/png"/>
  <Override PartName="/ppt/media/image14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26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2C0F-ADFA-4222-9BE7-B658979E5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41734-D6D2-48AB-8950-144CF7C8D3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45FB0-FA9A-4130-A70F-1F2AE929F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9B884-9669-4AA3-B342-75445DD6AA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E4AEA-0BDE-42A8-AAF2-F8A738B003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96307-8840-475A-B57B-1A96D6FC7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64630-5501-44A9-A1F0-2ED265884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3291B-5357-492A-9D17-EBBC89DAB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AFBE-D168-4B00-9698-092475B0F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5BBF1-CA64-4C2D-874C-85F7F6FE8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C7251-2119-4E7C-858D-A334C47985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3A5C7-144A-45B3-9DA7-CC5049A47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4DC4-676D-4BAF-9A3A-7E33549A72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ideal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A9524-24EC-4EA7-AE9B-E5C7EA596DE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for 65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3505320"/>
          <a:ext cx="266688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2666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AA82E-89FE-4C94-8BAE-61015508609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14600" y="3276720"/>
            <a:ext cx="3276720" cy="26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AE72C-1B36-4D7F-B2BF-5A0B6E2CC60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81280" y="3352680"/>
            <a:ext cx="762120" cy="304920"/>
            <a:chOff x="3581280" y="3352680"/>
            <a:chExt cx="762120" cy="304920"/>
          </a:xfrm>
        </p:grpSpPr>
        <p:sp>
          <p:nvSpPr>
            <p:cNvPr id="114" name=""/>
            <p:cNvSpPr/>
            <p:nvPr/>
          </p:nvSpPr>
          <p:spPr>
            <a:xfrm>
              <a:off x="3581280" y="3352680"/>
              <a:ext cx="76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65760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81080" y="3809880"/>
            <a:ext cx="1371240" cy="304920"/>
            <a:chOff x="1981080" y="3809880"/>
            <a:chExt cx="1371240" cy="304920"/>
          </a:xfrm>
        </p:grpSpPr>
        <p:sp>
          <p:nvSpPr>
            <p:cNvPr id="117" name=""/>
            <p:cNvSpPr/>
            <p:nvPr/>
          </p:nvSpPr>
          <p:spPr>
            <a:xfrm>
              <a:off x="1981080" y="3809880"/>
              <a:ext cx="137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080" y="411480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752A-15A4-4FC4-A542-B3DA50FA2C30}" type="slidenum">
              <a:t>12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2057400"/>
          <a:ext cx="457200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4572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C1A86-941D-4B96-A801-7E8BC6151B7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shold Voltage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hich the channel starts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models assume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depends (weakly) on almost everything 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B2BD5-3D77-4AD4-99A9-C3F64C983DC6}" type="slidenum">
              <a:t>14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is a fourth transisto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s the charge required to invert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e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2666880"/>
          <a:ext cx="236196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23619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76520" y="3386160"/>
          <a:ext cx="1218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386160"/>
                    <a:ext cx="1218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00200" y="5029200"/>
          <a:ext cx="281952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28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433E-FA21-491B-B20F-781786495EF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Effect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source-to-body voltage, treat a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362320" cy="677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228760" cy="11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E363C-A25E-46A7-A4E8-6ED5F02AB2E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from drain affect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onounced in small transistors where the drain is closer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current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3809880"/>
          <a:ext cx="19810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09880"/>
                    <a:ext cx="19810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6172200" y="4572000"/>
            <a:ext cx="1295280" cy="304920"/>
            <a:chOff x="6172200" y="4572000"/>
            <a:chExt cx="1295280" cy="304920"/>
          </a:xfrm>
        </p:grpSpPr>
        <p:sp>
          <p:nvSpPr>
            <p:cNvPr id="146" name=""/>
            <p:cNvSpPr/>
            <p:nvPr/>
          </p:nvSpPr>
          <p:spPr>
            <a:xfrm>
              <a:off x="6172200" y="4572000"/>
              <a:ext cx="1295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2819520" cy="2251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24480" y="33526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4E4E-88B4-418D-A6CA-AF9FA37A88BD}" type="slidenum">
              <a:t>17</a:t>
            </a:fld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ort Channel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mall transistors, source/drain depletion regions extend in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he amount of charge required to invert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us mak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unction of 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exhibit a reverse short channel effect in whic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75228-B467-4CC6-A414-14E6DEE4BC22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2155680"/>
            <a:ext cx="4934160" cy="394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2895480"/>
            <a:ext cx="2133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D654-39AC-40FC-8AFA-288DA263B6FE}" type="slidenum">
              <a:t>19</a:t>
            </a:fld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eld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77BA6-1624-4135-9514-7CB50A784F6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’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source in contempora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BE79-B92A-4B31-A567-82DBEA7B690A}" type="slidenum">
              <a:t>20</a:t>
            </a:fld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is process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.3-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relative to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lo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100 mV/decade @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4191120" cy="98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1460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05000" cy="247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162920" y="2971800"/>
            <a:ext cx="137160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8954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1908000"/>
          <a:ext cx="3200400" cy="83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08000"/>
                    <a:ext cx="32004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FD91-645D-44BE-A2EE-F647E04C281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sensitive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are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o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MOS gates leak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at 65 nm and below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0.5 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971800" cy="2748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467480" y="5029200"/>
            <a:ext cx="93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From [Song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3124080" cy="108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3EFA-59CE-43D9-A0BD-71D3F6D0C9A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F932D-1F8B-4F89-B3DC-221768F7F424}" type="slidenum">
              <a:t>23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od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significant negative diode voltag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04EA2-8CDC-4A27-8D41-0618D35E073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d-to-Band Tunn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across heavily dop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sidewall between drain &amp;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o d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junction leakage to significa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dewall junctio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andgap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: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0200" y="3605040"/>
            <a:ext cx="3048120" cy="104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81480" y="3757680"/>
            <a:ext cx="3140280" cy="6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21EC-D71E-44E4-97B2-A81889E0840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Gate-Induced Drain Leakage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overlap between gat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when drain is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ate is at a negativ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warts efforts to reduce subthreshold leakage using a negative gat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3105360" cy="247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5029200"/>
            <a:ext cx="5335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0663-0A2C-4195-8A12-87A6ECC7720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52480" y="2895480"/>
            <a:ext cx="1447560" cy="380880"/>
            <a:chOff x="1752480" y="2895480"/>
            <a:chExt cx="1447560" cy="380880"/>
          </a:xfrm>
        </p:grpSpPr>
        <p:sp>
          <p:nvSpPr>
            <p:cNvPr id="198" name=""/>
            <p:cNvSpPr/>
            <p:nvPr/>
          </p:nvSpPr>
          <p:spPr>
            <a:xfrm>
              <a:off x="1752480" y="2895480"/>
              <a:ext cx="1447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2480" y="327636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28800" y="3352680"/>
            <a:ext cx="1295280" cy="380880"/>
            <a:chOff x="1828800" y="335268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1828800" y="33526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FE5F-7DDD-4EDB-8FB0-9398EA6DEF71}" type="slidenum">
              <a:t>27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3F9D3-DC93-42A0-A2BE-A42348BAF96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2133720" y="3276720"/>
            <a:ext cx="1143000" cy="380520"/>
            <a:chOff x="2133720" y="3276720"/>
            <a:chExt cx="1143000" cy="380520"/>
          </a:xfrm>
        </p:grpSpPr>
        <p:sp>
          <p:nvSpPr>
            <p:cNvPr id="210" name=""/>
            <p:cNvSpPr/>
            <p:nvPr/>
          </p:nvSpPr>
          <p:spPr>
            <a:xfrm>
              <a:off x="2133720" y="32767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3720" y="36572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133720" y="3733920"/>
            <a:ext cx="1143000" cy="380520"/>
            <a:chOff x="2133720" y="3733920"/>
            <a:chExt cx="1143000" cy="380520"/>
          </a:xfrm>
        </p:grpSpPr>
        <p:sp>
          <p:nvSpPr>
            <p:cNvPr id="213" name=""/>
            <p:cNvSpPr/>
            <p:nvPr/>
          </p:nvSpPr>
          <p:spPr>
            <a:xfrm>
              <a:off x="2133720" y="37339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41144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33720" y="4191120"/>
            <a:ext cx="1143000" cy="380520"/>
            <a:chOff x="2133720" y="4191120"/>
            <a:chExt cx="1143000" cy="380520"/>
          </a:xfrm>
        </p:grpSpPr>
        <p:sp>
          <p:nvSpPr>
            <p:cNvPr id="216" name=""/>
            <p:cNvSpPr/>
            <p:nvPr/>
          </p:nvSpPr>
          <p:spPr>
            <a:xfrm>
              <a:off x="2133720" y="41911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33720" y="45716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571D3-6169-4270-AA38-1474E3831F63}" type="slidenum">
              <a:t>29</a:t>
            </a:fld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-channel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22860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09E51-1ED8-4BCA-9C56-5808F7B7FF3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2286000" y="2438280"/>
            <a:ext cx="1143000" cy="380880"/>
            <a:chOff x="2286000" y="2438280"/>
            <a:chExt cx="1143000" cy="380880"/>
          </a:xfrm>
        </p:grpSpPr>
        <p:sp>
          <p:nvSpPr>
            <p:cNvPr id="222" name=""/>
            <p:cNvSpPr/>
            <p:nvPr/>
          </p:nvSpPr>
          <p:spPr>
            <a:xfrm>
              <a:off x="2286000" y="24382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28191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86000" y="2895480"/>
            <a:ext cx="1143000" cy="380880"/>
            <a:chOff x="2286000" y="2895480"/>
            <a:chExt cx="1143000" cy="380880"/>
          </a:xfrm>
        </p:grpSpPr>
        <p:sp>
          <p:nvSpPr>
            <p:cNvPr id="225" name=""/>
            <p:cNvSpPr/>
            <p:nvPr/>
          </p:nvSpPr>
          <p:spPr>
            <a:xfrm>
              <a:off x="2286000" y="28954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2763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0040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A0C5-F386-4984-8453-E9338BE9790E}" type="slidenum">
              <a:t>30</a:t>
            </a:fld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E8125-CBBE-4337-823B-002D17B6501C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2895480"/>
          <a:ext cx="6782040" cy="230040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8195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4290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9625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4956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DB98-96DF-4209-A076-4BF77AC00A1A}" type="slidenum">
              <a:t>32</a:t>
            </a:fld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 nm IBM process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438280"/>
            <a:ext cx="1904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857240"/>
          <a:ext cx="71103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7240"/>
                    <a:ext cx="7110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D8F19-0860-4E3D-9D40-AECA3465E04E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 and OFF Curr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257800" y="1523880"/>
          <a:ext cx="30481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3880"/>
                    <a:ext cx="30481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543800" y="1676520"/>
            <a:ext cx="762120" cy="5331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04776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8680" y="4419720"/>
            <a:ext cx="914400" cy="3045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AA74-3927-49ED-B3FF-59F5FAFE19B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Fields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carriers int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arriers from dra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v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952880" y="1600200"/>
            <a:ext cx="1143000" cy="380520"/>
            <a:chOff x="4952880" y="1600200"/>
            <a:chExt cx="1143000" cy="380520"/>
          </a:xfrm>
        </p:grpSpPr>
        <p:sp>
          <p:nvSpPr>
            <p:cNvPr id="75" name=""/>
            <p:cNvSpPr/>
            <p:nvPr/>
          </p:nvSpPr>
          <p:spPr>
            <a:xfrm>
              <a:off x="4952880" y="160020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198072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2895480"/>
            <a:ext cx="1295280" cy="380880"/>
            <a:chOff x="4800600" y="2895480"/>
            <a:chExt cx="1295280" cy="380880"/>
          </a:xfrm>
        </p:grpSpPr>
        <p:sp>
          <p:nvSpPr>
            <p:cNvPr id="78" name=""/>
            <p:cNvSpPr/>
            <p:nvPr/>
          </p:nvSpPr>
          <p:spPr>
            <a:xfrm>
              <a:off x="4800600" y="28954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3276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A200-1823-4161-866B-CF01250FC958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ffee Cart Ana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student runs from VLSI lab to coffee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are pouring out of the physics lecture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w long you have bee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velocity = fati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ind blowing you against the glas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are buffeted against th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catter off freshmen, fall down,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nfuse this with the satura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A64C-D3F1-43B5-BD13-4CD7DA18DCA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bility Degrad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ively 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oxi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31520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C4DFE-8ECD-4F7F-BE9C-4D2FA7F73830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rrier velocity rol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 in silicon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971800" cy="174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1428840" cy="979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44944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ADB9-5E4D-4DB1-91EB-93B8775C30A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8Z</dcterms:modified>
  <cp:revision>1801</cp:revision>
  <dc:subject/>
  <dc:title>PowerPoint Presentation</dc:title>
</cp:coreProperties>
</file>