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4612-5001-482C-B858-6D2532330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C0BC-721B-443D-BD7F-92635BE2A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0AA3-9EC4-4DFD-B7F6-B3C95EBEE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5EC4-02F2-41D2-9BBE-4BD32D342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D065-EBF8-490E-8CB6-1E6E44159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2B86-75B4-416E-81BD-94B1F3D8D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4B98-5C4E-4D1A-8DAE-B05912BFB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4E3E-8F8B-4768-BD90-E369C31F0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47D8-2561-408B-A03B-874F18007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67DC-D4CD-4664-B732-1A3AEBA0C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8A89-9E0E-43B9-9C3A-DD229F3CF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B460-3567-4F94-9A38-425C3F8C5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4B3F-327C-494C-8060-116B1443AA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9DAC-B4BE-4572-8D89-EF6CDD35E9D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0EEA-E4DC-406A-AB01-C858F66B1E47}" type="slidenum">
              <a:t>10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657600"/>
            <a:ext cx="3657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0BE5-9795-482C-9907-4C483D83E084}" type="slidenum">
              <a:t>11</a:t>
            </a:fld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BD7B-859E-460B-BD9C-12CA4CAFE3C2}" type="slidenum">
              <a:t>12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971800"/>
            <a:ext cx="3505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1AF0-F203-4EC7-98AA-2DBDD05307EF}" type="slidenum">
              <a:t>13</a:t>
            </a:fld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9F1C-5CEF-4514-8D45-A86F91C8272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434B-7F27-4318-9671-5EF356C1E39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C627-ADE7-4529-A6EC-FF7304B34C9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C01C-4D9F-474B-8EA4-A52C4F4D6F2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C175-D2D1-4DA6-82BB-63770DDE17E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013A-EE9E-4893-A04C-E28BB21E3A5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3C4C-B7C9-4FFD-99DB-7E59042450DF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3008-218E-4755-8CB1-DF8912D0552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D169-053C-4244-9725-2C92E2E5EB8A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63F3-FA16-4704-938F-D3342AEE362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A144-6760-4CBD-9E65-541C0301B4C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E528-A515-4CC3-876E-7E3564E9A66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26A1-40EC-4AF2-8E41-1AA617A5595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9912-8EAE-44BD-91DA-AE509F84029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35Z</dcterms:modified>
  <cp:revision>542</cp:revision>
  <dc:subject/>
  <dc:title>PowerPoint Presentation</dc:title>
</cp:coreProperties>
</file>