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9403E-85D7-498A-A4DD-2390BEC92C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1A604-749D-4052-82A5-9F1A70494C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E941D-FC95-4DA7-A323-3C3D69CD2A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3E3F0-1801-4CB0-934E-126F701913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0F500-8293-43E9-A316-8774DA2A49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0C651-1DC6-4CB8-96B6-71E43722C9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7BDA4-994A-4387-A5C5-423853F5E8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5AE8C-BC21-4B27-AC16-D516A04065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C9C9C-0A6C-4ADF-B8C1-5DB09AF5DA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E574D-623C-4706-BD40-B71EB7076D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6302A-3D4E-4415-8478-A19E634625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DFA33-C346-4FE5-BAE3-3AF7A50817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4EAB-29B3-4955-8D47-16D6B92DC39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3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Transistor Theo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3E7AF-3592-416F-8BE1-CA19FE2742BC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annel Char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 structure looks like parallel plate capacitor while operating in inver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– oxide –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ha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/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)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105520" y="4191120"/>
          <a:ext cx="3200400" cy="18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4191120"/>
                    <a:ext cx="3200400" cy="18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762120" y="4203720"/>
          <a:ext cx="4724280" cy="178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203720"/>
                    <a:ext cx="4724280" cy="17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6248520" y="32004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2819520"/>
            <a:ext cx="609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52480" y="3276720"/>
            <a:ext cx="5257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86600" y="3276720"/>
            <a:ext cx="9907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52480" y="3733920"/>
            <a:ext cx="37339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3200400"/>
            <a:ext cx="6094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EE286-B088-4F43-848A-224E0073CBE0}" type="slidenum">
              <a:t>10</a:t>
            </a:fld>
          </a:p>
        </p:txBody>
      </p:sp>
    </p:spTree>
  </p:cSld>
  <p:transition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ier veloc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is carried by e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s are propelled by the lateral electric field between source and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r velocit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portional to lateral E-fi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lled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for carrier to cross chann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L /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2819520"/>
            <a:ext cx="838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57400" y="3657600"/>
            <a:ext cx="3657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57400" y="4572000"/>
            <a:ext cx="762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FE422-EFB3-4A87-82AB-1BD2078613E7}" type="slidenum">
              <a:t>11</a:t>
            </a:fld>
          </a:p>
        </p:txBody>
      </p:sp>
    </p:spTree>
  </p:cSld>
  <p:transition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Linear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we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charge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ha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n the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tim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ach carrier takes to c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3520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62120" y="2895480"/>
          <a:ext cx="4724280" cy="27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95480"/>
                    <a:ext cx="4724280" cy="27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417204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248520" y="4724280"/>
          <a:ext cx="1752480" cy="87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4724280"/>
                    <a:ext cx="175248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1523880" y="2895480"/>
            <a:ext cx="10670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3809880"/>
            <a:ext cx="39625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4724280"/>
            <a:ext cx="655344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1C972-FA9C-4E2D-8A31-FEF3B7554B69}" type="slidenum">
              <a:t>12</a:t>
            </a:fld>
          </a:p>
        </p:txBody>
      </p:sp>
    </p:spTree>
  </p:cSld>
  <p:transition>
    <p:zoom dir="ou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Saturation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hannel pinches off near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drain voltage no longer increases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1148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219320" y="2971800"/>
          <a:ext cx="4267080" cy="18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971800"/>
                    <a:ext cx="4267080" cy="18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4191120" y="1981080"/>
            <a:ext cx="1143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81080" y="2971800"/>
            <a:ext cx="35053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81080" y="3962520"/>
            <a:ext cx="18288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77866-9DD8-46DF-B472-FD2D2C628876}" type="slidenum">
              <a:t>13</a:t>
            </a:fld>
          </a:p>
        </p:txBody>
      </p:sp>
    </p:spTree>
  </p:cSld>
  <p:transition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I-V 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"/>
          <p:cNvSpPr/>
          <p:nvPr/>
        </p:nvSpPr>
        <p:spPr>
          <a:xfrm>
            <a:off x="296064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6064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6064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8300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6064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85800" y="2590920"/>
          <a:ext cx="7772400" cy="29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77724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ockl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der transistor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59DCE-7FA1-4F7D-ACA2-4F658632C8F1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be using a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 for your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AMI Semico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35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V*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7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.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, 1, 2, 3, 4,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/L = 4/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9712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28640" y="5334120"/>
          <a:ext cx="4943520" cy="6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8640" y="5334120"/>
                    <a:ext cx="494352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4572000" y="2514600"/>
          <a:ext cx="4191120" cy="31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514600"/>
                    <a:ext cx="4191120" cy="31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67DB9-707F-479A-AF93-27F9ECCEB148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MOS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pings and voltages are inverted for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is the more positive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it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determined by h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2-3x lower than that of electro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in AMI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pMOS must be wider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ame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class, assu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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715000" y="3581280"/>
          <a:ext cx="2789280" cy="25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581280"/>
                    <a:ext cx="2789280" cy="25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B7C84-337D-4133-A488-FB743D5B4179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two conductors separated by an insulator hav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to channel capacitor is very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s channel charge necessary for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and drain have capacitance to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ross reverse-biased di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diffusion capacitance because it is associated with source/drain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EB6BE-B169-46E0-A92D-DA5796964345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 channel as connected to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/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ermicr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ermicr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ypically about 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85800" y="3048120"/>
          <a:ext cx="7543800" cy="28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048120"/>
                    <a:ext cx="754380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BF2F9-7327-4736-B020-6F9D6C41B16F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ffusion 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sirable,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asi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 depends on area and peri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mall diffusion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ble to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ontacted di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½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unconta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s with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29080" y="209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495680" y="3540240"/>
            <a:ext cx="4011840" cy="22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FFBEA-393F-4E65-8E6E-97DDB091A8C4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I-V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I-V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and Diffusion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B77BF-B781-4638-8813-6F1C26395A0C}" type="slidenum">
              <a:t>2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far, we have treated transistors as ideal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N transistor passes a finite amount of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erminal vol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e current-voltage (I-V)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gate, source, drain all hav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= C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) -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= (C/I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 and current determine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62120" y="5105520"/>
          <a:ext cx="7619760" cy="92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105520"/>
                    <a:ext cx="761976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2FA50-3913-40C2-BA9D-DF9FD7026CFD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505320" y="1981080"/>
          <a:ext cx="4495680" cy="415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981080"/>
                    <a:ext cx="44956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S Capaci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 and body form MOS capac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ng m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le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505320" y="3352680"/>
          <a:ext cx="4572000" cy="280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3352680"/>
                    <a:ext cx="457200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3581280" y="4751280"/>
          <a:ext cx="4038840" cy="132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4751280"/>
                    <a:ext cx="403884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997E7-A88E-4E75-AE5E-3713CDB3B55A}" type="slidenum">
              <a:t>4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500" autoRev="1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7" dur="500" autoRev="1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500" autoRev="1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17" dur="500" autoRev="1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18" dur="500" autoRev="1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500" autoRev="1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27" dur="500" autoRev="1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28" dur="500" autoRev="1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rminal Volt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6400" indent="-4464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 of operation depends on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and drain are symmetric diffusion termi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convention, source is terminal at lower vol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ce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OS body is grounded.  First assume source is 0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regions of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ut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t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629400" y="1447920"/>
          <a:ext cx="2133720" cy="176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1447920"/>
                    <a:ext cx="2133720" cy="17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ED5F3-17F4-47C6-8315-CD3E947257B2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Cutoff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267080" y="2743200"/>
          <a:ext cx="4113360" cy="21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743200"/>
                    <a:ext cx="411336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C4D5B-A3C2-4BB5-97B1-488A2D653809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Linea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flows from d to 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s to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reases wit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linear re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419720" y="2286000"/>
          <a:ext cx="4113000" cy="381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286000"/>
                    <a:ext cx="4113000" cy="38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5CC5B-4ED0-4FAE-BE40-F84EE5B26402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Satu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pinches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dependent o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ay curr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tu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current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343400" y="3657600"/>
          <a:ext cx="4113360" cy="187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3657600"/>
                    <a:ext cx="411336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B13CA-F613-4C9D-9D28-98CC2E946EAA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-V Characterist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Linear region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charge is in the chann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fast is the charge mov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3: CMOS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6D8EC-3CEC-4BB8-BF44-35BC4B927FBF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2-11T00:32:35Z</dcterms:modified>
  <cp:revision>542</cp:revision>
  <dc:subject/>
  <dc:title>PowerPoint Presentation</dc:title>
</cp:coreProperties>
</file>