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3.wmf" ContentType="image/x-wmf"/>
  <Override PartName="/ppt/media/image30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42.wmf" ContentType="image/x-wmf"/>
  <Override PartName="/ppt/media/image28.png" ContentType="image/png"/>
  <Override PartName="/ppt/media/image31.wmf" ContentType="image/x-wmf"/>
  <Override PartName="/ppt/media/image11.png" ContentType="image/png"/>
  <Override PartName="/ppt/media/image43.wmf" ContentType="image/x-wmf"/>
  <Override PartName="/ppt/media/image44.wmf" ContentType="image/x-wmf"/>
  <Override PartName="/ppt/media/image1.png" ContentType="image/png"/>
  <Override PartName="/ppt/media/image45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2A829-6B2C-4940-8ED1-EC15C6637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E3E97-04AB-494F-8FE5-20753F5B8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86F2F-D43A-4141-B61C-808EE00AF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C316C-E686-40B6-A4CD-0F14FE81BD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920B3-A47F-481C-94D4-D382C563A0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576B5-FE2C-4E9A-83FB-D5C77C588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F6737-27FD-44DA-ABED-E907B3FFA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94E9-EE59-4567-9742-0B9F2947E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9C71-3170-4F44-A49A-3F803DC3F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9B1C8-AA50-4EA6-B523-BC734A696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E46E3-8680-44CE-829C-EB64F254C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8E262-22EB-48F1-8F24-CBAB636EF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C005-4016-4197-96E1-03801C544FC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, ROM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406E-383E-49B2-9731-12FD11D48F0B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te RO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83348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333760" cy="463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4F06-412E-4E51-9598-50BAF60FB9B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Ms and EP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rray with transistors at every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 out fuses to disable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oating gate to turn off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ROM, EEPROM,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14600" y="4114800"/>
          <a:ext cx="403848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114800"/>
                    <a:ext cx="403848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B170-6D40-47FA-B0F0-D82276459D2F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lash Program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on floating gate determin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1: nega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0: posi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erased to 1 by applying a high body voltage so that electrons tunnel off floating gate into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to 0 by applying high gate vol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00200" y="4370400"/>
            <a:ext cx="5715000" cy="14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531E-438C-4211-9DCF-BF6B93FE796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ND Flas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ensity, low cost /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one page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sed one block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96-bi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pages / 8 KB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locks /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51460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31795-3916-4DCD-BEB2-A490976EDDA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4 Gb NAND Flas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K cells /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its / cell (multipl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cells /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 pages /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K blocks /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416400" cy="3962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02360" y="56689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63AF4-5CAE-4BDA-A43B-249D77B0D90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ding Logic with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OM as lookup table containing truth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 requir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ds x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function is easy – reprogram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, s bits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+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x 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OM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4038480"/>
          <a:ext cx="222552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222552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43400" y="4495680"/>
          <a:ext cx="297180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495680"/>
                    <a:ext cx="29718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334120" y="19810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1981080"/>
            <a:ext cx="3049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373392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373392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9CC03-2A2D-43B6-AF79-DE46B624E99A}" type="slidenum">
              <a:t>1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build an 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ns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tenn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,R) – 1 when in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ctuat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step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 degree turns TL, 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our ant smart enough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out of a m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rateg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ep right antenna on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oboAnt adapted from MIT 6.004 2002 OpenCourseWare by Ward and Ter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990360" cy="112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638680" y="3581280"/>
            <a:ext cx="2065320" cy="2041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5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36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FC5CF-5B98-4C03-A76A-A1BA8876039A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st in sp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go forward until we hit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13939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199728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3BCB5-07FA-40B4-8CDB-2DF036C5EE00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nk!!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turn left (rotate counterclockw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we don’t touch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1349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3063960" cy="19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A8D23-5C6D-4B26-B9A6-3D74768074E2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little to the righ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forward and turn right a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for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1152360" cy="1463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3048120" cy="22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84F13-F7D2-4685-B967-A0F900B980C9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-Addressable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Logic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93068-532B-4723-B79A-10224415B9DD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n a little to the lef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left a little, until not tou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1006560" cy="1515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4114800" cy="23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14EE9-16AD-4242-94D7-7431A1ECA341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oops – a corner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right until hitting next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457520" cy="165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4038480" cy="23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A573D-9D82-452D-8D20-ED7D7D4D3C53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equivalent states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3429000" cy="2036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429000" cy="2417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114800" y="3505320"/>
            <a:ext cx="6094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79677-6CB0-4788-AB4B-FBDCEA436C54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e Transition T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81080" y="1752480"/>
          <a:ext cx="5029200" cy="4095720"/>
        </p:xfrm>
        <a:graphic>
          <a:graphicData uri="http://schemas.openxmlformats.org/drawingml/2006/table">
            <a:tbl>
              <a:tblPr/>
              <a:tblGrid>
                <a:gridCol w="719280"/>
                <a:gridCol w="717480"/>
                <a:gridCol w="719280"/>
                <a:gridCol w="717480"/>
                <a:gridCol w="719280"/>
                <a:gridCol w="717480"/>
                <a:gridCol w="7189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 flipH="1">
            <a:off x="1676160" y="21337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590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76160" y="32004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36576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676160" y="4876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53341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676160" y="419112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4419720"/>
            <a:ext cx="228600" cy="304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9880" y="23623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" y="34290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C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9040" y="41911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9040" y="51055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0C259-C368-45EB-BD8F-4E551F0F3FEF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9DE2C-1B73-425E-AAB4-D16CC99E7D72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E272F-D4E8-4366-9C15-53005C25CEAC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grammable Logic 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forms any function in sum-of-product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puts &amp;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s / Minte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D of li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R of Min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63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90720" y="4648320"/>
          <a:ext cx="396216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648320"/>
                    <a:ext cx="3962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257800" y="3048120"/>
          <a:ext cx="3137040" cy="30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048120"/>
                    <a:ext cx="31370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C6263-50C7-4DCF-9CB3-E6D2D28F15D3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R-NOR 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s and ORs are not very efficient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or Pseudo-nMOS NORs are very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Morgan’s Law to convert to all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66680" y="2895480"/>
          <a:ext cx="295596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95596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648320" y="2895480"/>
          <a:ext cx="3070080" cy="308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895480"/>
                    <a:ext cx="3070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993D9-091A-4674-81B2-65523771FEB7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 Schematic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85800" y="1676520"/>
          <a:ext cx="41353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1353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55932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105520" y="1600200"/>
          <a:ext cx="3268440" cy="44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600200"/>
                    <a:ext cx="3268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D06F5-7523-4713-A9A7-F2E4B2B89E5E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 vs.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 plane of the PLA is like the ROM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D plane of the PLA is like the ROM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 are more flexible than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hav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ws for n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generate the minterms that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dvantage of logic si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75654-745D-485C-867E-6B80FE60AB9C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of ordinary memory (e.g.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memory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e which words contain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828800" y="3048120"/>
          <a:ext cx="51055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48120"/>
                    <a:ext cx="51055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20075-B97B-482E-A463-3307D6064570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 PL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state transition table to log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62120" y="1905120"/>
          <a:ext cx="4572000" cy="4095720"/>
        </p:xfrm>
        <a:graphic>
          <a:graphicData uri="http://schemas.openxmlformats.org/drawingml/2006/table">
            <a:tbl>
              <a:tblPr/>
              <a:tblGrid>
                <a:gridCol w="653760"/>
                <a:gridCol w="652680"/>
                <a:gridCol w="654120"/>
                <a:gridCol w="650880"/>
                <a:gridCol w="653760"/>
                <a:gridCol w="652680"/>
                <a:gridCol w="6541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1828800" cy="1468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1752480" cy="14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5943600" y="5181480"/>
          <a:ext cx="898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5181480"/>
                    <a:ext cx="898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2EF55-C800-4FA7-AA3A-D268EF695417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boAnt 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62120" y="2286000"/>
          <a:ext cx="1844640" cy="156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286000"/>
                    <a:ext cx="18446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CC0EC-35C2-466F-8AB2-A4A8680A58C7}" type="slidenum">
              <a:t>31</a:t>
            </a:fld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0T C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four match transistors to 6T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 x 4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2743200"/>
          <a:ext cx="28670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28670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191120" y="2819520"/>
          <a:ext cx="3733560" cy="28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819520"/>
                    <a:ext cx="373356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9986C-2E9B-439A-9923-A7C6886B4D49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 Cell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like ordinary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tc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wordline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match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key on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lines 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NOR of match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high if no words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1905120"/>
          <a:ext cx="3886200" cy="26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05120"/>
                    <a:ext cx="388620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91A6E-5B87-4013-AFEB-44C69EDB2EA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d-Only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 are non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their contents when power is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-programmed ROMs use one transistor per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or absence determines 1 o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1EB06-3933-4BAE-A9D5-009C42D2EE3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word x 6-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ed with dot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s indicate 1’s in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160020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0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1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3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90720" y="2819520"/>
          <a:ext cx="43434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43434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486400" y="3657600"/>
          <a:ext cx="2743200" cy="19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657600"/>
                    <a:ext cx="27432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071360" y="571500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s like 6 4-input pseudo-nMOS N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BF600-1812-4BC0-B2B0-BF2DBF7F9251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Array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cell is 12 x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1/10 size of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47920" y="2286000"/>
          <a:ext cx="579096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579096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AD96D-B414-4717-97A7-2AB5BFF2C2DF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w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 row decoders must pitch-match with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single track per wo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700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6933960" cy="36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64914-DFE3-41AA-B42E-9BD1DFAABF6A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7T03:36:16Z</dcterms:modified>
  <cp:revision>1567</cp:revision>
  <dc:subject/>
  <dc:title>PowerPoint Presentation</dc:title>
</cp:coreProperties>
</file>