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CCE1-85A2-4AE0-83FA-6E716206F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D8FC-5554-476C-826C-796E7BA9BF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FE0C7-21F2-442D-A8FF-2C7F9C2361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214F-4489-4919-8ED9-0334BDDCD1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37DC3-5971-40CA-8E09-08C7342145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A9539-F6DD-49E2-9A70-2F0C425F6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C0172-5961-40E4-8821-A58C321A7D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BC2CA-363C-4195-8E83-A33C89CA5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C40A6-D67E-4F00-8893-B311BF5EB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20DD0-78A1-4C62-A732-0778D59D0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70BE-0787-43C3-A326-B6C678567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25D94-85B6-47DF-85E8-1EA42971E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C317-45C2-4F68-ABA3-A21E7C710D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4F1D3-2B78-4CD0-AFE9-32A15C4EA02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C61D2-65FC-4655-B7CB-C98C642B552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AE76-7E4A-4530-9962-BF34D94FA32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B9CCB-3E9C-421D-93A3-3364B816B52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A17AF-8E4A-4F63-8404-3EF686D9FBC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6361-1F25-4986-8DEC-331377CA6D4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AE35-CC5E-43CE-87AA-63A6FA14D46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0FF5C-30C7-446A-B46E-4C43E13BF6C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F7389-AF18-4DDF-88AA-CFA1E1B40BA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BA3B4-D0C6-4EF0-88B5-99200DEF440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E66F-8590-429E-B9EE-A32E76F8973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67C7D-8099-48A9-BFC2-7DA73AD9469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72BB-6C3E-4C9F-BD0D-A16A0D959D2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6983-DD49-4E5A-A463-48D2950904A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83D34-AF2C-4C45-8112-BC5C87575115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5B5F-DD6B-4774-934B-012FB1A7143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93DA-8DE7-4516-A6BF-D7F867728B8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0E4D-CAD6-4534-9817-768255C19D3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DAD4-212D-42D5-9DB6-68E0CAE718A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6B29B-832D-413A-9E33-0CBD6DB2779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016C-62AD-411E-A364-EDF7AB7A9BF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D199-5547-42E7-9BA9-5431377F069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77C99-B93D-49F9-883D-D81FCA92D84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B0BF-BAA9-4481-8086-FE213CACDA5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42397-E15F-46D8-A304-9A3589E2C29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81E24-25A5-4D2E-8D39-E3875BEB440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515D-75A9-4554-BEC5-C11BD9DF260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E287-41A3-46CD-A05C-C3AF389501F9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3ECDF-9278-40B5-937A-DFF5CFF74AE7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31462-0446-40B9-9F58-6EB2C6FC9ECB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D5B6-DF7F-4CF6-A1BA-9B0CAEB79670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DEBF9-D3D5-4946-9A59-C2E10A91EAF4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1E42-7430-45E3-99EF-B8F176EDC22F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48AB3-C995-40DE-B9CF-54B7C1CFABE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3ACD-7848-4268-98AC-048CEBF3841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6184-9C99-478A-8194-16A50AF0742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4231-0572-4D28-8DCB-6B06059689DD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C69B-B7E6-4CFF-B12F-882F211C5511}" type="slidenum">
              <a:t>8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61F11-7C7B-428B-9D54-4C3D5FE987C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3T22:33:58Z</dcterms:modified>
  <cp:revision>1499</cp:revision>
  <dc:subject/>
  <dc:title>PowerPoint Presentation</dc:title>
</cp:coreProperties>
</file>