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403AF-30A3-41F5-AC9C-7572F3BBAF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16951-F361-43E7-8F60-750956706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EB44-3533-4911-A786-2D592BCAF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E43AE-1A39-4BF6-BB44-571F6EF14C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8F25-7076-4ABF-960F-8C2A6CB378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991B8-7A03-4C67-9CD8-BFC9E84095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0537E-101A-4112-AC5C-D0060AE8D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0835E-5196-4A27-B594-81CD20DB5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7EF8-1FCF-4A23-9F30-B2BA44FAB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1DE96-E6ED-4B87-BB9A-E9C84698C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0BE2A-9FBE-4D4F-A459-F3EC92B89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84C0-B503-4EB6-B3B8-689763434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AD0F-ABF3-48FD-903B-FC1804B94EA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atapa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c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6AD58-03BE-4933-8952-7EA9778FD51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nel Source Genera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2589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2133720"/>
            <a:ext cx="2971800" cy="3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51460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92896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35268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733920"/>
            <a:ext cx="29718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/Arithmetic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19D5C-F97D-442C-B5B7-5FBDBDACF3E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N-input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1-of-N hot select signals for shift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 design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95280" y="2743200"/>
          <a:ext cx="32767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3276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21668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EA4ED-202C-45F4-B5E7-AA2DDE80DCC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arithmic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N stages of 2-input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lect decoding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2835360"/>
            <a:ext cx="5410080" cy="26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10AEF-B862-4C36-9441-886F3EC4896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Funn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multiplexers reduce delay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nds &gt; 32 bits introduce datapath ir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443400" cy="358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2973240"/>
            <a:ext cx="4114800" cy="25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53EB7-26B4-4C90-857A-DDFF7D63A29E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l shifters perform right rotations using wrap-around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rotations are right rotations by N – k = k + 1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are rotations with the end bits masked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8513-2C8B-470A-9DBB-6D404BB18AB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garithmic 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981080" cy="1795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2590920" cy="20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3573360" cy="4027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2120" y="32767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hif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638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5562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 &amp; 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6B07-5EFB-4BF4-A159-7602C5E08C3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Barr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never wider than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age preshifts by 1 to handle lef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20364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22675-0840-44AA-BBB6-77D970B50BC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input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 to add k N-bi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001 + 0111 + 1101 + 0010 = 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forward solution: k-1 N-input C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nd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581280" y="3809880"/>
          <a:ext cx="1943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809880"/>
                    <a:ext cx="1943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11D42-4C18-4DB8-A4C8-E0D0A6C5C29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Save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ll adder sums 3 inputs and produces 2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output has tw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m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full adders in parallel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ry sav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sums and N carry 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09680" y="3352680"/>
          <a:ext cx="37339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37339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0987-700D-4D51-A43B-3481F253977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SA Ap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-2 stages of C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sult in carry-save redunda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PA computes actu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09680" y="2971800"/>
          <a:ext cx="35816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3581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572000" y="4800600"/>
            <a:ext cx="685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9132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4724280"/>
            <a:ext cx="712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21200" y="4724280"/>
            <a:ext cx="533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4864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961B-8107-4E99-BB20-9442BC24B5E2}" type="slidenum">
              <a:t>19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inpu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3702A-D84C-4979-A0BB-08A894BDFC0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x N-bi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M-bit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these to produce M+N-bit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429000" y="24382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74320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048120"/>
            <a:ext cx="762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4290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73392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4D6EF-6F90-4507-A3BE-3BB68FFC0C62}" type="slidenum">
              <a:t>20</a:t>
            </a:fld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l For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n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03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743200" y="2590920"/>
          <a:ext cx="510552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1055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143000" y="3657600"/>
          <a:ext cx="647712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647712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947A0-628C-4AC0-B827-95F6CEA0244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t represents a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2209680"/>
          <a:ext cx="784872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848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FD93-DABB-46F4-8C8D-D3CA70DC25B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Multipli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057400" y="1523880"/>
          <a:ext cx="4876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76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C9B41-F26D-461D-BADB-C67A2295E61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tangular Arr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sh array to fit rectangular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14600" y="1981080"/>
          <a:ext cx="34210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3421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02E1-11FD-4B87-9B24-B2928BB63F0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ewer Partial Produ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multiplier requires N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looked at groups of r bits, we could form N/r parti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and small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radix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r = 2: look at pairs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partial products of 0, Y, 2Y, 3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hree are easy, but 3Y requires add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B6FE-CCCA-4BBD-B582-254CAEF38931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858000" cy="3135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429000" y="41911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44956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8006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54100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5715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4191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44956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51055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8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100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91520" y="57150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9329-0FD3-4E7A-BE1F-853CC8927D81}" type="slidenum">
              <a:t>26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Hardwa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encoder generates control lines for each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selectors choose P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029200" cy="36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FEBA8-0B15-4ED7-AF0F-1AF7A918805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 Exten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oducts can be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ign extension, which is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anout on most significant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2666880"/>
          <a:ext cx="7467480" cy="34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46748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35C9-3A41-4917-A549-8B1534721BF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bits are either all 0’s or all 1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all 0’s is all 1’s + 1 in prop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to reduce loading on 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95280" y="3048120"/>
          <a:ext cx="571500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571500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00EFD-6E47-4598-950F-64592205F99A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a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0…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11…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ty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tude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lt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24A1A-5384-4B97-98F2-88928936DE63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ven Simpler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add all the 1’s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he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90720" y="2743200"/>
          <a:ext cx="746748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7467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B4CAD-568D-4055-9987-D65838FC57A6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vs. unsigne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radix Booth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s. tree CS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8A885-B3DA-402F-A5D5-80F89BC8D1EE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’s &amp; 0’s Detec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N-input 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 NOTs + 1’s detector (N-input 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2590920"/>
          <a:ext cx="289548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28954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105520" y="2743200"/>
          <a:ext cx="304776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43200"/>
                    <a:ext cx="304776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295280" y="4419720"/>
          <a:ext cx="464832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419720"/>
                    <a:ext cx="46483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081E-72E6-4611-8992-B1815A432D6F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quality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each bit is equal (XNOR, aka equality g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 on bitwise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57400" y="2819520"/>
          <a:ext cx="472428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47242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B4462-D461-4504-A3CB-7EFD6E565C35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gnitude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look at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 + ~A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nsigned numbers, carry out is sign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666880" y="2971800"/>
          <a:ext cx="327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27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FCDBF-3C1D-40FC-8F9C-7AEE0C169C5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ed vs. Unsign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gned numbers, comparison is h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carr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: zero (all bits of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are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 negative (MSB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: overflow (inputs had different signs, output sig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 N xor V (sign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3630600"/>
            <a:ext cx="4800600" cy="2389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60377-E34C-492F-8C50-E82B455AC155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R 1 = 0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.  Rt shift sign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los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L1 = 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5029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50292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28CC1-1E38-4AD9-B5FA-8913D8147738}" type="slidenum">
              <a:t>8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nel shifter can do all six types of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N-bit field Y from 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by k bits (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&lt;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ly involves N N:1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8120" y="3408480"/>
            <a:ext cx="3581280" cy="245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AFF64-5F36-444E-A904-F6F1DEE6B3C4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9T19:03:48Z</dcterms:modified>
  <cp:revision>1518</cp:revision>
  <dc:subject/>
  <dc:title>PowerPoint Presentation</dc:title>
</cp:coreProperties>
</file>