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3.wmf" ContentType="image/x-wmf"/>
  <Override PartName="/ppt/media/image50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39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BE9F3-4F8D-489A-B404-B359A9E9A7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248D0-E5C6-4346-A955-E71CDC91FC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3A7CD-419F-4496-9FFF-4096BEADB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DB9D9-997D-4597-A1A6-0074EFF2E1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B7797-2A16-45E9-BAC8-E90374525D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AA7B1-8242-4412-A65C-4680BC27F1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86A71-C961-4B44-A76B-2A3B05ABE7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882A7-B0D9-4699-8D0F-6D511FB83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1A0B9-F1D7-4ED1-93BE-69B0A5835F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C05F5-88C5-4CB3-AEF1-742DFEA23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49F4A-16E2-4742-96B0-FCCE377C5B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260D0-54D5-4B1B-9F7B-CD4379271E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69645DDC-1A25-4ECD-92EC-B1B15C113C0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7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D471E-0DB2-4273-AB50-D61347B4FC65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 Propagate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bit adder called C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m bit depends on all previous car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compute all these carries quick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3352680"/>
          <a:ext cx="2514600" cy="21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352680"/>
                    <a:ext cx="251460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886200" y="3733920"/>
          <a:ext cx="4419720" cy="15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3733920"/>
                    <a:ext cx="441972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2159B-4D37-4335-A87C-BF2E87B55A3B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st design: cascade full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goes from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ull adder to have fast carry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3124080"/>
          <a:ext cx="7772400" cy="28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7772400" cy="28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1632E-3F68-4194-8A7E-C29706A10114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s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passes through majority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from minority +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inverter and use inverting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52480" y="3048120"/>
          <a:ext cx="533412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533412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264E5-E8CE-485F-B6F9-4C66C7AC0984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rate / Propa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often factored into G and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nd propagate for groups spanning i: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736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219320" y="2514600"/>
          <a:ext cx="281916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281916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1148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295280" y="4191120"/>
          <a:ext cx="198144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191120"/>
                    <a:ext cx="198144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3164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799160" y="4114800"/>
          <a:ext cx="1677960" cy="86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99160" y="4114800"/>
                    <a:ext cx="16779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371600" y="5562720"/>
          <a:ext cx="1622520" cy="41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1600" y="5562720"/>
                    <a:ext cx="162252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981080" y="25146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304812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41148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45720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40384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44956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54864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5CE00-9848-4434-A8EF-787281CFE812}" type="slidenum">
              <a:t>13</a:t>
            </a:fld>
          </a:p>
        </p:txBody>
      </p:sp>
    </p:spTree>
  </p:cSld>
  <p:transition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14400" y="1600200"/>
          <a:ext cx="746748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4674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31607-1A3E-4DCA-BE4A-D47B99B407B6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404640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38080" y="1600200"/>
          <a:ext cx="266724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26672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209680" y="2057400"/>
          <a:ext cx="4343400" cy="394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057400"/>
                    <a:ext cx="434340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8E6EF-9A22-4FC8-99AA-CED19B41B2B1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809880" y="1447920"/>
          <a:ext cx="4572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447920"/>
                    <a:ext cx="4572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72600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2120" y="2362320"/>
          <a:ext cx="304776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362320"/>
                    <a:ext cx="30477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52388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5E789-DB39-4A91-AA2F-3DBF8E39568A}" type="slidenum">
              <a:t>16</a:t>
            </a:fld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 Diagram No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5800" y="1968480"/>
          <a:ext cx="7772400" cy="36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68480"/>
                    <a:ext cx="7772400" cy="36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98AB2-4863-4531-AB66-3FB6DABD3970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kip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ripple is slow through all 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kip allows carry to skip over groups of n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based on n-bit propagate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62120" y="3200400"/>
          <a:ext cx="7696080" cy="18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200400"/>
                    <a:ext cx="769608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0EEE2-B8BA-42EF-B674-399EBCFD292C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kip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k n-bit groups (N = 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19320" y="5486400"/>
          <a:ext cx="41907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486400"/>
                    <a:ext cx="41907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828800" y="1600200"/>
          <a:ext cx="5181480" cy="332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600200"/>
                    <a:ext cx="518148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828800" y="548640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49173-2698-4F4C-896B-995730C6C104}" type="slidenum">
              <a:t>19</a:t>
            </a:fld>
          </a:p>
        </p:txBody>
      </p:sp>
    </p:spTree>
  </p:cSld>
  <p:transition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bit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Rippl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kip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Lookahead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elec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Incremen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2FB7B-DE7A-4F6D-ABF4-113BD2778748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riable Group Siz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56386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grows as O(sqrt(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85800" y="1600200"/>
          <a:ext cx="7772400" cy="41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802A0-34A3-4668-BEDB-41B61C2FFA6F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Lookahead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lookahead adder computes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: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bits in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higher-valency cells with more than two in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62120" y="3429000"/>
          <a:ext cx="761976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429000"/>
                    <a:ext cx="761976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CFA26-3DFC-48A7-9F57-46C5C191B372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A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38080" y="2133720"/>
          <a:ext cx="7467840" cy="32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467840" cy="32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FF803-B14B-4CD9-A0E8-3ACA17A93446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gher-Valency Ce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85800" y="2546280"/>
          <a:ext cx="7772400" cy="25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46280"/>
                    <a:ext cx="777240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1DBA2-618D-442F-A422-5BA9EADCBE52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elect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 for critical paths dependent on late input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mpute two possible outputs for X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proper output when X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elect adder precomputes n-bit s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oth possible carries into n-bi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066680" y="3886200"/>
          <a:ext cx="6705720" cy="21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86200"/>
                    <a:ext cx="670572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32765-B475-46A8-866C-EB1A396BD31A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Increment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initial PG and final XOR out of carry-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523880" y="2057400"/>
          <a:ext cx="5715000" cy="30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571500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34152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066680" y="5257800"/>
          <a:ext cx="518184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257800"/>
                    <a:ext cx="51818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286000" y="5334120"/>
            <a:ext cx="3962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8C10D-830A-4A8D-A666-3C2EAFD608C3}" type="slidenum">
              <a:t>25</a:t>
            </a:fld>
          </a:p>
        </p:txBody>
      </p:sp>
    </p:spTree>
  </p:cSld>
  <p:transition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riable Group Siz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bu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657600" y="1523880"/>
          <a:ext cx="480996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523880"/>
                    <a:ext cx="4809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5E1C3-E12E-496F-9A04-66C75E2ADE31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lookahead is good, lookahead across lookahea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lookahead gives O(log N)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variations on tree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5E342-82A2-43D2-A00D-160783C38811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rent-Ku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828720" y="1523880"/>
          <a:ext cx="74865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523880"/>
                    <a:ext cx="7486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CDDB2-B98E-497A-B43E-F62708CCAD34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lansk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85800" y="2197080"/>
          <a:ext cx="7772400" cy="32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97080"/>
                    <a:ext cx="7772400" cy="32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DD638-92F4-4503-AE3F-8C879DA269DC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ngle-Bit Ad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Ad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2743200"/>
          <a:ext cx="2438280" cy="18255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181480" y="2743200"/>
          <a:ext cx="2819520" cy="3286080"/>
        </p:xfrm>
        <a:graphic>
          <a:graphicData uri="http://schemas.openxmlformats.org/drawingml/2006/table">
            <a:tbl>
              <a:tblPr/>
              <a:tblGrid>
                <a:gridCol w="563760"/>
                <a:gridCol w="565200"/>
                <a:gridCol w="561960"/>
                <a:gridCol w="565200"/>
                <a:gridCol w="5634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230560" y="1371600"/>
          <a:ext cx="1315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0560" y="1371600"/>
                    <a:ext cx="1315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6705720" y="1379520"/>
          <a:ext cx="144756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379520"/>
                    <a:ext cx="144756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838080" y="1981080"/>
          <a:ext cx="129564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1981080"/>
                    <a:ext cx="12956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870440" y="1981080"/>
          <a:ext cx="1835280" cy="62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0440" y="1981080"/>
                    <a:ext cx="18352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05740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6748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6748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6748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3432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6748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748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5029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467480" y="5029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5715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5715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488CF-7C51-42A1-BE49-590B512B5B7B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ogge-Sto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85800" y="1933560"/>
          <a:ext cx="777240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33560"/>
                    <a:ext cx="777240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7E5D5-4772-40DC-A528-A590F72AE8A1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 Taxonom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N-bit tree adder would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og N   logic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out never exceedi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than one wiring track between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dder with 3-D taxonomy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ou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ing track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tree adders sit on plane defin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5FDCD-16C5-45E0-A7BE-04CD4A16DD80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 Taxonom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676520" y="1523880"/>
          <a:ext cx="5759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5759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6324480" y="220968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518148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2362320"/>
            <a:ext cx="5331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03B76-34FD-4C12-A430-4D99339A80F1}" type="slidenum">
              <a:t>32</a:t>
            </a:fld>
          </a:p>
        </p:txBody>
      </p:sp>
    </p:spTree>
  </p:cSld>
  <p:transition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n-Carl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85800" y="1700280"/>
          <a:ext cx="777240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00280"/>
                    <a:ext cx="777240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CF518-3405-4346-9308-9DE8A10F03C2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nowles [2, 1, 1, 1]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85800" y="1933560"/>
          <a:ext cx="777240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33560"/>
                    <a:ext cx="777240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64ED3-1913-4D67-B3A8-752E0270948C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dner-Fisch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85800" y="1814400"/>
          <a:ext cx="7772400" cy="39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14400"/>
                    <a:ext cx="777240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FC064-7860-4F49-917F-01F24D7F5974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axonomy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209680" y="2057400"/>
          <a:ext cx="472464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472464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295280" y="4800600"/>
          <a:ext cx="222264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800600"/>
                    <a:ext cx="222264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685800" y="3276720"/>
          <a:ext cx="1905120" cy="10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276720"/>
                    <a:ext cx="19051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609480" y="1676520"/>
          <a:ext cx="1905120" cy="93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1676520"/>
                    <a:ext cx="190512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6553080" y="1523880"/>
          <a:ext cx="2133720" cy="1252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3080" y="1523880"/>
                    <a:ext cx="2133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6248520" y="2743200"/>
          <a:ext cx="2209680" cy="152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2743200"/>
                    <a:ext cx="220968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638680" y="4572000"/>
          <a:ext cx="2362320" cy="1469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572000"/>
                    <a:ext cx="236232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35029-8691-45EB-A9A5-022C768F6527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33520" y="2819520"/>
          <a:ext cx="8153280" cy="307800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1295280"/>
                <a:gridCol w="990720"/>
                <a:gridCol w="990360"/>
                <a:gridCol w="1447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te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Lev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Fan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Ri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Skip n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4 +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Inc. n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4 +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-K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-1, 0,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lans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L-1,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2 +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N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gge-S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0, L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685800" y="1600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r architectures offer area / power / delay tradeoff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best one for your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B84C3-18E6-4F20-9950-6AF8C687C98C}" type="slidenum">
              <a:t>37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ull adder, define what happens to car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terms of A and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g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l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~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2895480"/>
            <a:ext cx="7621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37339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4648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E317C-3137-403C-8010-7772F2D15887}" type="slidenum">
              <a:t>4</a:t>
            </a:fld>
          </a:p>
        </p:txBody>
      </p:sp>
    </p:spTree>
  </p:cSld>
  <p:transition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e force implementation from eq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2057400"/>
          <a:ext cx="2743200" cy="9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274320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295280" y="3200400"/>
          <a:ext cx="6172200" cy="283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200400"/>
                    <a:ext cx="617220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E850F-67FC-43B1-8931-85742753AE86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S in terms of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ABC + (A + B + C)(~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is usually C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ippl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47920" y="2743200"/>
          <a:ext cx="609588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43200"/>
                    <a:ext cx="60958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B6FD6-08D0-496A-84D6-52F795C13FF9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ver layout circumvents usual line of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de transistors on 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output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7696080" cy="246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816D4-C3E6-44B1-9711-48D4CE076503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I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Pass Transistor Logic (CP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faster, but mor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2293920"/>
          <a:ext cx="579132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93920"/>
                    <a:ext cx="57913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577A6-5E20-4473-BF77-C26403DD8FB9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ast, but large and power hung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very fast multi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371600" y="2787480"/>
          <a:ext cx="5715000" cy="33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787480"/>
                    <a:ext cx="5715000" cy="33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F6628-BEDF-4F3E-8FC8-B1C1B34C36AB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09T19:03:56Z</dcterms:modified>
  <cp:revision>1404</cp:revision>
  <dc:subject/>
  <dc:title>PowerPoint Presentation</dc:title>
</cp:coreProperties>
</file>