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3.wmf" ContentType="image/x-wmf"/>
  <Override PartName="/ppt/media/image50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0E01-0A24-43FA-9293-B9EDB23B7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F2AC-2F87-45F4-A91F-F587E5D81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78C3-7B84-42FF-A525-96F4B2F37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2B281-FE7E-44D6-A205-1CD12E4BCC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468C-A567-4624-A8BD-233A526F4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8CA7-48C6-4262-A329-688F24E7F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5F81-F41A-4B70-8521-9D1594B58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EE69-9BA7-4C8E-B151-B210C12CD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184C-D73B-4FCF-83F1-9EF8A6201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DD941-FEB6-427C-91D5-39A6C8E41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B104-957E-4D0D-A83D-C401DFB86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2C05-24C2-4061-9BF1-FC71258CB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E830A1A7-BC64-41DD-B6AE-583D5D7E16D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B16A-85B6-4EE5-9DB3-FCA28FD1D6A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Propagate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bit adder called 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m bit depends on all previous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mpute all these carrie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3352680"/>
          <a:ext cx="251460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25146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86200" y="3733920"/>
          <a:ext cx="44197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44197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836B-CEC4-4A66-86CA-BB66F16F628A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design: cascade full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goes from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ull adder to have fast car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3124080"/>
          <a:ext cx="77724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7724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8ECE-4DD4-4241-BFD9-7B8CF886DB0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passes through majorit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inority +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inverter and use inverting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3048120"/>
          <a:ext cx="53341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334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5369-8A52-47DB-BAEF-F8406BAD254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19320" y="2514600"/>
          <a:ext cx="281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281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4191120"/>
          <a:ext cx="19814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981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99160" y="4114800"/>
          <a:ext cx="16779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9160" y="4114800"/>
                    <a:ext cx="1677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371600" y="5562720"/>
          <a:ext cx="162252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16225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81080" y="25146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04812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41148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5720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0384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4956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54864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7343-AFF3-45A6-8988-0CC7DA7B2170}" type="slidenum">
              <a:t>13</a:t>
            </a:fld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160020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A679-B768-46DE-B667-16740DA0EF22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40464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38080" y="1600200"/>
          <a:ext cx="26672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26672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09680" y="2057400"/>
          <a:ext cx="4343400" cy="39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057400"/>
                    <a:ext cx="4343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50E9-B994-4F33-AC10-89D15F595C1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2362320"/>
          <a:ext cx="30477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3047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523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99C0-9E7A-4930-8F51-89DB0E2F87C0}" type="slidenum">
              <a:t>16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Diagram No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68480"/>
          <a:ext cx="777240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7772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5E48-C782-4861-97C5-AA361BFCD06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is slow through all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llows carry to skip over groups of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n-bit propagat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3200400"/>
          <a:ext cx="769608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96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44DA-360F-4CFA-B693-F8A5060D337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5486400"/>
          <a:ext cx="419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486400"/>
                    <a:ext cx="419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28800" y="54864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4286D-460D-4F2C-896F-1112F9D8FD15}" type="slidenum">
              <a:t>19</a:t>
            </a:fld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bi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Incremen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6507-AEF4-4D10-8E27-47CB1128BDD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grows as O(sqrt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600200"/>
          <a:ext cx="77724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6367-49ED-44D4-9E64-429AB39B7E7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 compute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: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bit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igher-valency cells with more than tw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3429000"/>
          <a:ext cx="76197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6197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E9B3-AA54-4036-BD10-870EB6F7D30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2133720"/>
          <a:ext cx="74678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9C13-15B4-4836-A65B-591E7BF1063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gher-Valency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2546280"/>
          <a:ext cx="7772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46280"/>
                    <a:ext cx="7772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BC09-6C70-4EBB-8F32-E15061196A7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for critical paths dependent on late input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wo possible outputs for X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oper output when X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 precomputes n-bit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possible carries into n-bi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66680" y="3886200"/>
          <a:ext cx="67057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05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6149-5A03-4CBF-837E-DE528F85F06B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66680" y="5257800"/>
          <a:ext cx="51818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5181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86000" y="533412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F96F-B5FD-483D-AA39-3213AEB73592}" type="slidenum">
              <a:t>25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657600" y="1523880"/>
          <a:ext cx="480996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4809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1B74-8979-4014-BC3F-F9BA972923C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okahead is good, lookahead across lookah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lookahead gives O(log N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tions on tree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53BA-23B0-4C00-8DE1-F46C1EC5A1E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ent-Ku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28720" y="1523880"/>
          <a:ext cx="748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523880"/>
                    <a:ext cx="748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49C9-D360-4089-AB69-8153BF019146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197080"/>
          <a:ext cx="777240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7080"/>
                    <a:ext cx="777240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AB52-480F-47F5-A37B-D8C566DADBB8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2743200"/>
          <a:ext cx="2438280" cy="18255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181480" y="2743200"/>
          <a:ext cx="2819520" cy="328608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8080" y="1981080"/>
          <a:ext cx="1295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295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70440" y="1981080"/>
          <a:ext cx="18352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981080"/>
                    <a:ext cx="1835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05740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BC300-977B-4D5C-B7BB-5318C71044A1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gge-Sto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0131-D108-4B14-BA32-969E723EFBE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N-bit tree adder would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N  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 never excee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one wiring track betwe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dder with 3-D taxonom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trac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ee adders sit on plan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C94C-6214-49B9-A71D-1CA9BC8F37F6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324480" y="22096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36232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C710-33FB-495D-871A-0BF6CF9DB730}" type="slidenum">
              <a:t>32</a:t>
            </a:fld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n-Carl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5800" y="1700280"/>
          <a:ext cx="77724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7228-1142-416F-9A8B-5F122C0AE19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nowles [2, 1, 1, 1]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D96C6-E63B-412D-AB70-2FD549BE3EF9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dner-Fisch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814400"/>
          <a:ext cx="77724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4400"/>
                    <a:ext cx="77724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C7E5-0037-4F22-98E9-ED6C811DC85A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xonomy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209680" y="2057400"/>
          <a:ext cx="4724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724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800600"/>
          <a:ext cx="22226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2222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85800" y="3276720"/>
          <a:ext cx="190512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76720"/>
                    <a:ext cx="1905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9480" y="1676520"/>
          <a:ext cx="190512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76520"/>
                    <a:ext cx="19051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553080" y="1523880"/>
          <a:ext cx="21337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523880"/>
                    <a:ext cx="2133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248520" y="2743200"/>
          <a:ext cx="220968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2743200"/>
                    <a:ext cx="2209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638680" y="4572000"/>
          <a:ext cx="2362320" cy="14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572000"/>
                    <a:ext cx="23623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AD72-BC40-447A-9132-716873167D1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2819520"/>
          <a:ext cx="8153280" cy="307800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295280"/>
                <a:gridCol w="990720"/>
                <a:gridCol w="9903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Fan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Ri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Skip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Inc.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-K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-1, 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an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L-1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 +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ge-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0, L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68580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s offer area / power / delay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best one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ABB7-8D47-4A30-BE9E-6ECCB85EC388}" type="slidenum">
              <a:t>37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erms of A and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~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895480"/>
            <a:ext cx="7621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37339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648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D30E-F978-4C1F-AD5F-CAA5C8601C70}" type="slidenum">
              <a:t>4</a:t>
            </a:fld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implementation from e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057400"/>
          <a:ext cx="2743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2743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95280" y="3200400"/>
          <a:ext cx="617220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1722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01FB-BEDD-47A3-883A-3687C2A0B6D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S in terms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ABC + (A + B + C)(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is usually C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743200"/>
          <a:ext cx="6095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095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8EBA-1B35-4043-B03F-607AEB04A33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r layout circumvents usual lin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de transistors on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put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9608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03E0-6AE9-456C-8F4B-E9ADAD3C02B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Pass Transistor Logic (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aster, but mor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293920"/>
          <a:ext cx="57913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3920"/>
                    <a:ext cx="57913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BCEB-A9DD-4583-B3E7-788178B598D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, but large and power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very fast 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2787480"/>
          <a:ext cx="571500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87480"/>
                    <a:ext cx="571500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FB74-FC2B-40B7-89EA-27971100F51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56Z</dcterms:modified>
  <cp:revision>1404</cp:revision>
  <dc:subject/>
  <dc:title>PowerPoint Presentation</dc:title>
</cp:coreProperties>
</file>