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9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B1DF-83BF-4961-B55B-BCEA5847A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596C-4860-4030-91F3-A1C93BF11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1885-77C2-4FCB-8FAE-ECE1024EB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A7C7-FB5E-497D-9B17-A8687D831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A306-27E4-4AA5-98AD-794E98A085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89D2-E438-45B4-BAD1-A905E6417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9AB8-E17B-441B-B6CA-4985FC675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1240-F13B-4563-AAF7-F4753D730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20BF-55B3-4C95-B773-46AB7B60D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3583-48A1-4030-A07E-942C3D284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062A-C364-4EEA-AFCF-EF1FBAE69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B5AC-BEC8-4B2B-9204-317D83ABA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D5E1-A195-4794-8568-CEA3149BF1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557A-A16B-4B00-BFBD-07BACA55FC9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B66D-4A4A-4266-BE4F-2DEF0A8865F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E912-0063-4582-BC1D-3456D93DCCC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6D6B-4BA1-4D8F-A0A7-BAFFD7B2F1B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B0E0-930D-4947-B364-E3EA7CAD9E5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DA59-A3C7-4815-9857-1005D6A80F3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A7A5-E418-4B81-8DEE-D73BB14B1C4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DD90-C286-4664-A3F7-73E8802C9D2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D677-40C0-4FED-9E36-BEE5CC70950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B224-CE70-4811-AF3D-4A83B319EB7F}" type="slidenum">
              <a:t>1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114D-776F-4936-B2FC-B2DB152AFF43}" type="slidenum">
              <a:t>19</a:t>
            </a:fld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E719-AA54-4D0A-9B16-C58D55FECDE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8E41-D68C-46C3-81BA-F655654623D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65EC-B039-4767-AD0D-71D4961A982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73F1-D212-4F6C-BDF4-655BE802856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4D20-37E8-49A2-8AC3-E204D7D09B3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A93A-D812-4FA7-84F6-B17B8888455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3517-49EA-4C65-9A65-1B3FEA31CFB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EA7D-7FD3-48F3-A801-694F2E25D7F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A636-9212-4192-9F11-D5AC95235FDC}" type="slidenum">
              <a:t>27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161" name="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4B9A-932B-47F3-9D2D-0F4B80E80B79}" type="slidenum">
              <a:t>28</a:t>
            </a:fld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A648-9872-4499-AD74-043D5E5EFE33}" type="slidenum">
              <a:t>29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084C-8E67-4B3E-A917-4FAE6532FD3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1176-5356-4F8D-9675-011D00EDEB5C}" type="slidenum">
              <a:t>30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193" name="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331E-57F8-4C72-ABB9-71B12D3AEDD8}" type="slidenum">
              <a:t>31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07" name="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78CC-6832-47AA-B4B9-6FDB54E3671B}" type="slidenum">
              <a:t>32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FBCF-F5A5-4ADA-B946-B7E2C843BC8F}" type="slidenum">
              <a:t>33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4E39-EE25-4B4C-A0EC-D5153D3706A5}" type="slidenum">
              <a:t>34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3576-8362-427C-9440-4B8A70B8BC8E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FA1C-E2CA-4F7A-9C47-4C01A46BADA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FF02-B25E-40E4-8B1A-92EBE8BCD27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E87C-014C-46F7-BC82-C9BB96D68D6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621B-3549-40BB-9301-91C74A37464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75B7-766C-490F-B45A-7C265A9A380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F7FF-0232-48AD-BC14-BF316EF1400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5T17:38:40Z</dcterms:modified>
  <cp:revision>1810</cp:revision>
  <dc:subject/>
  <dc:title>PowerPoint Presentation</dc:title>
</cp:coreProperties>
</file>