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wmf" ContentType="image/x-wmf"/>
  <Override PartName="/ppt/media/image1.png" ContentType="image/png"/>
  <Override PartName="/ppt/media/image2.jpeg" ContentType="image/jpeg"/>
  <Override PartName="/ppt/media/image5.png" ContentType="image/png"/>
  <Override PartName="/ppt/media/image10.png" ContentType="image/png"/>
  <Override PartName="/ppt/media/image6.wmf" ContentType="image/x-wmf"/>
  <Override PartName="/ppt/media/image3.png" ContentType="image/png"/>
  <Override PartName="/ppt/media/image11.wmf" ContentType="image/x-wmf"/>
  <Override PartName="/ppt/media/image7.wmf" ContentType="image/x-wmf"/>
  <Override PartName="/ppt/media/image12.wmf" ContentType="image/x-wmf"/>
  <Override PartName="/ppt/media/image4.png" ContentType="image/png"/>
  <Override PartName="/ppt/media/image13.png" ContentType="image/png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9601200" cy="7315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42197B-87D4-4A16-A50B-7412ADD087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191B2C-C131-4EF2-8664-65AEEA3449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EE86C0-08CA-4E24-892F-6DEDB14ADA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27CC9E-0951-45EC-AB40-496CA922A37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90C5E5-E450-40DD-9B4B-5CC7E97348B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0CE11D-0E16-4AEC-AF00-98A5E2BCD9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FF67BA-6770-47D0-8F35-5B0FDFD734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CA79D7-EC75-46F2-9C2A-69309DEEAF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5D47B8-D0A5-48F2-9D68-F4640E3AFA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1565BC-C4EB-4D7E-8D2F-7EF7B1EAB8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B4380C-C43B-499B-AB4F-4C40A86C70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346A64-BE9A-4348-9043-79D3F036EE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3ED1D-7491-417A-83BD-35FA3E8C9DB1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095880"/>
            <a:ext cx="7772400" cy="152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685800" y="1295280"/>
            <a:ext cx="7772400" cy="152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3733920" y="624852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MOS VLSI Desig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3733920" y="624852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MOS VLSI Design </a:t>
            </a:r>
            <a:r>
              <a:rPr b="1" lang="en-US" sz="1400" spc="-1" strike="noStrike" baseline="30000">
                <a:solidFill>
                  <a:srgbClr val="0000ff"/>
                </a:solidFill>
                <a:latin typeface="Arial"/>
              </a:rPr>
              <a:t>4th 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952880" y="4190760"/>
            <a:ext cx="4191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ecture 15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caling &amp; Economic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33520" y="762120"/>
            <a:ext cx="4381560" cy="5486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5: Scaling and Economic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E19017-7EB7-4D8E-BE1B-C7B25E80CDC6}" type="slidenum">
              <a:t>1</a:t>
            </a:fld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Real Scaling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caling has slowed since 65 n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mited by gate tunneling cur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tes are only about 4 atomic layers thick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-k dielectrics have helped continued scaling of effective oxide thick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caling has slowed since 65 n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RAM cell stability at low voltage is challen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nnard scaling predicts cost, speed, power all impro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low 65 nm, some designers find they must choose just two of the th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5: Scaling and Economic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957EBE-0C5E-421C-B7D9-F5F0CF5CC3C4}" type="slidenum">
              <a:t>10</a:t>
            </a:fld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Wire Scaling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re cross-s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, s, t all 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re l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cal / scaled interconn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lobal interconn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e size scaled by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1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5: Scaling and Economic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83A5DE-3234-4A1E-874C-3B33E0366029}" type="slidenum">
              <a:t>11</a:t>
            </a:fld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Interconnect Scaling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685800" y="1523880"/>
          <a:ext cx="6781680" cy="3556080"/>
        </p:xfrm>
        <a:graphic>
          <a:graphicData uri="http://schemas.openxmlformats.org/drawingml/2006/table">
            <a:tbl>
              <a:tblPr/>
              <a:tblGrid>
                <a:gridCol w="4114800"/>
                <a:gridCol w="1371600"/>
                <a:gridCol w="1295280"/>
              </a:tblGrid>
              <a:tr h="246600"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amete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nsitivity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ale Facto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600"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: width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600"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: spacing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600"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: thicknes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600"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: heigh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 die siz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w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 wire resistance/unit length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w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r>
                        <a:rPr b="0" lang="en-US" sz="15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wf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 fringing capacitance / unit length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/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wp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 parallel plate capacitance / unit length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/h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w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 total wire capacitance / unit length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wf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+ C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wp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wu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 unrepeated RC delay / unit length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w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w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r>
                        <a:rPr b="0" lang="en-US" sz="15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wr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 repeated RC delay / unit length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qrt(RCR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w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w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qrt(S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600"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osstalk nois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/h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w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 energy per bit / unit length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w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DD</a:t>
                      </a:r>
                      <a:r>
                        <a:rPr b="0" lang="en-US" sz="15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S</a:t>
                      </a:r>
                      <a:r>
                        <a:rPr b="0" lang="en-US" sz="15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5: Scaling and Economic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04D3FA-6D32-4D4C-AB9D-EF55374FCF5C}" type="slidenum">
              <a:t>12</a:t>
            </a:fld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Interconnect Delay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685800" y="1523880"/>
          <a:ext cx="6705720" cy="1270080"/>
        </p:xfrm>
        <a:graphic>
          <a:graphicData uri="http://schemas.openxmlformats.org/drawingml/2006/table">
            <a:tbl>
              <a:tblPr/>
              <a:tblGrid>
                <a:gridCol w="2743200"/>
                <a:gridCol w="1143000"/>
                <a:gridCol w="1828800"/>
                <a:gridCol w="990720"/>
              </a:tblGrid>
              <a:tr h="246600"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amete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nsitivity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cal / Semigloba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loba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: length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repeated wire RC delay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r>
                        <a:rPr b="0" lang="en-US" sz="15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wu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r>
                        <a:rPr b="0" lang="en-US" sz="15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en-US" sz="15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peated wire delay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t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w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qrt(1/S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qrt(S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ergy per bi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w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S</a:t>
                      </a:r>
                      <a:r>
                        <a:rPr b="0" lang="en-US" sz="15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r>
                        <a:rPr b="0" lang="en-US" sz="15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S</a:t>
                      </a:r>
                      <a:r>
                        <a:rPr b="0" lang="en-US" sz="15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5: Scaling and Economic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5038DF-8CB8-40DD-BDAE-3862AF29ABBB}" type="slidenum">
              <a:t>13</a:t>
            </a:fld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Observation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acitance per micron is remaining const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out 0.2 fF/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ughly 1/5 of gate capaci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cal wires are getting fa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quite tracking transistor impro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not a major prob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lobal wires are getting sl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longer possible to cross chip in one cy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5: Scaling and Economic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CC079B-1F9C-4C2F-9E83-FE091F639E27}" type="slidenum">
              <a:t>14</a:t>
            </a:fld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ITR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miconductor Industry Association forec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l. Technology Roadmap for Semicondu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685800" y="2514600"/>
            <a:ext cx="7848720" cy="2859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5: Scaling and Economic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5E5E2D-71CF-4620-950A-20677A1BE9FF}" type="slidenum">
              <a:t>15</a:t>
            </a:fld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caling Implication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d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d C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connect Wo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wer Wo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tivity Challe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Lim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5: Scaling and Economic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C156D6-BD22-450C-A5DC-92762E27943E}" type="slidenum">
              <a:t>16</a:t>
            </a:fld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ost Improvemen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2003, $0.01 bought you 100,000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ore’s Law is still going stro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838080" y="3335400"/>
            <a:ext cx="7543800" cy="26874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4495320" y="5788080"/>
            <a:ext cx="86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Moore03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5: Scaling and Economic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D0A623-FBA7-4524-B478-E4A2DA10EE95}" type="slidenum">
              <a:t>17</a:t>
            </a:fld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Interconnect Wo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A made a gloomy forecast in 199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lay would reach minimum at 250 – 180 nm, then get worse because of wi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sleading 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lobal wi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0 kgate blocks 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3962520" y="2971800"/>
          <a:ext cx="4724280" cy="272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62520" y="2971800"/>
                    <a:ext cx="4724280" cy="272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"/>
          <p:cNvSpPr/>
          <p:nvPr/>
        </p:nvSpPr>
        <p:spPr>
          <a:xfrm>
            <a:off x="5867640" y="5788080"/>
            <a:ext cx="68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SIA97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5: Scaling and Economic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9882A6-7193-4090-9719-4468D2A24A22}" type="slidenum">
              <a:t>18</a:t>
            </a:fld>
          </a:p>
        </p:txBody>
      </p:sp>
    </p:spTree>
  </p:cSld>
  <p:transition>
    <p:zoom dir="out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Reachable Radiu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can’t send a signal across a large fast chip in one cycle anym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the microarchitect can plan around th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st as off-chip memory latencies were toler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2133720" y="3276720"/>
            <a:ext cx="2457360" cy="2666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5: Scaling and Economic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93B944-6802-4D36-86D2-0499EEDA8E41}" type="slidenum">
              <a:t>19</a:t>
            </a:fld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conn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ture Challe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5: Scaling and Economic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D095BB-A389-413E-845A-5C6DB30D80D3}" type="slidenum">
              <a:t>2</a:t>
            </a:fld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ynamic Powe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l VP Patrick Gelsinger (ISSCC 200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scaling continues at present pace, by 2005, high speed processors would have power density of nuclear reactor, by 2010, a rocket nozzle, and by 2015, surface of su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siness as usual will not work in the futur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tention to power 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8000" y="5788080"/>
            <a:ext cx="55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Intel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800600" y="3886200"/>
            <a:ext cx="3200400" cy="1947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5: Scaling and Economic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3EBCAD-C802-4686-84B1-BD0D1F24C301}" type="slidenum">
              <a:t>20</a:t>
            </a:fld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tatic Powe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cre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ve dynamic 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ect thin gate oxides and short chann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point in high value because of velocity sa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ust decrease 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tain device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this causes exponenti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e in OFF leak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jor future challe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181480" y="3429000"/>
            <a:ext cx="3426120" cy="25653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7010280" y="4876920"/>
            <a:ext cx="83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553080" y="3962520"/>
            <a:ext cx="99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ynam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327000" y="5791320"/>
            <a:ext cx="839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[Moore03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5: Scaling and Economic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3124E2-8D93-47AE-B1F8-973BBCE4892D}" type="slidenum">
              <a:t>21</a:t>
            </a:fld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roductivity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istor count is increasing faster than designer productivity (gates / wee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ger design te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 to 500 for a high-end microprocess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expensive design c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sure to raise produc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y on synthesis, IP bloc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for good engineering manag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5: Scaling and Economic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2E9D12-1302-4E68-9BBC-5C0B44ED8BC9}" type="slidenum">
              <a:t>22</a:t>
            </a:fld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hysical Limit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ll Moore’s Law run out of st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’t build transistors smaller than an atom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reasons have been predicted for end of sca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ynamic 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threshold leakage, tunne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rt channel eff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brication co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omig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connect 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mors of demise have been exagger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5: Scaling and Economic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405871-8839-4619-95F8-17404C420526}" type="slidenum">
              <a:t>23</a:t>
            </a:fld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VLSI Economic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ling price 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o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ot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ot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/ (1-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 = profit mar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ot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total c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recurring engineering cost (N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urring c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xed c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5: Scaling and Economic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E94FF5-F82C-428D-A495-72B33CE266E4}" type="slidenum">
              <a:t>24</a:t>
            </a:fld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NR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gineering c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ends on size of design te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 benefits, training, compu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D too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gital front end: $10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og front end: $100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gital back end: $1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type manufactu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k costs: $5M in 45 nm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 fixture and package too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5: Scaling and Economic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CAE79A-038E-4578-A07C-EC91BB7613C6}" type="slidenum">
              <a:t>25</a:t>
            </a:fld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Recurring Cost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br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fer cost / (Dice per wafer * Yiel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fer cost: $500 - $3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ce per wafer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eld: Y = 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small A, 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1, cost proportional to 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large A, 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0, cost increases expon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cka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68720" y="323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3886200" y="2819520"/>
          <a:ext cx="1905120" cy="75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86200" y="2819520"/>
                    <a:ext cx="1905120" cy="75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5: Scaling and Economic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BB1F59-CF65-4D69-9E45-8F95517FE9E6}" type="slidenum">
              <a:t>26</a:t>
            </a:fld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Fixed Cost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sheets and application no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keting and adverti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eld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5: Scaling and Economic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027B90-7CCA-4261-8633-0327CB591405}" type="slidenum">
              <a:t>27</a:t>
            </a:fld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want to start a company to build a wireless communications chip.  How much venture capital must you rais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cause you are smarter than everyone else, you can get away with a small team in just two yea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 digital design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ree analog design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ve support person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5: Scaling and Economic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64A120-D839-47DE-A190-02CB11C227CD}" type="slidenum">
              <a:t>28</a:t>
            </a:fld>
          </a:p>
        </p:txBody>
      </p:sp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olu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gital designer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70k sal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30k overhe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10k compu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10k CAD t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tal: $120k * 7 = $840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alog desig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100k sal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30k overhe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10k compu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100k CAD t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tal: $240k * 3 = $720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48320" y="1523880"/>
            <a:ext cx="39621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 sta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45k sal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20k overhe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5k compu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tal: $70k * 5 = $350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br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ck-end tools: $1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sks: $5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tal: $6M / y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 years @ $7.91M / y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16M design &amp; proto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5: Scaling and Economic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BD320C-B29C-46D0-9A7F-E08CD3267D3D}" type="slidenum">
              <a:t>29</a:t>
            </a:fld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Moore’s Law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all that Moore’s Law has been driving CM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95120" y="3502080"/>
            <a:ext cx="86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Moore65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762120" y="1981080"/>
            <a:ext cx="2133360" cy="19130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685800" y="4089240"/>
            <a:ext cx="4191120" cy="18543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5105520" y="2514600"/>
            <a:ext cx="3276360" cy="20271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3200400" y="579132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ore’s Law tod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410080" y="4648320"/>
            <a:ext cx="297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ollary: clock speeds have impro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5: Scaling and Economic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45741F-D951-405E-A914-FC39635D4388}" type="slidenum">
              <a:t>3</a:t>
            </a:fld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Why?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 more transistors per I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er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rger d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 faster computer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er, faster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tter microarchitecture (more IP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wer gate delays per cy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5: Scaling and Economic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CB9B0E-8B93-4808-8D69-925AAD6E0368}" type="slidenum">
              <a:t>4</a:t>
            </a:fld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caling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only constant in VLSI is constant 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ature size shrinks by 30% every 2-3 y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istors become chea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istors become faster and lower 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res do not improv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and may get wors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le factor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icall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chnology n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2895480" y="4572000"/>
          <a:ext cx="990720" cy="44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5480" y="4572000"/>
                    <a:ext cx="990720" cy="44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4419720" y="3654360"/>
            <a:ext cx="4038480" cy="2289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5: Scaling and Economic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73EE91-CDB2-4DCD-B97B-4DA787CB1E64}" type="slidenum">
              <a:t>5</a:t>
            </a:fld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ennard Scaling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posed by Dennard in 197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known a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nstant fiel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ca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ic fields remain the same as features 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ling assum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imensions (x, y, z =&gt; W, L,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ltage (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ping lev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5: Scaling and Economic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26B56E-F2C8-4F7D-84E0-2ACB749E2CC8}" type="slidenum">
              <a:t>6</a:t>
            </a:fld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evice Scaling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685800" y="1523880"/>
          <a:ext cx="5334120" cy="4429080"/>
        </p:xfrm>
        <a:graphic>
          <a:graphicData uri="http://schemas.openxmlformats.org/drawingml/2006/table">
            <a:tbl>
              <a:tblPr/>
              <a:tblGrid>
                <a:gridCol w="2484360"/>
                <a:gridCol w="1095840"/>
                <a:gridCol w="1753920"/>
              </a:tblGrid>
              <a:tr h="246600"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amete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nsitivity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nnard Scaling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600"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: Length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600"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: Width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ox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 gate oxide thicknes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DD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 supply voltag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 threshold voltag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600"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: substrate doping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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/(Lt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ox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on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 ON curren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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V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DD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V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r>
                        <a:rPr b="0" lang="en-US" sz="15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: effective resistanc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DD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I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o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: gate capacitanc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L/t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ox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600"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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 gate delay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C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600"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: clock frequency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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: switching energy / gat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V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DD</a:t>
                      </a:r>
                      <a:r>
                        <a:rPr b="0" lang="en-US" sz="15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S</a:t>
                      </a:r>
                      <a:r>
                        <a:rPr b="0" lang="en-US" sz="15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600"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: switching power / gat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f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S</a:t>
                      </a:r>
                      <a:r>
                        <a:rPr b="0" lang="en-US" sz="15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600"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: area per gat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S</a:t>
                      </a:r>
                      <a:r>
                        <a:rPr b="0" lang="en-US" sz="15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600"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witching power density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/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witching current density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on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5: Scaling and Economic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0ADCEE-75EB-4C10-8A10-8C6303A5A6AA}" type="slidenum">
              <a:t>7</a:t>
            </a:fld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Observation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te capacitance per micron is nearly independent of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ON resistance * micron improves with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tes get faster with scaling (goo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ynamic power goes down with scaling (goo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density goes up with scaling (ba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5: Scaling and Economic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4C3E52-EC92-4BF8-9B32-400C8A531453}" type="slidenum">
              <a:t>8</a:t>
            </a:fld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te capacitance is typically about 1 fF/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ypical FO4 inverter delay for a process of feature siz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in nm) is about 0.5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imate the ON resistance of a unit (4/2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transist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4 = 5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15 R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C = (0.5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/ 15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30) ps/n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W = 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R = 16.6 k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 resistance is roughly independent o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85800" y="3962520"/>
            <a:ext cx="6858000" cy="18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5: Scaling and Economic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7AD18C-4E82-45B5-A989-BA6498072668}" type="slidenum">
              <a:t>9</a:t>
            </a:fld>
          </a:p>
        </p:txBody>
      </p:sp>
    </p:spTree>
  </p:cSld>
  <p:transition>
    <p:zoom dir="out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8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0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03:13:39Z</dcterms:created>
  <dc:creator>David Harris</dc:creator>
  <dc:description/>
  <dc:language>en-US</dc:language>
  <cp:lastModifiedBy>Harris</cp:lastModifiedBy>
  <dcterms:modified xsi:type="dcterms:W3CDTF">2010-03-31T16:16:51Z</dcterms:modified>
  <cp:revision>2224</cp:revision>
  <dc:subject/>
  <dc:title>PowerPoint Presentation</dc:title>
</cp:coreProperties>
</file>