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637A-16C8-4229-8BE9-6B315986E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C5F3-C780-4020-B081-4D63C86FC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8F99-8870-458D-84B4-B18539F76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4E5E-7B4D-4B2C-AEE6-955B9ADE9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EC5F-35CF-4385-846F-06992A2FD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5CE4-74AC-4B0B-B965-831F0A792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0C33-EED5-42B5-A8C1-BA4CD86E9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BB83-C7A7-471D-99CC-E88B1417A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C79F-383B-424C-BDB7-45A619552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E946-B506-4BEF-A960-D6C717080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93AA7-B64D-4951-A97E-2A473738B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1CF5-DFAC-411D-8FB1-B10F68C3E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97CB-383A-4B6A-8EF6-A3C7800F494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&amp;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3FDE-FA6C-4EB2-AF0A-B58313E6652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 Sc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gate tunneling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are only about 4 atomic layers thi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dielectrics have helped continued scaling of effective oxid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 stability at low voltage i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ard scaling predicts cost, speed, power all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65 nm, some designers find they must choose just two of the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DDC7-A1D3-4919-A5E0-E027FBBB48BA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ross-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s, t al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/ scal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ize scaled b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A899-EEB6-49E1-9165-473B133F47C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523880"/>
          <a:ext cx="6781680" cy="35560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129528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: spac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: heigh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ie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wire resistance/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w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fringing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arallel plat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otal wir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un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RC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talk noi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nergy per bit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A4B9-D5E9-4478-A92D-2C3B5BF3004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523880"/>
          <a:ext cx="6705720" cy="127008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828800"/>
                <a:gridCol w="9907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/ Semi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epeated wire RC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ed wir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1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per b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A6DC-94E6-443D-AF1B-DD583C581A33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er micron is remain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1/5 of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ires are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acking transist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a maj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 are getting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possible to cross chip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6031-EAA2-4F33-904C-A4BA7A6FF6D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Industry Associ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l. Technology Roadmap for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46E6-D6EB-4E91-81D8-CB6FCA22651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8572-D436-4065-8913-D0FE7AF3FEB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, $0.01 bought you 100,000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’s Law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335400"/>
            <a:ext cx="7543800" cy="268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5320" y="5788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21D2C-35D1-4859-A130-85EE1050F4A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leadin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gate block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6252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867640" y="578808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IA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AFE2-14FE-43B4-B6B7-28614731399B}" type="slidenum">
              <a:t>18</a:t>
            </a:fld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chable Radiu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send a signal across a large fast chip in one cycle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microarchitect can plan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off-chip memory latencies were tol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24573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D943-3364-429F-8FF6-93093707440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10545-574D-4B16-829D-EAA5F18602F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VP Patrick Gelsinger (ISSCC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aling continues at present pace, by 2005, high speed processors would have power density of nuclear reactor, by 2010, a rocket nozzle, and by 2015, surface of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s usual will not work in the fut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8000" y="57880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Int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200400" cy="19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2ACC-F8BE-4B2D-A35E-43900EF2CC3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in gate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 in high value because of velocity s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crea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e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causes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OF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tur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42612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10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96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0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22B8-E35B-41FD-8DBD-9B303A1A35B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is increasing faster than designer productivity (gates /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desig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500 for a high-en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 desig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to rai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hesis, IP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good engineering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7F21-7D80-430E-B6D2-C93619DBDDF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Lim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ore’s Law run out of st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build transistors smaller than an ato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sons have been predicted for end of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,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demise have been 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1BF82-8240-4CD0-B4CE-75531A1CAE1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LSI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1-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profi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curring engineering cost (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EB94-35A5-4AFB-AB59-DFFBCFDE569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ize of desig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enefits, training,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front end: $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front end: $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back end: $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costs: $5M in 4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and package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3678-FB4A-4090-BF56-B7AA5C0CB73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urring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 / (Dice per wafer *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: $500 - $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e per waf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: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cost proportional to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, cost increases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872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86200" y="2819520"/>
          <a:ext cx="190512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19051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384C-8D5E-4756-B283-F0920B3FD9D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xed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eets and applica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9646-52D2-4430-B0F8-973BA9E66AF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tart a company to build a wireless communications chip.  How much venture capital must you ra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are smarter than everyone else, you can get away with a small team in just two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digital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nalog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upport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1F1A-9FFE-4882-98A4-9B56A5008A2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120k * 7 = $8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40k * 3 = $7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5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70k * 5 = $3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$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6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@ $7.91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M design &amp;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5681-8B9E-4A15-8518-99A0D212551D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Moore’s Law has been driving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120" y="3502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133360" cy="1913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4089240"/>
            <a:ext cx="4191120" cy="185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05520" y="2514600"/>
            <a:ext cx="3276360" cy="2027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00400" y="5791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re’s Law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648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llary: clock speeds have 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3091-CA7A-455A-82BD-595F13B49648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croarchitecture (mo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gate delay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1662-F70E-4CC9-BB12-2AB2761CB6A3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constant in VLSI is constan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shrinks by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faster and low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do not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may get w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facto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95480" y="4572000"/>
          <a:ext cx="990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572000"/>
                    <a:ext cx="990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19720" y="3654360"/>
            <a:ext cx="403848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AF09-9E5D-4988-8D12-88E659B5E60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nard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Dennard in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remain the same as feature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mensions (x, y, z =&gt; W, L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D152-4979-482D-9FA1-6D96722CBA3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523880"/>
          <a:ext cx="5334120" cy="4429080"/>
        </p:xfrm>
        <a:graphic>
          <a:graphicData uri="http://schemas.openxmlformats.org/drawingml/2006/table">
            <a:tbl>
              <a:tblPr/>
              <a:tblGrid>
                <a:gridCol w="2484360"/>
                <a:gridCol w="1095840"/>
                <a:gridCol w="17539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nard Scal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oxide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upply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hreshold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: substrate do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(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ON curr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: effective resis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: gate capaci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/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: clock frequ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: switching energy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: switching power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 area per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power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current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5EC7F-23EA-4FC1-A921-B61034811FD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per micron is nearly independent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 resistance * micron improv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et faster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goes down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nsity goes up with scaling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1FA0E-6E2D-4F2D-A538-6FEF30AF67E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ical FO4 inverter delay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4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= (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30) ps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 = 16.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resistance is roughly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962520"/>
            <a:ext cx="6858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6643-F349-452C-925D-A4F86BACB7F1}" type="slidenum">
              <a:t>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31T16:16:51Z</dcterms:modified>
  <cp:revision>2224</cp:revision>
  <dc:subject/>
  <dc:title>PowerPoint Presentation</dc:title>
</cp:coreProperties>
</file>