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5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8E8BD-28F3-496D-BFFD-A4A071308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025F-7D57-499B-8D1E-24D57397F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37804-A5AA-4869-B9BF-801653386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D7F10-6C52-40C4-8C2B-7BEF260863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F6A6B-ED1E-4B3F-AFF7-ACF253CC9C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3866E-ECBD-4D2A-A250-E67F871F2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D77A0-D469-4F16-A188-035FB1D9C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3A82B-71B5-4780-8568-FC87E33DC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D4F2-6CA6-4023-826A-B607EFA21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37193-7E19-4A47-9327-DB18327FE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AFF6-B9A9-4A3D-A5FE-DCF1F5D0C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CDAF-7446-4271-A8AB-3F3907B4D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13FE-4ACD-43AB-B4DA-4DDD5E7B9C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2CEE9-DAD9-4A63-A40A-15235E28528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oice of Meta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180 nm generation, most wires were 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mporary processes normally use 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atoms diffuse into silicon and damage 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surrounded by a diffusion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3352680"/>
          <a:ext cx="5562720" cy="2586240"/>
        </p:xfrm>
        <a:graphic>
          <a:graphicData uri="http://schemas.openxmlformats.org/drawingml/2006/table">
            <a:tbl>
              <a:tblPr/>
              <a:tblGrid>
                <a:gridCol w="2286000"/>
                <a:gridCol w="327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k resistivity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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er (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(C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 (A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um (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gsten (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um (T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0FFF0-8EA4-4D82-84F7-739E50B76BC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and vias also have 2-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contacts for lowe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mall contacts for current crowding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3733920"/>
          <a:ext cx="6019560" cy="21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01956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38A5-ABA8-49BC-A2AF-2EC4DAE2EDCD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pper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wires diffusion barrier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is also pr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resistance is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18916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219320" y="2971800"/>
          <a:ext cx="380988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971800"/>
                    <a:ext cx="380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F1DD5-1DD7-48E8-AE37-680A1C79325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sheet resistance of a 0.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thick Cu wire in a 65 nm process.  Ignore dis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total resistance if the wire is 0.1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and 1 mm long.  Ignore the barrier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95280" y="2438280"/>
          <a:ext cx="403884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40388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295280" y="4648320"/>
          <a:ext cx="411480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648320"/>
                    <a:ext cx="41148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905120" y="2362320"/>
            <a:ext cx="3581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572000"/>
            <a:ext cx="3657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EAB8-640D-4B17-A56A-6221FF415F02}" type="slidenum">
              <a:t>13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has capacitance per uni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ayers above and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57400" y="3124080"/>
          <a:ext cx="480060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124080"/>
                    <a:ext cx="48006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7E00-3DE6-423C-8B88-ECD75444E15F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 Tren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plate equation:  C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not parallel plates, but obey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area (W, t) in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distance (s, h) de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lectric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.8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/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3.9 for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are starting to use low-k dielec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(or less) as dielectrics use air p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D04C9-EF5E-4ABF-A56E-9A8BA533E38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 Formul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of a line without neighbors can be approxima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mpirical formula is accurate to 6% for AR &lt; 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2443320"/>
          <a:ext cx="571500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43320"/>
                    <a:ext cx="571500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7B94-E344-4311-8EF8-DAD73CC4A5C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2 Capacitance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dense wires have ~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438280" y="2362320"/>
          <a:ext cx="40705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40705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3A96B-3C62-4849-890A-33D71102A8E6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&amp; 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capacitance is very high (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also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sing diffus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i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has lower C but high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 transist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 for very short wires betwee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0B09D-09F9-4BCD-B9C3-E52A4AE5EB41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C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10x inverter driving a 2x inverter at the end of the 1 mm wire.  Assume wire capacitance is 0.2 fF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and that a unit-sized inverter has R = 10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 = 0.1 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fF) + (1000 + 8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+ 0.6 fF) = 281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0200" y="3873600"/>
            <a:ext cx="5638680" cy="191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3352680"/>
            <a:ext cx="6019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0985C-F449-4A41-9395-C7B2DF12E7B0}" type="slidenum">
              <a:t>19</a:t>
            </a:fld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112F3-6A3B-44CF-9E42-4A5BD9623B46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re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energy per unit length to send a bit of information (one rising and one falling transition) in a CMOS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(0.2 pF/mm)(1.0 V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pJ/bit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mW/G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048120"/>
            <a:ext cx="60199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418D4-3973-4EFA-963E-AD2AEA754131}" type="slidenum">
              <a:t>20</a:t>
            </a:fld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citor does not like to change its voltage instan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ire has high capacitance to its neigh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neighbor switches from 1-&gt; 0 or 0-&gt;1, the wire tends to switch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capaci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p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on 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ED91F-6B3A-44F2-9DB6-8EF447479EBE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ayers above and below on average are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terminal of capacitor can b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behavior of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477120" y="3276720"/>
          <a:ext cx="1828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2767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447920" y="4343400"/>
          <a:ext cx="5790960" cy="1581120"/>
        </p:xfrm>
        <a:graphic>
          <a:graphicData uri="http://schemas.openxmlformats.org/drawingml/2006/table">
            <a:tbl>
              <a:tblPr/>
              <a:tblGrid>
                <a:gridCol w="2708280"/>
                <a:gridCol w="752400"/>
                <a:gridCol w="1581120"/>
                <a:gridCol w="74916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f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with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opposite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4191120" y="48006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80060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518148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518148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18148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55627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5562720"/>
            <a:ext cx="15242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562720"/>
            <a:ext cx="6098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04A3-63BB-4B21-9B03-7017B5C40BBB}" type="slidenum">
              <a:t>22</a:t>
            </a:fld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causes 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ictim is flo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apacitive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438280" y="4114800"/>
          <a:ext cx="3962520" cy="16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96252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608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00200" y="2895480"/>
          <a:ext cx="434340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895480"/>
                    <a:ext cx="43434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0122E-2FF7-4AAE-9F97-7B64481B4A06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riven Victi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victim is driven by a gate that fights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depends on relative res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 driver is in linear region, agg.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izes are same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gg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4 x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48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3505320"/>
          <a:ext cx="419112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41911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4401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4724280"/>
          <a:ext cx="4114800" cy="9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724280"/>
                    <a:ext cx="411480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029200" y="3733920"/>
          <a:ext cx="4038480" cy="14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733920"/>
                    <a:ext cx="403848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3552-C3B5-4600-B4F0-A5D3E522308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upling Wavefor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coupling for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70572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1A2B-50F9-49D3-AD49-6705F4A58BD8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 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we have no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ise is less than the noise margin, nothing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logic will eventually settle to correct output even if disturbed by large noise sp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litches cause extra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use extra power from false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 never recovers from gl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es and other sensitive circuits also can produce the wrong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4C66D-5D6B-4A13-8F47-A1A4AE84160C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43200" y="2590920"/>
          <a:ext cx="616896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61689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600200" y="5029200"/>
          <a:ext cx="517212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029200"/>
                    <a:ext cx="51721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A1B3-071A-4753-8DDD-2F65479CCF5B}" type="slidenum">
              <a:t>27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C are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is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cceptably great for 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ong wires into N shorte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each one with an inverter or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81080" y="3657600"/>
          <a:ext cx="457200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657600"/>
                    <a:ext cx="457200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952880" y="16002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2057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AE560-D1A9-457C-B110-9B576FCA90D8}" type="slidenum">
              <a:t>28</a:t>
            </a:fld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repeaters should we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arge should each on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istanc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 width W (nMOS = W, pMOS = 2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C’*W, Resistance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76520" y="4648320"/>
          <a:ext cx="495288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648320"/>
                    <a:ext cx="495288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4800600"/>
            <a:ext cx="44956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45727-1336-4C8A-BC79-84F0818EF9B8}" type="slidenum">
              <a:t>29</a:t>
            </a:fld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mostly made of wire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ick diagram, wires s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ittle things under the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ayers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s important a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ng layers run orthog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35C0D-D7FC-465F-9376-3C1461EA471D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quation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with respect to W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equal to 0,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608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95280" y="2971800"/>
          <a:ext cx="20574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20574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76380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4191120"/>
          <a:ext cx="400824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4008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1832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295280" y="5181480"/>
          <a:ext cx="145584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181480"/>
                    <a:ext cx="1455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638680" y="41911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40 ps/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65 nm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CDEC4-D78C-4710-974C-8384F185492D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peater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/ leng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87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% premium over unrepeated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ra power is consumed in the large 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peaters are downsized for minimum ED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premium is onl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creases by 14% from mi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45DA4-816C-4035-98EF-5FC2EC6412F5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Geome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ch = w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 ratio: AR = t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processes had AR &lt;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processes have 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 in many skinn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76720" y="3048120"/>
          <a:ext cx="510516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048120"/>
                    <a:ext cx="510516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B133-45FA-470E-B7E2-DA65EA161760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er Sta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I 0.6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process has 3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 for within-cell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2 for vertic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3 for horizont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processes use 6-10+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: thin, narrow (&lt; 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density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er and wider, (density vs. spe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 layers: thick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GND, c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B8D3A-2284-4295-ABE8-DC9B017048A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5246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90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64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5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2890800" cy="343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995640" cy="2602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96560" y="579132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Thompson0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9960" y="579132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Moon08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64FD-FBD4-422E-8FE1-C1094B0838FF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connect Mod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n a wire is analogous to current in a p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: narrow size impedes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: trough under the leaky pipe must fill fir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tance: paddle wheel inertia opposes changes in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ible for 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006720"/>
            <a:ext cx="3962160" cy="30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5D74-E97E-4EAA-9416-765191C300BF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mped Element Mod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 distribut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lumped el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is accurate to 3%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-model needs 100 segments for same accurac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ingle 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81080" y="2362320"/>
          <a:ext cx="426744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362320"/>
                    <a:ext cx="426744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90512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0476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3657600"/>
            <a:ext cx="129528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9C754-760A-4CF1-A887-91FA82441134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imensionless unit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number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(# of squ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78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495680" y="3124080"/>
          <a:ext cx="4122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124080"/>
                    <a:ext cx="4122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143000" y="1981080"/>
          <a:ext cx="243828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81080"/>
                    <a:ext cx="2438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52480" y="1981080"/>
            <a:ext cx="2819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6474-9CE1-440C-BEFF-CC763A0FB4AD}" type="slidenum">
              <a:t>9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29T15:24:17Z</dcterms:modified>
  <cp:revision>940</cp:revision>
  <dc:subject/>
  <dc:title>PowerPoint Presentation</dc:title>
</cp:coreProperties>
</file>