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AD16-B3A7-4E11-8034-FB62FC1F15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8423-647D-4A5E-A0F3-FE5AA5302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1646B-BE9A-49F6-BF18-D37AB1027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42BE-B3B2-4AA4-8691-5CC4256EBA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8C32-256B-45B4-93B9-F7A2B358CA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AA27-5B2F-4BFF-A8B2-E4F7A0219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38872-EF92-434C-A3B0-DBB2B6146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7D28-0831-47E0-9DA1-B63219043C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381D0-0E2C-4947-9926-6237C52B2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87836-E22A-4992-BF26-CBCB17257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FBFA-0D7F-47A7-86B5-E2E170CC14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4F697-3231-4842-9459-E97523139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A160-6D66-4092-846D-1EC340B0EC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23F9-7634-41DC-805D-8AE69D7D13B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mporary processes normally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352680"/>
          <a:ext cx="5562720" cy="2586240"/>
        </p:xfrm>
        <a:graphic>
          <a:graphicData uri="http://schemas.openxmlformats.org/drawingml/2006/table">
            <a:tbl>
              <a:tblPr/>
              <a:tblGrid>
                <a:gridCol w="2286000"/>
                <a:gridCol w="32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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(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20D07-771E-4F19-8F74-43D3293276C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8BC49-F440-4D4C-8FEE-DF6FF36CD8F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per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wires diffusion barrier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is also pr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resistance is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1891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219320" y="2971800"/>
          <a:ext cx="380988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971800"/>
                    <a:ext cx="380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65AF-8793-411B-9289-F54DD55B360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sheet resistance of a 0.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hick Cu wire in a 65 nm process.  Ignore d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otal resistance if the wire is 0.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and 1 mm long.  Ignore the barrier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95280" y="2438280"/>
          <a:ext cx="403884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40388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295280" y="4648320"/>
          <a:ext cx="41148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648320"/>
                    <a:ext cx="41148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905120" y="2362320"/>
            <a:ext cx="3581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572000"/>
            <a:ext cx="3657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771AC-B1F1-426F-AE29-9795E66BA5EA}" type="slidenum">
              <a:t>13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0E4E8-E745-4C29-90FE-B2686AC7E34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7730-D738-438F-B374-C3C5D9F2F27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 Formul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of a line without neighbors can be approxim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mpirical formula is accurate to 6% for AR &lt;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2443320"/>
          <a:ext cx="57150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43320"/>
                    <a:ext cx="5715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65FB5-F988-4D27-8231-E0D858BC27B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dense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16CD1-FACB-45AC-940A-1A2419199CB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BD5D-76D2-4104-AEF4-8468487E396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1 mm wire.  Assume wire capacitance is 0.2 fF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and that a unit-sized inverter has R = 10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 = 0.1 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fF) + (1000 + 8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+ 0.6 fF) = 281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3873600"/>
            <a:ext cx="5638680" cy="191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3352680"/>
            <a:ext cx="6019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54277-1C8B-4DAD-AB67-06A1018BD304}" type="slidenum">
              <a:t>19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2F9CD-8287-46B5-ADE9-88505A2A868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re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energy per unit length to send a bit of information (one rising and one falling transition) in a CMO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(0.2 pF/mm)(1.0 V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pJ/bit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mW/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048120"/>
            <a:ext cx="6019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DF0C7-1360-4153-A931-0361989C442B}" type="slidenum">
              <a:t>20</a:t>
            </a:fld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8BB5-B574-48BD-932F-03644CD83B5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4191120" y="4800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80060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1814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18148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18148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5562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5627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5627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FD04-1E1A-444D-A61C-37CF109A14FA}" type="slidenum">
              <a:t>22</a:t>
            </a:fld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76493-CCEB-4985-9954-392850AAECD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F1793-770E-482D-9302-68C38CBD46AF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70572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F248-78D7-4ABB-B4D6-1E2BE1BA617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7EB1-47F2-418A-8D76-0BE379CC9F6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A13AF-4263-49BF-9431-13EDEB7BFAE0}" type="slidenum">
              <a:t>27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952880" y="16002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D7F9-C61D-4130-95BD-B7B26C641C86}" type="slidenum">
              <a:t>28</a:t>
            </a:fld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4800600"/>
            <a:ext cx="44956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8297E-A6C1-48D0-85A0-FBF8494D08C9}" type="slidenum">
              <a:t>29</a:t>
            </a:fld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DB6AF-0B65-42E4-B1CC-A41C5B390811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4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65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E1B19-C2F3-465A-98D9-164071727ABD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eater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/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87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% premium over unrepeated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power is consumed in the large 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peaters are downsized for minimum ED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emium is onl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creases by 14% from mi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D86A-564D-44A2-9A67-104321E6E82A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013F-6A49-4186-9445-6CECE9D1692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 for within-cell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2 for vertic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3 for horizont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er and wider, (density vs. sp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layers: thick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6138-AC24-4BC0-9484-4AD55849DCF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46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90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64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5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343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995640" cy="2602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6560" y="57913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Thompson0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9960" y="57913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Moon08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79ACA-349B-44B8-8375-18A3C4EFE1E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connect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n a wire is analogous to current in a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: narrow size impedes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: trough under the leaky pipe must fill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ance: paddle wheel inertia opposes changes in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for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006720"/>
            <a:ext cx="3962160" cy="30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E41B-AE13-4BF8-B609-25DD186AB5D5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0512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0476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657600"/>
            <a:ext cx="129528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0B563-D34D-4D52-92E9-09F6E36D22B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52480" y="1981080"/>
            <a:ext cx="2819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CDF02-901B-4D00-B99C-0B768CA847F4}" type="slidenum">
              <a:t>9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29T15:24:17Z</dcterms:modified>
  <cp:revision>940</cp:revision>
  <dc:subject/>
  <dc:title>PowerPoint Presentation</dc:title>
</cp:coreProperties>
</file>