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1FBD1-3ADD-44CB-BDE5-BEBF2D1EF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7F1A6-3482-4EA1-A987-C79E66F5E4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F116F-D759-4D9D-9862-BCECF2F9F9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F603-C85D-4719-8BB5-2B5EEC1ED7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E4E490-AB4D-41EC-9811-E37E555D09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E4495-2D65-440B-8B3E-C79EF7FF17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EAE0A-62EE-4CDB-9A98-07F7E69E3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BC7D5-B62D-4469-AEF0-DBD356AAFA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73C04-EBB4-4376-A40E-240AA37607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08845-44AE-4C5F-B85B-0DCFAE9E2D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A6115-CB2E-4214-80B1-E9EDCB582F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B7088-63F4-4204-B43F-D6886EBDC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018C-4777-4D0C-B3D3-E4B6EBA3954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E3147-7155-48EA-BAB3-DCB0BE2CEF2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21796-8835-4CB4-A4B7-22367962EFF9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B2B3E-254C-48E1-B1F0-6CB99965C2F4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B4EBA-390D-4FEA-8B54-C040B556AD67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59092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340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34340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9092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4340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9092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34340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434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092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34340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340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24080" y="5562720"/>
            <a:ext cx="5181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43F63-3633-419A-98D0-B811436D2F68}" type="slidenum">
              <a:t>13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AAD1F-53DB-4378-A524-227DA4D03A6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8827D-D846-455D-B79D-60C4DDD1230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77229-EC8C-45AD-9003-00D02CC483A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P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tern generation is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Test Pattern Generation (ATPG) tools produce a good set of vectors for each block of 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chains are used to control and observe th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coverage requires a large number of vectors, raising the cost of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ducts settle for covering 90+% of potential stuck-at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DDE40-0269-4FBA-9FBF-85BFBD58AC4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618AB-A5CF-4DF5-BD91-4493C14ACF8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952880" y="2971800"/>
          <a:ext cx="3124440" cy="301464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553080" y="33526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37339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40384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53080" y="43434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47242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53080" y="50292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553080" y="53341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7150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6483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s reset to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3200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89E1B-74B3-46F0-9CE7-9C54B449F091}" type="slidenum">
              <a:t>19</a:t>
            </a:fld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618DA-F7A7-4673-93DC-6BCECED2326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36676-6451-4E98-8411-94DE9BB8BE2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EA408-5FCA-4FFB-88C7-9C88A2BFCCA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C958A-4F9C-42DE-8532-9C964D293B07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B91473-1326-4071-AE16-9179404C7DEF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Your Class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ctors: corner cases and random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simulation of schematics for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2-phase clocking to avoid 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tic CMOS gates to avoid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VS to ensure layout matches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abou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your test vectors on the fabrica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unctional chip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use breadboard or PCB for fu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73CA6-9B27-4EF0-90E3-55F33B0603D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9E129-DCDB-4B03-9F60-ADC1D384B3C2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EEB7D-D62A-4A0C-B54E-F9870E1F1D3D}" type="slidenum">
              <a:t>26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50887-875B-4121-9AA1-F16CD8F09D95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80E4C-1B67-43FF-AD4F-0E31E287DF51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3AF32-D928-4C16-970D-CECB23255E87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3007B-8A8A-4E45-8767-6B603EFFFD6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3B171-CB37-4261-BA30-ED3CEC79434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ufacturing Fail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7769160" cy="46180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6400800" y="58816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 images courtesy Intel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D1B91-A9F4-4C53-B88F-ACEE89CC7DD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12: Design for Testabil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FA5AC-BF5E-4EB6-8A49-319EB0A481F8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Harris</cp:lastModifiedBy>
  <dcterms:modified xsi:type="dcterms:W3CDTF">2010-03-08T18:34:21Z</dcterms:modified>
  <cp:revision>1883</cp:revision>
  <dc:subject/>
  <dc:title>PowerPoint Presentation</dc:title>
</cp:coreProperties>
</file>