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66B7-E675-4CCC-B6B4-1DF913695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7B3C-C5D3-4630-A797-64BB82994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CCBAA-3603-4506-89AC-673D79C45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035E-4BDB-4D08-AAC2-7299A6F7F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2F3F-5AC6-4280-BA9F-F9AA9782F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72D4-59A4-4677-A111-838E0ED96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3923-C7D4-4F68-BDFC-06BD21868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E327-2DFC-4019-B096-E6B9E0F93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2F01-5B86-4071-8A9A-DD8485DDD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AEA2-CB43-426D-9AD6-EE69D0243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2224-276E-4E59-B1CE-F90F57B13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957A-4BE2-478A-B61A-AAD2ADA17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D0E8-2DBE-4324-9896-14CE195F9B6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B0DB-8381-4A26-981B-AD4F4A9795D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DEDB-7EAC-4E38-83B0-F720D9840C5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4181-90B4-4E3E-8454-B4E9A88AC8F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1186-FA5C-4B62-AA38-5CCB4C395C1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9092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5562720"/>
            <a:ext cx="5181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8D46-57B9-4270-A86C-22F9F337F029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919C-9F53-425F-B2A7-C90057A3E85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AFE7-6F3A-4460-AB5D-66301216534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2579-E475-4935-86B1-1425409C843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P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tern generation is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Test Pattern Generation (ATPG) tools produce a good set of vectors for each block of 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chains are used to control and observe th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coverage requires a large number of vectors, raising the cost of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ducts settle for covering 90+% of potential stuck-at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DF48-42E4-4751-8A57-C65F91FDB01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E0B8-77F0-4EFD-8A33-39E41FB06944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553080" y="33526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37339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0384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3434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47242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0292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53341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7150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s reset to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200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E640-E10F-4417-BA49-C8B1BFA900C4}" type="slidenum">
              <a:t>19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3843-C619-404C-9833-3321F7B22D1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8A17-0CFA-4A0F-8D1D-7BFC3074A71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F0DA-FB8C-4541-AD93-B849CB1DE72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A53C-9BD9-46D8-B32A-7818BDACE7AB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62DB5-E4D7-4621-8B94-9AAC2A3821E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Your Class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ctors: corner cases and random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simulation of schematics for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2-phase clocking to avoid 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tic CMOS gates to avoid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VS to ensure layout matches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abou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your test vectors on the fabrica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unctional chip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use breadboard or PCB for fu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0B6E-00BD-4DCF-AD3E-9C56336DA94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7966-5256-4A9E-98B1-9D06948B4A9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5EC3-4519-4C0B-A8C6-1DEBCB7C2B13}" type="slidenum">
              <a:t>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0D1B-FAF3-4E7C-A031-BEECABBFE81D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1A24-EC01-45D4-BFB5-51D809C0CB3C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5F50-E068-4820-9EDF-065E06B7E54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C943-C4A1-40D8-8DF7-94D759AD9A6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7CB5-3524-4C51-B12F-CE45AA3063E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ufacturing Fail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69160" cy="461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8816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 images courtesy Intel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DFA1-C3F4-4878-A5B3-570FF906119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0DB3-18CC-4619-A21C-6691A5FC63A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8T18:34:21Z</dcterms:modified>
  <cp:revision>1883</cp:revision>
  <dc:subject/>
  <dc:title>PowerPoint Presentation</dc:title>
</cp:coreProperties>
</file>