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F17FF-4E5C-41D3-9489-A3E8CFECC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A270-E954-4FBB-93A8-E3FAB093F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29BCE-19A5-440D-98AC-4972A7BFF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BFEC4-7500-46AA-A470-54A5054F0B8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3C8ED-A910-4AAA-B10A-FF6FFAA808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81D25-544A-42BF-BECC-6321D9452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58BE-AD68-4280-82FA-61FAB9786C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1705F-A656-47C6-BB36-EC00BF730D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2F247-59B2-43A4-A646-2FDC855B5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A240B-5696-4427-84DB-D43E5B2736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66B2D-922A-41BE-8DCB-E018C80B2F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73562-EE69-48A8-A852-D13E57F54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32ACC-C787-475D-A8CD-AEA256D0A7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4E9E7-6823-4BC4-A5C3-EDFC4432800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97D276-B253-4626-8D0A-1191323CBE29}" type="slidenum">
              <a:t>10</a:t>
            </a:fld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F8BF0-176E-4EE7-93D0-4701BB8F34EC}" type="slidenum">
              <a:t>11</a:t>
            </a:fld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73B41-BB12-4449-A0DC-BD37B7504ABA}" type="slidenum">
              <a:t>12</a:t>
            </a:fld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E7E32-9A6A-40AD-9CCD-355504466674}" type="slidenum">
              <a:t>13</a:t>
            </a:fld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3B3877-2A6F-43E6-B623-619C382B1D32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0D97-A39A-4012-8AE7-38E46B76D23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55B4D-5EEE-4C51-8AC0-906F3F23929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D73C7-22A8-4D4A-A262-AB2F5CF5734B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CD3AA-9073-44B4-A2BA-6FB76B6143A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85800" y="2743200"/>
          <a:ext cx="3657600" cy="316224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23A4E-F818-4011-A304-D3213FC430E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11055-65BE-4609-9C99-AF65521013F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752480"/>
          <a:ext cx="22100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752480"/>
                    <a:ext cx="22100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905120" y="1828800"/>
            <a:ext cx="9903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F910D-6D71-4ADE-AAC1-DF0C936B37D4}" type="slidenum">
              <a:t>20</a:t>
            </a:fld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85800" y="1828800"/>
          <a:ext cx="2716200" cy="59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828800"/>
                    <a:ext cx="271620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666880" y="1752480"/>
            <a:ext cx="381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65CEC-C31E-47C9-9416-1D620B5105AB}" type="slidenum">
              <a:t>21</a:t>
            </a:fld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762120" y="1752480"/>
          <a:ext cx="349884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752480"/>
                    <a:ext cx="349884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2286000" y="17524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B08C2-4C02-4D60-9F4A-BF16FDE45E0B}" type="slidenum">
              <a:t>22</a:t>
            </a:fld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4144-F119-4047-B942-B41DBEF3C350}" type="slidenum">
              <a:t>23</a:t>
            </a:fld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838080" y="1981080"/>
          <a:ext cx="276408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276408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F40B-D751-49FD-811F-304BD9001E79}" type="slidenum">
              <a:t>24</a:t>
            </a:fld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762120" y="1981080"/>
          <a:ext cx="190476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904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5027C-ABA5-4324-B831-1108978ACE8B}" type="slidenum">
              <a:t>25</a:t>
            </a:fld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C9E5B-230A-4D46-846F-8FD1A79FE68B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2F5489-B64C-4BA7-8236-3B12EB2C109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AC109-14F8-4428-89C1-934F41E8DF8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6D2D5-801C-4907-A2CD-4FB060C1061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2E6FD-2EBD-48BE-9720-0B9F655974CD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838080" y="1828800"/>
          <a:ext cx="2743200" cy="118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1828800"/>
                    <a:ext cx="274320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7671-B73E-486B-8B97-56B989709A8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2120" y="2057400"/>
          <a:ext cx="3460680" cy="19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3460680" cy="19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762120" y="4343400"/>
          <a:ext cx="41148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4343400"/>
                    <a:ext cx="4114800" cy="17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7" name="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B5BBA-8A5A-4CB9-BCA3-175127863DDC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164C4-9EF0-42E8-8F33-7BA41AA3546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6501F-3884-4B81-A2F7-0CF6877553E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“Razo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006C6-C729-43DB-9C94-BAE86F261C17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6D592-FB78-4AB1-B41D-D255D449D173}" type="slidenum">
              <a:t>35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’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A6014-AACA-4EC0-A096-95C492EF67A7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A58635-B85B-4203-8C06-09E632CC0C1B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24483A-30FC-4FA5-AA01-8C7A3363CE24}" type="slidenum">
              <a:t>6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EE02F-DE2B-4E6E-96D7-ACF1A80E475A}" type="slidenum">
              <a:t>7</a:t>
            </a:fld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59EB-A29B-40F9-A5C6-526FA87E78ED}" type="slidenum">
              <a:t>8</a:t>
            </a:fld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1: Sequential Circui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391E-0F42-4B7B-903A-8CC823EDC06A}" type="slidenum">
              <a:t>9</a:t>
            </a:fld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3T06:25:45Z</dcterms:modified>
  <cp:revision>1291</cp:revision>
  <dc:subject/>
  <dc:title>PowerPoint Presentation</dc:title>
</cp:coreProperties>
</file>