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937C-6D0C-480D-A0E9-64D42C5E1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E429-822E-4D48-8E9E-A59EC0557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6FB7-488B-4D07-B738-C24A73FED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554D-4665-4082-9392-20BD160FB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3460-9362-4AD9-B08D-63C16DFE6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C2EA-E611-420B-834E-7690A81FB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E423-3E1D-4C4B-BF90-A9346C7C6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96F8-64E5-46A8-BB38-F4A5719F9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81B4-61A1-42DC-A693-402CD7C02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053B-621B-4C35-8C2F-115103FA1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9445-B1F9-4BE5-B503-CFD3AD9E3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4D94-4348-46A5-9D01-7EDA777E3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1076-68CB-4296-AFB7-6D050BA0FF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Famil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95FF-6073-4DDF-BF48-7A4B4CDF7B3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7805-1B3B-4A32-BB99-7CB9AEC7780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9D33-DA2B-4C71-B8BF-CC3BCBAA93E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276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8BC8-6E38-4864-B121-0D53345030D9}" type="slidenum">
              <a:t>12</a:t>
            </a:fld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A485-2DC4-4249-82B9-00072CCED91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9040" y="3352680"/>
          <a:ext cx="776916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352680"/>
                    <a:ext cx="7769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209E-844F-46EE-9240-418FBA2EAD00}" type="slidenum">
              <a:t>14</a:t>
            </a:fld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16A8-A531-43E4-840A-42F34F717BE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DEAA-17F5-4E37-B60A-801A1983AB8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3962520"/>
          <a:ext cx="4190760" cy="197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F1621-4A9A-4F80-A801-435C70F0662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B, Y_l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80D1-C671-4AD0-9A1C-580A8A3749B2}" type="slidenum">
              <a:t>18</a:t>
            </a:fld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EEB1-87D1-4F59-97F0-A79F0B74D12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EAAF-E5A9-4A5D-BE60-C6EF7650365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iseconds, now nano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4FD5-B1CA-478F-9467-FDC21F4FB78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0" y="2209680"/>
          <a:ext cx="3043080" cy="215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09680"/>
                    <a:ext cx="3043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943600" y="457200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2BFD-CE2D-471B-BA8E-4B6C370D7E6A}" type="slidenum">
              <a:t>21</a:t>
            </a:fld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43F4-53FE-4CE9-91B8-9C9E0202B09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992F-2480-42A7-B195-53CB714599E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gates have high activit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es and pre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utput probability = 0.5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rises and falls on half th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transistors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very high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812B-0957-447C-BF41-EAAB9CE03CA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, leakage, charge sharing,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 in 1990s when speed w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displaced by static CMOS now that power is the lim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in memories for area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D12E-ED98-408B-938D-3813C9B9572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0932-F729-4140-95C8-8AF667FF892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594F-5BC5-4A14-854B-0915A8BBC82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A9BA-F64F-4807-A9C0-179664FD733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ss Transistor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investigated pass transistor logic for general purpose applications in th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ver static CMOS were small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gener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ass transistors still have a niche in special circuits such as memories where they offer small size and the threshold drops can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141E-AE10-43DD-9672-DEF8C77F404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C281D-C950-4B52-AA6E-27FF0FFF1F35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A448-C5BF-4850-AD59-34DA22F58DE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4017-CD6C-48EC-8F2D-215CC5DD070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23C0-D893-4855-9B6F-CBE262D9251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752480" y="28195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2004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6576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0384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419720"/>
            <a:ext cx="3429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343400"/>
            <a:ext cx="18288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9B64-CAC7-447E-A456-E2294486A590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s why nMOS went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0D5B-AB7E-4103-AAF2-6FE7229E1A6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-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63720" y="4624560"/>
          <a:ext cx="3538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4624560"/>
                    <a:ext cx="3538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5812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0292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EA14-BD62-48BB-A667-41A1DFF4A890}" type="slidenum">
              <a:t>9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1T20:53:08Z</dcterms:modified>
  <cp:revision>1166</cp:revision>
  <dc:subject/>
  <dc:title>PowerPoint Presentation</dc:title>
</cp:coreProperties>
</file>