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5.wmf" ContentType="image/x-wmf"/>
  <Override PartName="/ppt/media/image1.png" ContentType="image/png"/>
  <Override PartName="/ppt/media/image29.wmf" ContentType="image/x-wmf"/>
  <Override PartName="/ppt/media/image25.wmf" ContentType="image/x-wmf"/>
  <Override PartName="/ppt/media/image3.png" ContentType="image/png"/>
  <Override PartName="/ppt/media/image5.png" ContentType="image/png"/>
  <Override PartName="/ppt/media/image28.wmf" ContentType="image/x-wmf"/>
  <Override PartName="/ppt/media/image10.png" ContentType="image/png"/>
  <Override PartName="/ppt/media/image47.png" ContentType="image/png"/>
  <Override PartName="/ppt/media/image50.wmf" ContentType="image/x-wmf"/>
  <Override PartName="/ppt/media/image14.wmf" ContentType="image/x-wmf"/>
  <Override PartName="/ppt/media/image6.png" ContentType="image/png"/>
  <Override PartName="/ppt/media/image33.wmf" ContentType="image/x-wmf"/>
  <Override PartName="/ppt/media/image13.png" ContentType="image/png"/>
  <Override PartName="/ppt/media/image35.wmf" ContentType="image/x-wmf"/>
  <Override PartName="/ppt/media/image36.wmf" ContentType="image/x-wmf"/>
  <Override PartName="/ppt/media/image37.wmf" ContentType="image/x-wmf"/>
  <Override PartName="/ppt/media/image38.wmf" ContentType="image/x-wmf"/>
  <Override PartName="/ppt/media/image40.wmf" ContentType="image/x-wmf"/>
  <Override PartName="/ppt/media/image39.wmf" ContentType="image/x-wmf"/>
  <Override PartName="/ppt/media/image43.wmf" ContentType="image/x-wmf"/>
  <Override PartName="/ppt/media/image44.png" ContentType="image/png"/>
  <Override PartName="/ppt/media/image32.wmf" ContentType="image/x-wmf"/>
  <Override PartName="/ppt/media/image45.png" ContentType="image/png"/>
  <Override PartName="/ppt/media/image30.wmf" ContentType="image/x-wmf"/>
  <Override PartName="/ppt/media/image34.wmf" ContentType="image/x-wmf"/>
  <Override PartName="/ppt/media/image46.wmf" ContentType="image/x-wmf"/>
  <Override PartName="/ppt/media/image42.wmf" ContentType="image/x-wmf"/>
  <Override PartName="/ppt/media/image9.png" ContentType="image/png"/>
  <Override PartName="/ppt/media/image17.wmf" ContentType="image/x-wmf"/>
  <Override PartName="/ppt/media/image49.wmf" ContentType="image/x-wmf"/>
  <Override PartName="/ppt/media/image12.wmf" ContentType="image/x-wmf"/>
  <Override PartName="/ppt/media/image4.png" ContentType="image/png"/>
  <Override PartName="/ppt/media/image41.wmf" ContentType="image/x-wmf"/>
  <Override PartName="/ppt/media/image8.png" ContentType="image/png"/>
  <Override PartName="/ppt/media/image16.wmf" ContentType="image/x-wmf"/>
  <Override PartName="/ppt/media/image48.png" ContentType="image/png"/>
  <Override PartName="/ppt/media/image51.wmf" ContentType="image/x-wmf"/>
  <Override PartName="/ppt/media/image11.png" ContentType="image/png"/>
  <Override PartName="/ppt/media/image7.jpeg" ContentType="image/jpeg"/>
  <Override PartName="/ppt/media/image3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74557-1EE4-4F13-A818-BCE06A7B14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3A83D-E755-468A-B53C-76FF0569C9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D98DE-36DA-4BA7-9D46-0BDC097A2C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802D3-C98A-400F-84BE-C9973A04F2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315D2-F9A1-4A9B-AD6B-1ECAA25CB5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9A8C8-8E01-4BA5-8112-D2F7E360EE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56818-CBA8-462F-B744-FE9CD38F85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29388-FF2A-4E78-9A52-00293ED1C3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FD8C9-34DE-48B9-BFF0-D7FF4F59D5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20C66-CCDA-42F4-BF5A-6C3257CCFE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9A300-34FE-49E5-A43B-CB7A6979C9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70501-8438-401D-8B7A-B379AEDE68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DBF5C-F3FF-46A0-8AE3-B6BBCABA590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5905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wmf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1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ircuits &amp; 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F8C78-F651-43DF-B0D7-488076EE8342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nd Now…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85800" y="2209680"/>
            <a:ext cx="7772400" cy="3435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7915A-D63C-4123-984B-BB2A2A27E638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eature Siz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 feature size shrinking 30% every 2-3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7010640" cy="397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31B20-5855-4D13-8515-9268C6ABC67E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295280" y="2419200"/>
            <a:ext cx="5943600" cy="36766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rollari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other factors grow exponential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clock frequency, processor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FD73C-024E-40D8-A210-F3404B16C67D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MOS Gate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tch a 4-input CMOS NOR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714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600200" y="2438280"/>
          <a:ext cx="5410080" cy="353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438280"/>
                    <a:ext cx="5410080" cy="353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1600200" y="2438280"/>
            <a:ext cx="5257800" cy="358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CC12A-1131-427E-8B01-9769648B398E}" type="slidenum">
              <a:t>13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mplementary CMO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mentary CMOS logic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ull-down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ull-up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k.a. static C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5638680" y="1981080"/>
          <a:ext cx="2971800" cy="255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981080"/>
                    <a:ext cx="2971800" cy="255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609480" y="3962520"/>
          <a:ext cx="5639040" cy="1484280"/>
        </p:xfrm>
        <a:graphic>
          <a:graphicData uri="http://schemas.openxmlformats.org/drawingml/2006/table">
            <a:tbl>
              <a:tblPr/>
              <a:tblGrid>
                <a:gridCol w="1879560"/>
                <a:gridCol w="1879920"/>
                <a:gridCol w="1879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l-up OF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l-up 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l-down OF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(floa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l-down 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(crowba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3B6B4-EEE0-4ABC-B79B-71282AAF0DFD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ries and Paralle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: 1 =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: 0 =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both must be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all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either can be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029200" y="1523880"/>
          <a:ext cx="3257640" cy="454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1523880"/>
                    <a:ext cx="3257640" cy="45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BA093-2344-4822-8586-474072093FB6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nduction Complemen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mentary CMOS gates always produce 0 or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NAND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es nMOS: Y=0 when both inputs ar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 Y=1 when either input i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parallel p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duction Comp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l-up network is complement of pull-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 -&gt; series, series -&gt; parall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5943600" y="2895480"/>
          <a:ext cx="2362320" cy="18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2895480"/>
                    <a:ext cx="2362320" cy="18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C8FA0-9F90-4EF8-BDE6-E4EC7D8FE920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mpound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pound ga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do any inverting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685880" y="1905120"/>
          <a:ext cx="7000920" cy="56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5880" y="1905120"/>
                    <a:ext cx="700092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1600200" y="2438280"/>
          <a:ext cx="5334120" cy="361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2438280"/>
                    <a:ext cx="5334120" cy="361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6CB7D-5B75-4C64-AA9C-C8783F14BB19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O3AI 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219320" y="1447920"/>
          <a:ext cx="260028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447920"/>
                    <a:ext cx="26002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2666880" y="1828800"/>
          <a:ext cx="3897360" cy="396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1828800"/>
                    <a:ext cx="389736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64096-92FF-4860-AD05-455128F3A609}" type="slidenum">
              <a:t>18</a:t>
            </a:fld>
          </a:p>
        </p:txBody>
      </p:sp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gnal Strength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reng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sig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lose it approximates ideal voltage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GND rails are strongest 1 and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 pass strong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egraded or weak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 pass strong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egraded or weak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 nMOS are best for pull-down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666B8-036C-4CF5-98BC-E8C1582FF7B3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rief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OS Gat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OS Latches &amp; Flip-Fl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Cell Layo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ck Di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A8F81-1C74-441D-A836-162268C1CA08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ss Transisto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5791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stors can be used as swi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762120" y="2057400"/>
          <a:ext cx="7543800" cy="36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7543800" cy="36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838080" y="2286000"/>
          <a:ext cx="92556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2286000"/>
                    <a:ext cx="92556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EF414-FBCD-4EE5-A6F7-748CBA8F91CB}" type="slidenum">
              <a:t>20</a:t>
            </a:fld>
          </a:p>
        </p:txBody>
      </p:sp>
    </p:spTree>
  </p:cSld>
  <p:transition>
    <p:zoom dir="ou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ansmission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 transistors produce degraded 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ransmission ga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ss both 0 and 1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143000" y="2514600"/>
          <a:ext cx="6705720" cy="344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514600"/>
                    <a:ext cx="6705720" cy="34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1CAD3-9C04-419E-AAF6-BF28A0412263}" type="slidenum">
              <a:t>21</a:t>
            </a:fld>
          </a:p>
        </p:txBody>
      </p:sp>
    </p:spTree>
  </p:cSld>
  <p:transition>
    <p:zoom dir="ou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ist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ristate buff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duces Z when not enab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914400" y="2514600"/>
          <a:ext cx="2666880" cy="2031840"/>
        </p:xfrm>
        <a:graphic>
          <a:graphicData uri="http://schemas.openxmlformats.org/drawingml/2006/table">
            <a:tbl>
              <a:tblPr/>
              <a:tblGrid>
                <a:gridCol w="888840"/>
                <a:gridCol w="888840"/>
                <a:gridCol w="889200"/>
              </a:tblGrid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6172200" y="2133720"/>
          <a:ext cx="1960560" cy="368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2133720"/>
                    <a:ext cx="196056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2743200" y="2971800"/>
            <a:ext cx="2286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743200" y="3352680"/>
            <a:ext cx="2286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743200" y="3809880"/>
            <a:ext cx="2286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743200" y="4191120"/>
            <a:ext cx="2286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BEDE4-7E95-4B35-AE6C-6547DCFFB798}" type="slidenum">
              <a:t>22</a:t>
            </a:fld>
          </a:p>
        </p:txBody>
      </p:sp>
    </p:spTree>
  </p:cSld>
  <p:transition>
    <p:zoom dir="out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onrestoring Trista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ssion gate acts as tristate bu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two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nres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 on A is passed on to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295280" y="3352680"/>
          <a:ext cx="1870200" cy="26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352680"/>
                    <a:ext cx="187020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B7D28-158F-483B-97AE-8A70751CA848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istate Invert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state inverter produces restored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olates conduction complement r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we want a Z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295280" y="2895480"/>
          <a:ext cx="5791320" cy="303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895480"/>
                    <a:ext cx="5791320" cy="30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485D1-16AC-4690-BE62-5ACA96C36E1E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plex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1 multiplexer chooses between two 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838080" y="2819520"/>
          <a:ext cx="4038840" cy="2184120"/>
        </p:xfrm>
        <a:graphic>
          <a:graphicData uri="http://schemas.openxmlformats.org/drawingml/2006/table">
            <a:tbl>
              <a:tblPr/>
              <a:tblGrid>
                <a:gridCol w="1009800"/>
                <a:gridCol w="1009440"/>
                <a:gridCol w="1009800"/>
                <a:gridCol w="1009800"/>
              </a:tblGrid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5638680" y="2362320"/>
          <a:ext cx="2819520" cy="218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2362320"/>
                    <a:ext cx="281952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3962520" y="3352680"/>
            <a:ext cx="2286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962520" y="3733920"/>
            <a:ext cx="2286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62520" y="4191120"/>
            <a:ext cx="2286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4572000"/>
            <a:ext cx="2286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25D7F-219C-40AB-8C83-15F77F3205FF}" type="slidenum">
              <a:t>25</a:t>
            </a:fld>
          </a:p>
        </p:txBody>
      </p:sp>
    </p:spTree>
  </p:cSld>
  <p:transition>
    <p:zoom dir="ou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ate-Level Mux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transistors are needed?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219320" y="1447920"/>
          <a:ext cx="5033880" cy="56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447920"/>
                    <a:ext cx="503388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1371600" y="2666880"/>
          <a:ext cx="6629400" cy="326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2666880"/>
                    <a:ext cx="6629400" cy="32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6019920" y="20574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447920" y="2666880"/>
            <a:ext cx="5943600" cy="335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50C44-961A-4FAA-8962-4E2DF9413351}" type="slidenum">
              <a:t>26</a:t>
            </a:fld>
          </a:p>
        </p:txBody>
      </p:sp>
    </p:spTree>
  </p:cSld>
  <p:transition>
    <p:zoom dir="ou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ansmission Gate Mux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restoring mux uses two transmission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4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2895480" y="2133720"/>
          <a:ext cx="3246480" cy="37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133720"/>
                    <a:ext cx="3246480" cy="37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71E08-3D61-4CC4-A353-0566B8177FF2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verting Mux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rting multiplex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compound AOI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pair of tristate inve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sentially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inverting multiplexer adds an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609480" y="3886200"/>
          <a:ext cx="7925040" cy="202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86200"/>
                    <a:ext cx="7925040" cy="20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A43BE-BDF2-4AEC-BD8E-5E6EF4A3457A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:1 Multiplex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:1 mux chooses one of 4 inputs using two sel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levels of 2:1 mu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four tri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676520" y="2514600"/>
          <a:ext cx="5867280" cy="34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514600"/>
                    <a:ext cx="5867280" cy="34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F311F-68FC-4A5F-BDE0-A7756BA465C4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 Brief Histo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58: First integrated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p-flop using two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t by Jack Kilby at Texas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Core i7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3 billion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4 Gb Flash memo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16 billion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715000" y="1523880"/>
            <a:ext cx="2743200" cy="18385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638680" y="3429000"/>
            <a:ext cx="2819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urtesy Texas Instrumen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715000" y="3733920"/>
            <a:ext cx="1973160" cy="2297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696080" y="5562720"/>
            <a:ext cx="990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[Trinh09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2009 IEE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2A32E-C492-4AB6-8C44-FCF9D377188F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 Latch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CLK = 1, latch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ranspa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flows through to Q like a bu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CLK = 0, the latch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pa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 holds its old value independent of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k.a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ransparent lat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evel-sensitive l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838080" y="3733920"/>
          <a:ext cx="2438640" cy="22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733920"/>
                    <a:ext cx="2438640" cy="22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3352680" y="3886200"/>
          <a:ext cx="4953240" cy="202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2680" y="3886200"/>
                    <a:ext cx="4953240" cy="20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A7E86-A2C8-4BF4-AD57-D479EE9AE22A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 Latch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xer chooses D or old 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533520" y="2133720"/>
          <a:ext cx="8153280" cy="30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133720"/>
                    <a:ext cx="8153280" cy="30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A2ED2-01E7-40E7-A6D6-7A927046E46A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 Latch Ope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858960" y="1523880"/>
          <a:ext cx="742464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8960" y="1523880"/>
                    <a:ext cx="742464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EAF15-FBEA-4A63-B3FF-15A1E531BA4D}" type="slidenum">
              <a:t>32</a:t>
            </a:fld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 Flip-flop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CLK rises, D is copied to 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all other times, Q holds its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k.a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ositive edge-triggered flip-flo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ster-slave flip-fl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609480" y="4095720"/>
          <a:ext cx="1981440" cy="148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095720"/>
                    <a:ext cx="198144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2666880" y="3784680"/>
          <a:ext cx="5791320" cy="190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784680"/>
                    <a:ext cx="5791320" cy="19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C7C80-FB6E-4A19-B815-91EFF9BCEDAA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 Flip-flop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t from master and slave D l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533520" y="2362320"/>
          <a:ext cx="8076960" cy="21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362320"/>
                    <a:ext cx="8076960" cy="21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0D2C8-36CF-43F7-BE6D-2FAEB66054CF}" type="slidenum">
              <a:t>34</a:t>
            </a:fld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 Flip-flop Ope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062080" y="1523880"/>
          <a:ext cx="501804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2080" y="1523880"/>
                    <a:ext cx="501804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649A0-25BB-44F8-9399-8350E39BCA09}" type="slidenum">
              <a:t>35</a:t>
            </a:fld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ace Condi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-to-back flops can malfunction from clock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flip-flop fires 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s first flip-flop change and captures its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old-time fail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ace con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533520" y="3365640"/>
          <a:ext cx="8001000" cy="25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365640"/>
                    <a:ext cx="8001000" cy="25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6CC10-964A-4292-A3DA-C66C5B464239}" type="slidenum">
              <a:t>36</a:t>
            </a:fld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onoverlapping Clock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overlapping clocks can prevent r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long as nonoverlap exceeds clock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use them in this class for saf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stry manages skew more carefully inste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2209680" y="3352680"/>
          <a:ext cx="4572000" cy="27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352680"/>
                    <a:ext cx="4572000" cy="27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DFC07-D933-4346-BC8C-544297FA99D2}" type="slidenum">
              <a:t>37</a:t>
            </a:fld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ate 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yout can be very time consu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gates to fit together nic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 library of standard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cell design method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GND should abut (standard heigh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jacent gates should satisfy design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 at bottom and pMOS at 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gates include well and substrate cont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2B103-0988-45BB-BB7A-869B51DFA5D7}" type="slidenum">
              <a:t>38</a:t>
            </a:fld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Invert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752480" y="1460520"/>
            <a:ext cx="4724640" cy="4476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BFA1E-353E-44B3-B09F-3CDFF92DD3E4}" type="slidenum">
              <a:t>39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rowth Rat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3% compound annual growth rate over 50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other technology has grown so fast so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n by miniaturization of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 is cheaper, faster, lower in pow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olutionary effects on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62120" y="3809880"/>
            <a:ext cx="6400800" cy="2186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86600" y="5486400"/>
            <a:ext cx="137160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[Moore65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ectronics Magaz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92864-122E-4013-B60D-B1EAE9A0DFB6}" type="slidenum">
              <a:t>4</a:t>
            </a:fld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NAND3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rizontal N-diffusion and p-diffusion str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tical polysilicon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1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ail at 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1 GND rail at bot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4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4800600" y="1905120"/>
            <a:ext cx="362268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E2EEC-3B0A-4515-9D10-5C86BED08E1F}" type="slidenum">
              <a:t>40</a:t>
            </a:fld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tick Diagram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ick diagra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elp plan layout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not be to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 with color pencils or dry-erase ma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27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762120" y="2971800"/>
          <a:ext cx="7696080" cy="28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971800"/>
                    <a:ext cx="7696080" cy="28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BE278-2339-4EEA-B9AD-A5B595034DF3}" type="slidenum">
              <a:t>41</a:t>
            </a:fld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iring Track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iring tra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pace required for a w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dth, 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pacing from neighbor = 8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i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also consume one wiring t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981080" y="2971800"/>
            <a:ext cx="4648320" cy="3003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4EF44-A329-458B-9B03-46BEDB7B000B}" type="slidenum">
              <a:t>42</a:t>
            </a:fld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ell spac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ls must surround transistors by 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ies 1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tween opposite transistor flav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ves room for one wire t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828800" y="2819520"/>
            <a:ext cx="4724280" cy="31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8F9F0-4963-416E-A163-1250950E79B4}" type="slidenum">
              <a:t>43</a:t>
            </a:fld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2209680" y="2438280"/>
          <a:ext cx="3524400" cy="358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438280"/>
                    <a:ext cx="352440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2133720" y="2514600"/>
            <a:ext cx="396216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rea Estim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5715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area by counting wiring tra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y by 8 to express i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2209680" y="2438280"/>
          <a:ext cx="3532320" cy="358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2438280"/>
                    <a:ext cx="353232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C8654-8BD5-43A5-A518-03F341609C3A}" type="slidenum">
              <a:t>44</a:t>
            </a:fld>
          </a:p>
        </p:txBody>
      </p:sp>
    </p:spTree>
  </p:cSld>
  <p:transition>
    <p:zoom dir="out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O3AI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6934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etch a stick diagram for O3AI and estimate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676520" y="1905120"/>
          <a:ext cx="260028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905120"/>
                    <a:ext cx="26002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>
            <a:off x="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905120" y="2514600"/>
          <a:ext cx="4876560" cy="350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2514600"/>
                    <a:ext cx="4876560" cy="35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"/>
          <p:cNvSpPr/>
          <p:nvPr/>
        </p:nvSpPr>
        <p:spPr>
          <a:xfrm>
            <a:off x="5410080" y="2438280"/>
            <a:ext cx="144792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666880" y="5334120"/>
            <a:ext cx="3429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DF872-F6D5-4413-ABB9-4DEB6F782013}" type="slidenum">
              <a:t>45</a:t>
            </a:fld>
          </a:p>
        </p:txBody>
      </p:sp>
    </p:spTree>
  </p:cSld>
  <p:transition>
    <p:zoom dir="ou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nnual Sal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ansistors manufactured in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billion for every human on the pla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7848360" cy="3494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A6334-4D84-4E5B-87CB-475BDC0CE622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vention of the Transist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cuum tubes ruled in first half of 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entury Large, expensive, power-hungry, unrel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47: first point contact transi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hn Bardeen and Walter Brattain at Bell La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rystal F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Riordan, Hodde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952880" y="3166920"/>
            <a:ext cx="3451320" cy="29131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886200" y="5486400"/>
            <a:ext cx="990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&amp;T Archives.  Reprinted with permission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8076C-EDB3-42CC-AADD-E29801D15945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ansistor Typ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polar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pn or pnp silicon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current into very thin base layer controls large currents between emitter and coll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 currents limit integration d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 Oxide Semiconductor Field Effect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 and pMOS MOSF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 applied to insulated gate controls current between source and d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power allows very high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9B6FE-416D-4571-B2B0-5890025E39B6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70’s processes usually had only nMO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expensive, but consume power while i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80s-present: CMOS processes for low idle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OS Integrated Circui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51814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1101 256-bit S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95680" y="51814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4004 4-bi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914400" y="2438280"/>
            <a:ext cx="2371680" cy="27432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267080" y="2438280"/>
            <a:ext cx="3733920" cy="27590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276720" y="4648320"/>
            <a:ext cx="9903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[Vadasz69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1969 IEE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001000" y="4419720"/>
            <a:ext cx="8380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tel Museum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printed with permission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B2D26-526D-4CA1-9AC9-F6F7E0D0BBCB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oore’s Law: The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65: Gordon Moore plotted transistor on each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t straight line on semilog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 counts have doubled every 2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86400" y="3124080"/>
            <a:ext cx="28954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tegration Lev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S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g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S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0 g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S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,000 g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LS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10k g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066680" y="3048120"/>
            <a:ext cx="3140280" cy="28144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429000" y="5638680"/>
            <a:ext cx="137160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[Moore65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ectronics Magaz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EEE17-E9E7-4F81-96E0-BE96096A817A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2-11T00:15:35Z</dcterms:modified>
  <cp:revision>409</cp:revision>
  <dc:subject/>
  <dc:title>PowerPoint Presentation</dc:title>
</cp:coreProperties>
</file>