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5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3.png" ContentType="image/png"/>
  <Override PartName="/ppt/media/image5.png" ContentType="image/png"/>
  <Override PartName="/ppt/media/image28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14.wmf" ContentType="image/x-wmf"/>
  <Override PartName="/ppt/media/image6.png" ContentType="image/png"/>
  <Override PartName="/ppt/media/image33.wmf" ContentType="image/x-wmf"/>
  <Override PartName="/ppt/media/image1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43.wmf" ContentType="image/x-wmf"/>
  <Override PartName="/ppt/media/image44.png" ContentType="image/png"/>
  <Override PartName="/ppt/media/image32.wmf" ContentType="image/x-wmf"/>
  <Override PartName="/ppt/media/image45.png" ContentType="image/png"/>
  <Override PartName="/ppt/media/image30.wmf" ContentType="image/x-wmf"/>
  <Override PartName="/ppt/media/image34.wmf" ContentType="image/x-wmf"/>
  <Override PartName="/ppt/media/image46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48.png" ContentType="image/png"/>
  <Override PartName="/ppt/media/image51.wmf" ContentType="image/x-wmf"/>
  <Override PartName="/ppt/media/image11.png" ContentType="image/png"/>
  <Override PartName="/ppt/media/image7.jpeg" ContentType="image/jpeg"/>
  <Override PartName="/ppt/media/image3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C85E3-9BCA-48EF-AFC5-476765EFD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69CE2-D42B-4419-84F6-B81979FDAB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22D26-7245-4489-9CA2-62F83E863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F7195-A763-4037-BF82-8BABB01274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2E636-AE30-4292-B0DD-D5B38D93741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05E83-8ECB-4E0F-91D0-9C9D5CB7E1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67528-FAAE-4556-B11D-43D7CFF20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78CFD-575D-467E-A9C8-0C3377592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DD35A-0D75-405E-A0DC-D4742CD10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49269-10F5-4E8E-871D-6C0305B1EE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C11DE-5784-41E6-92BE-AC11D550B9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47E9-2D8B-4BBD-95FF-26C62ECDC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EBAD-01B1-4FC8-BD48-6A5B4692C7B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590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s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FC89C-7EAA-4ABE-BDD3-8CCFDEC28D5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d Now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7772400" cy="343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A56D0-84FF-497F-BEC1-FDF2C94A190C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eature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feature size shrinking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010640" cy="397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1F2E7-07C1-4498-BE32-E924D06C9323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419200"/>
            <a:ext cx="5943600" cy="3676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rolla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factors grow exponenti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lock frequency, process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15A32-6C2C-44E1-8F91-4300AE2A02A7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Gate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4-input CMOS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14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00200" y="2438280"/>
          <a:ext cx="5410080" cy="35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1008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600200" y="2438280"/>
            <a:ext cx="5257800" cy="358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7B1DD-120A-486E-A41F-E93DFCC9736A}" type="slidenum">
              <a:t>1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mentary C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up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638680" y="1981080"/>
          <a:ext cx="2971800" cy="25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981080"/>
                    <a:ext cx="2971800" cy="25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609480" y="3962520"/>
          <a:ext cx="5639040" cy="1484280"/>
        </p:xfrm>
        <a:graphic>
          <a:graphicData uri="http://schemas.openxmlformats.org/drawingml/2006/table">
            <a:tbl>
              <a:tblPr/>
              <a:tblGrid>
                <a:gridCol w="1879560"/>
                <a:gridCol w="1879920"/>
                <a:gridCol w="187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(flo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crowb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EC385-D9AF-4750-96B6-4EF763759C31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es and Parall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: 1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: 0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oth must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ither can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029200" y="1523880"/>
          <a:ext cx="325764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523880"/>
                    <a:ext cx="32576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52D3F-F9FF-4F67-9D2A-8199DB49A815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duction Compl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gates always produce 0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nMOS: Y=0 when both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Y=1 when either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parallel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-up network is complement of pull-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-&gt; series, series -&gt;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943600" y="2895480"/>
          <a:ext cx="2362320" cy="18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95480"/>
                    <a:ext cx="236232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BCE84-BB52-4F8F-B006-609124C36289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do any invert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685880" y="1905120"/>
          <a:ext cx="700092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1905120"/>
                    <a:ext cx="70009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1600200" y="2438280"/>
          <a:ext cx="5334120" cy="36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438280"/>
                    <a:ext cx="533412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D7452-590C-4776-A857-D061C16C5B65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19320" y="14479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666880" y="1828800"/>
          <a:ext cx="389736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828800"/>
                    <a:ext cx="38973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48C44-BB66-4041-9154-B029E86DE5CA}" type="slidenum">
              <a:t>18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al Streng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lose it approximates ideal voltag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 are strongest 1 and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strong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stro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nMOS are best for 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0542E-C15D-4E69-8AA4-BB1FF5AFD0C6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ief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Gat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Latches &amp; 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A02C6-02A5-41BD-8D8C-3857A876F3C1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s can be used a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762120" y="2057400"/>
          <a:ext cx="754380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54380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838080" y="2286000"/>
          <a:ext cx="92556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286000"/>
                    <a:ext cx="9255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453CF-3E86-45FF-B8E8-A84B6022BAFA}" type="slidenum">
              <a:t>20</a:t>
            </a:fld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 produce degrade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mission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both 0 and 1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43000" y="2514600"/>
          <a:ext cx="6705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6705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7731E-03BE-43D2-9412-739560D9EAC7}" type="slidenum">
              <a:t>21</a:t>
            </a:fld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state bu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es Z when not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14400" y="2514600"/>
          <a:ext cx="2666880" cy="2031840"/>
        </p:xfrm>
        <a:graphic>
          <a:graphicData uri="http://schemas.openxmlformats.org/drawingml/2006/table">
            <a:tbl>
              <a:tblPr/>
              <a:tblGrid>
                <a:gridCol w="888840"/>
                <a:gridCol w="888840"/>
                <a:gridCol w="88920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172200" y="2133720"/>
          <a:ext cx="196056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133720"/>
                    <a:ext cx="196056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43200" y="38098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4320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3C4D9-AAD9-4BD4-AD90-4EE01459230D}" type="slidenum">
              <a:t>22</a:t>
            </a:fld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restoring Trist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 acts as tristat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A is passed on t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95280" y="3352680"/>
          <a:ext cx="18702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18702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7FF06-C047-4E99-961B-5BEA082FAAC1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inverter produces resto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conduction complemen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we want a Z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5280" y="2895480"/>
          <a:ext cx="579132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95480"/>
                    <a:ext cx="5791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21189-1E5C-4400-8268-6A18256720AD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x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1 multiplexer chooses between two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38080" y="2819520"/>
          <a:ext cx="4038840" cy="218412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80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638680" y="2362320"/>
          <a:ext cx="281952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362320"/>
                    <a:ext cx="281952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396252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7339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45720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D0CD5-4F7D-4F81-ADF6-81171146FDA7}" type="slidenum">
              <a:t>25</a:t>
            </a:fld>
          </a:p>
        </p:txBody>
      </p:sp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Mux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transistors are needed?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19320" y="1447920"/>
          <a:ext cx="503388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0338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371600" y="2666880"/>
          <a:ext cx="6629400" cy="32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666880"/>
                    <a:ext cx="662940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6019920" y="2057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2666880"/>
            <a:ext cx="59436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EBAF8-A282-434C-B5D2-7AC33C465B40}" type="slidenum">
              <a:t>26</a:t>
            </a:fld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 mux uses two transmissi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4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895480" y="2133720"/>
          <a:ext cx="32464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133720"/>
                    <a:ext cx="32464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C36D0-9441-4DB2-B1B2-6FFE519B7FEB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ing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mpound AOI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air of tristate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ly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 multiplexer adds an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09480" y="3886200"/>
          <a:ext cx="792504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86200"/>
                    <a:ext cx="79250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A5D71-9688-4E51-998F-31004A53FE1D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:1 Multiplex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1 mux chooses one of 4 inputs using two sel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levels of 2:1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ur tri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676520" y="2514600"/>
          <a:ext cx="5867280" cy="34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67280" cy="34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FBEC4-7710-4F5B-AF3D-1E206D92383F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Brief Hist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8: First integrated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using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by Jack Kilby at Texas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Core i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Gb Flash mem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6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2743200" cy="1838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638680" y="3429000"/>
            <a:ext cx="281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urtesy Texas Instru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1973160" cy="2297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96080" y="5562720"/>
            <a:ext cx="990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Trinh0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0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C5998-DAF9-41CE-A43C-B64DE6A9012A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1,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flows through to Q like a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0, the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holds its old value independent of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 l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vel-sensitive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838080" y="3733920"/>
          <a:ext cx="243864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733920"/>
                    <a:ext cx="24386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352680" y="3886200"/>
          <a:ext cx="4953240" cy="202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886200"/>
                    <a:ext cx="49532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506C0-A87F-45A9-8A73-5056C214C56A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r chooses D or ol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33520" y="2133720"/>
          <a:ext cx="8153280" cy="30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153280" cy="30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F2A17-48A2-4B49-BB7A-3E7744CBDF0C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58960" y="1523880"/>
          <a:ext cx="74246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523880"/>
                    <a:ext cx="7424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22780-9153-4C64-BFA5-4540A76111A0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rises, D is copied to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ll other times, Q holds it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itive edge-triggered flip-f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09480" y="4095720"/>
          <a:ext cx="198144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095720"/>
                    <a:ext cx="198144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666880" y="3784680"/>
          <a:ext cx="5791320" cy="19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784680"/>
                    <a:ext cx="57913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B423F-F49B-493F-A226-B3C312247BD3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aster and slave 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33520" y="2362320"/>
          <a:ext cx="8076960" cy="21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07696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23620-691C-4FD2-BAB6-2DB0FE9AAB11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062080" y="1523880"/>
          <a:ext cx="50180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080" y="1523880"/>
                    <a:ext cx="5018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49710-AC31-4D2F-82E0-CBFF2F4D5892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ce Con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to-back flops can malfunction from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flip-flop fires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s first flip-flop change and captures its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ld-time 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33520" y="3365640"/>
          <a:ext cx="8001000" cy="25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65640"/>
                    <a:ext cx="8001000" cy="25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9DECE-D5DA-4D27-A7E8-E7A51FB7037D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overlapping Clo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overlapping clocks can prevent r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nonoverlap exceeds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use them in this class for saf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manages skew more carefully inst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209680" y="3352680"/>
          <a:ext cx="457200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45720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9BB16-6DB5-49FA-B55E-24850CAB1054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can be ver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gates to fit together nic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design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should abut (standard h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acent gates should satisfy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t bottom and pMOS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ates include well and substrat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EDD0D-CE30-4B74-A7F1-3FBD56FB3B82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52480" y="1460520"/>
            <a:ext cx="4724640" cy="44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58513-0A09-42AB-BDF4-91357CCC32F7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owth R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% compound annual growth rate over 5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ther technology has grown so fast so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miniaturization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is cheaper, faster, lower in po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lutionary effects o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6400800" cy="218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86600" y="548640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CD9C1-3F56-40E9-96D5-C4CDDD3F4AE3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NAND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N-diffusion and p-diffusion s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olysilic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l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GND rail at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6226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07643-2187-4A09-B492-67618544F15A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ick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 plan layout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ot be to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with color pencils or dry-erase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62120" y="2971800"/>
          <a:ext cx="7696080" cy="28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769608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4346D-48FA-4CAB-BD2D-16B340881EFE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ing Tra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ring tr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pace required for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dth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acing from neighbor =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lso consume one wiring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4648320" cy="300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71EE7-88A2-4320-A008-76372C1B5AA1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spa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s must surround transistors by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opposite transistor flav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s room for one wire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4724280" cy="31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7D30-FEC1-417F-A61E-14B41CFF2CEB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2209680" y="2438280"/>
          <a:ext cx="352440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352440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2133720" y="2514600"/>
            <a:ext cx="396216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area by counting wiring 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by 8 to express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209680" y="2438280"/>
          <a:ext cx="353232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438280"/>
                    <a:ext cx="3532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B1C5F-B957-426F-904D-8EDBC3E1B6EE}" type="slidenum">
              <a:t>44</a:t>
            </a:fld>
          </a:p>
        </p:txBody>
      </p:sp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 a stick diagram for O3AI and estimat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19051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905120" y="2514600"/>
          <a:ext cx="487656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514600"/>
                    <a:ext cx="487656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5410080" y="2438280"/>
            <a:ext cx="144792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6880" y="533412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E65F8-CFEF-430D-B5C6-8DBCCEC1DCC1}" type="slidenum">
              <a:t>45</a:t>
            </a:fld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nnual Sa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manufactured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for every human on the pl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7848360" cy="349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A693E-5626-424D-A008-C91FDB29844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ntion of the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um tubes ruled in first half of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Large, expensive, power-hungry,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7: first point contact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Bardeen and Walter Brattain at Bell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stal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Riordan, Hodde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952880" y="3166920"/>
            <a:ext cx="3451320" cy="2913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86200" y="5486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&amp;T Archives.  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E7BB1-D5B3-443C-AB98-4029931EF28A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n or pnp silico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urrent into very thin base layer controls large currents between emitter and 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urrents limit integration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Oxide Semiconductor Field Effec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nd pMOS MOS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pplied to insulated gate controls current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ower allows very high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F9137-1769-487A-98C9-4410DEF2DE1A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’s processes usually had only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, but consume power while i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s-present: CMOS processes for low idl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Integrated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1101 256-bit 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004 4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2371680" cy="2743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267080" y="2438280"/>
            <a:ext cx="3733920" cy="27590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276720" y="4648320"/>
            <a:ext cx="9903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Vadasz6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196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01000" y="4419720"/>
            <a:ext cx="838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l Museu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0E63D-6078-4F22-A02A-FF08EA7BB592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’s Law: The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5: Gordon Moore plotted transistor on each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straight line on semilo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s have doubled every 2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312408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gration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k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3140280" cy="2814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429000" y="563868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5D16B-9D64-4518-A2C3-BA70F57FB867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15:35Z</dcterms:modified>
  <cp:revision>409</cp:revision>
  <dc:subject/>
  <dc:title>PowerPoint Presentation</dc:title>
</cp:coreProperties>
</file>