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CD42EF0-10DC-47E2-960E-B7CF7E214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C4DB0C0-124F-41CF-9113-6A4F280C3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F68E28-3B55-457A-B3F6-CADB9D1F2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A48FF6-4316-4C3C-A25A-8BDD6C5F7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74B68DF-51DD-4ED9-B41D-1A4772A77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B8FCB5-DF5F-4C97-99FF-3A55696DB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82137E9-8FA4-42A5-83A4-A9D15897D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05626AE-314F-488A-BF88-2A454F8F6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FADA1C7-1152-47A6-A71D-2375755F7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592524B-B7F6-4AAD-ADFE-A8F9AB8EA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0DD806-7881-4977-86BC-57C7EBBC2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601CEF5-09BE-499A-B2E0-BD0CB5702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7CE5861-B716-4187-AADA-F590D7D02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41C9429-0F6F-42C1-8EE3-A542FE944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9BE1A0A-0D6C-4A47-AE64-F6AC14012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752A183-FCBD-4854-8A24-2207A2A8C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36EB74B-1CA7-48BD-AED0-AD72DDA65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698E28-469F-4485-8B0C-592688778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8339313-BAE4-48A7-B875-D638A3509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5BE773E-F797-4036-AA08-F631C0AAF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5FE876-CBAA-4D2A-84E0-C6D327AA85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54DB640-8348-4B2F-ABF6-B56AA9B56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9B282B-0654-4C01-AF60-98A3948B3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0F32B4E-D23B-4033-8FC4-F11D3329A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5685FF-2E97-4E34-8C84-8C5ACF8CC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B464DE-AC22-4813-942D-E15BC3015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DC68195-2A22-4831-85EA-B854AD05F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97889E-032A-4B90-8D9D-FE7A720F5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40D1310-1BB0-4F54-B8DB-53EAB7F17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1F946AF-5E21-4C75-BB55-51E32D11E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E9E2D81-4F5B-48CC-B01A-CF4BCF9C1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1506AE0-50CD-4CB2-B810-6C507A6E8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53C856B-7C76-412A-B4ED-E84A300F1A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7CA1C4-F764-4888-AB19-B6AE93FF0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3992582-BD1B-48F0-9764-CBEEB3255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3FE6F28-6DF6-453E-806D-B6CD20A8A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B13B313-CC7E-4C45-82D3-A1EE23599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4121B8-A221-441F-8485-11C393085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39EC1E2-2E6F-4047-8A21-A68553065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9ACB15-9B18-4E72-9575-84501DFFC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997539-867A-41FF-A654-6249A0708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C94A70-288E-41F4-B5E4-357FB3324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8D55793-7698-40C0-8892-B5077D8A3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6EA67C-44EE-4B18-A9C8-52974457B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2882-5A84-47B5-B49E-76D86F0EB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ADB13-5F2F-4B3D-B75E-8196585426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5E0F-B685-48A1-896F-CE5247FB8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591E-9F8A-49C3-8C16-68806273F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97DB-287E-483C-B654-96AA694DE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A382-C82B-479F-B9D7-52943D104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38D07-C244-44C7-BD32-397AC3F6F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E97B1-25C0-4602-8255-77D973449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9E92-B5B4-4143-B5A9-F59B4593E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6857-05A5-4AD6-937C-07C12CFEE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48BC-D7B1-4206-BB17-6B27E25A1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176A-27AA-48FE-969C-998A96C6A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3F04-F3D1-4558-8E5C-4685626466C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953F-4D43-4A19-AA29-88F25E713F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’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BBE0-3BFF-404F-9682-5427E61655F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B7A1-34D7-4647-A5B8-971D234039C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BEC8-00C9-45BB-A593-77DD761B167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6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7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7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6E0E-6517-491B-9779-A8831BB9E3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C68F-34B2-40CC-BD45-4AA122E006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A982-472E-423D-95D7-9EB5F6266E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5297-0936-47F6-A76D-02B381918F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1677-EE47-4065-823C-49FB5E4400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AF76-0166-4B02-8D32-07FA259679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CA20-65F3-447A-BC3A-98A9292AB1C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F96E-39F7-4A2F-BDA8-3CF7872FD34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F057-3FD7-4E86-81E2-03B76A755C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0301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6956-EC96-4BBC-BF49-AD4E219E96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1C3E-7757-41C2-92DD-C2C13C3C46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CDC8-C217-4438-ADE9-51CA5CD54E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1025-10D8-42B3-885F-B6A63FD128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9F60-12B7-4021-8738-F8D8974A2B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CF2-A48D-4876-BC6B-4AA4564E5BA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’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456B-5E30-4D82-B66F-2B0083576F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A678-45A2-4B93-B17E-59DE6DEA67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6FDB2-1266-4A32-AF78-C54BE4AA031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8992-78C0-4D1E-8E83-A54839D6486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C1E7-9B4A-4E52-B388-D45CF60E1B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854C-69D1-4076-87C8-7B4F930DF6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4491-F062-4458-89E2-A0D801D57F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’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2236-C356-4BFF-93CC-E0959B22CB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1781-5F0A-49F6-A2E1-F93F55C6059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B035-46F4-458C-94A1-7558E1D60C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EC26-78CD-4EF4-A6E6-EC125B9A5F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FAE1-2575-4310-AD2E-12118D31D5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8FB0-0F30-4240-996C-67DFD339004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E4A0-D49E-4A9C-BB54-D7621612FC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93CA-C57B-46D4-A02C-67D98016574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C64C-13D5-4C2F-80B1-6796238E0A7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D042-0C99-4654-BD92-CCBDC786F3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A18-BCB9-4258-8438-4D2F19D45A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1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3EBF-79E5-48BC-965B-0946A98372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0C4E-EE96-418C-9E7A-78F4AAA64B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Metal gates are returning tod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786B-126C-4D3D-BE63-8DE9B7CFE66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13D9-2852-4CFF-8A9F-3A0AE39F06A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DFEC-2286-4F97-969A-23C9E2AD85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Prof. David Money Harris</cp:lastModifiedBy>
  <dcterms:modified xsi:type="dcterms:W3CDTF">2011-01-19T22:31:18Z</dcterms:modified>
  <cp:revision>322</cp:revision>
  <dc:subject/>
  <dc:title>PowerPoint Presentation</dc:title>
</cp:coreProperties>
</file>