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22.jpeg" ContentType="image/jpeg"/>
  <Override PartName="/ppt/media/image42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0.wmf" ContentType="image/x-wmf"/>
  <Override PartName="/ppt/media/image31.wmf" ContentType="image/x-wmf"/>
  <Override PartName="/ppt/media/image46.png" ContentType="image/png"/>
  <Override PartName="/ppt/media/image43.wmf" ContentType="image/x-wmf"/>
  <Override PartName="/ppt/media/image32.wmf" ContentType="image/x-wmf"/>
  <Override PartName="/ppt/media/image47.png" ContentType="image/png"/>
  <Override PartName="/ppt/media/image44.wmf" ContentType="image/x-wmf"/>
  <Override PartName="/ppt/media/image45.wmf" ContentType="image/x-wmf"/>
  <Override PartName="/ppt/media/image10.wmf" ContentType="image/x-wmf"/>
  <Override PartName="/ppt/media/image48.png" ContentType="image/png"/>
  <Override PartName="/ppt/media/image38.wmf" ContentType="image/x-wmf"/>
  <Override PartName="/ppt/media/image8.wmf" ContentType="image/x-wmf"/>
  <Override PartName="/ppt/media/image13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9234488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234000" cy="69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00680" cy="34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5231880" y="-360"/>
            <a:ext cx="4000680" cy="34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-36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523188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EFE1D62-3C3B-4B5D-A00D-C09FE7710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C14E18C-E5A1-4FD0-8A05-A7C311F31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8B0280F-F3D7-42B5-BBC2-F98DBE89D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6E0B340-4EEE-42E5-8880-A6A1A165F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CBA748D-528E-4A05-8C5C-01389D2B5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3701985-11A1-4445-9CB7-1E79BD98A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15AF357-2CD5-4F3B-A90D-93E8789FE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33605EC-4317-49BE-8630-F549B5B8C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58A9BD7-CCD1-4A51-8D89-F36770719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C11F67A-594D-4808-8627-BFCCC825B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B16FFD3-95EE-4A09-8B0F-BC5501F5B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DCF3992-BBCE-4DD8-83CE-0AFB081E1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205F1C2-7C8D-4DF5-8940-76DB376DB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31493F7-24B5-4EEC-847B-959E934D6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764E6DD-3D38-46A0-B957-24FBE9CA8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950B515-D3AA-4E9D-8A12-4C4C604B5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4D027D9-F4E3-4D95-A323-D5895430E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976110B-EAFA-4B9B-A3C8-424D49A28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4E242E9-88B5-4968-AADE-832A78966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163D41C-4AC2-4B5C-BB1E-343FFD3C4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BF62D47-603A-49ED-8E36-69DDB44C6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6BE5511-F3A6-4898-A6DA-356073192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14E2BC5-96BE-4002-90B1-C97310E93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7E0A988-0402-4396-9182-2F6BFC42A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F4CFB4A-8ACA-4BD1-8D56-CC8E24164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11E9E30-DFED-42E6-8A60-534E111C9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323F576-C86C-4E39-9449-C9F792217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EA02C8F-968D-46A4-8647-ECD4E4EB7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0438E9D-7861-4956-8D4D-A137368D9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B6E9976-2B37-4144-BF15-AFDD3C8C1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C7BD88A-1F62-4320-93EB-EDEEDEE79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4D1D970-59D9-48F5-BF79-3C4F4387B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7F0E79B-C101-4CAA-AA57-7BE36578D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2C774FC-6FD2-4141-8BB8-C80AD34FA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673F0E7-694F-4B49-83E4-FE2C93C7A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868B019-7BAD-4F0E-A204-48A4F9AB8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08F8CAC-9D7D-4B22-81C5-7172D2351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F77AF28-1DBF-45F7-83C6-6CA98C4E1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64C1A47-419A-4FAD-84C3-57BC4065C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9727CE2-DEE9-4882-935B-5A888A529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CFD1824-D7CB-45A9-8B64-50C814D26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258AD08-4A5E-4656-8657-53F4E11C1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F4AAE4F-6889-4FD5-95BB-0829AA749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624BA32-0ECB-4494-A704-AFB3198FC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C3F51-F8B5-47AD-A3A5-6F2CF2ED2A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2F6DC-83C8-40A3-B5C7-423B924433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C3BD2-C1B0-40B0-A894-A478A4F21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97B42-4B81-4745-89A2-3E12C8D5BA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6E1CE-83DA-4AE7-9575-472FB29288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2F506-5683-4188-B765-21658EF994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C92DB-33FD-45C8-8450-E1DF54C6C1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FC699-97CD-4F48-A0D1-3BC5B2F9D3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B9E23-D758-4110-AFBB-46CDA50D5E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28B59-A32A-4EF3-9340-CE284677C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8AC4B-751E-4D4D-8D8A-94E33CFA34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61A47-EA87-4611-8A61-CC098138D8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8991-C323-4591-86C4-8229C9D24BF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cture 0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1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 advTm="7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7068-D4C0-4608-AD19-992B47466AF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Supply Volt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D = 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80’s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decreased in moder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damage modern tin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s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.3, 2.5, 1.8, 1.5, 1.2, 1.0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D23F-A4AD-47B6-8E60-D83ADF116F2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s as Switch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view MOS transistors as electrically controlled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at gate controls path from source to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990720" y="2590920"/>
          <a:ext cx="7162560" cy="34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90920"/>
                    <a:ext cx="716256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587C-102D-47BA-A64E-4333EE67D1D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7"/>
          <p:cNvSpPr/>
          <p:nvPr/>
        </p:nvSpPr>
        <p:spPr>
          <a:xfrm>
            <a:off x="4802400" y="3276720"/>
            <a:ext cx="349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45"/>
          <p:cNvGraphicFramePr/>
          <p:nvPr/>
        </p:nvGraphicFramePr>
        <p:xfrm>
          <a:off x="4191120" y="1523880"/>
          <a:ext cx="359388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523880"/>
                    <a:ext cx="35938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1905120"/>
          <a:ext cx="1447920" cy="167616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Object 46"/>
          <p:cNvGraphicFramePr/>
          <p:nvPr/>
        </p:nvGraphicFramePr>
        <p:xfrm>
          <a:off x="762120" y="4572000"/>
          <a:ext cx="3733560" cy="10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572000"/>
                    <a:ext cx="37335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50"/>
          <p:cNvSpPr/>
          <p:nvPr/>
        </p:nvSpPr>
        <p:spPr>
          <a:xfrm>
            <a:off x="1600200" y="25146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3"/>
          <p:cNvSpPr/>
          <p:nvPr/>
        </p:nvSpPr>
        <p:spPr>
          <a:xfrm>
            <a:off x="16002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8"/>
          <p:cNvSpPr/>
          <p:nvPr/>
        </p:nvSpPr>
        <p:spPr>
          <a:xfrm>
            <a:off x="914400" y="25146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9"/>
          <p:cNvSpPr/>
          <p:nvPr/>
        </p:nvSpPr>
        <p:spPr>
          <a:xfrm>
            <a:off x="9144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5"/>
          <p:cNvSpPr/>
          <p:nvPr/>
        </p:nvSpPr>
        <p:spPr>
          <a:xfrm>
            <a:off x="5944320" y="411480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6"/>
          <p:cNvSpPr/>
          <p:nvPr/>
        </p:nvSpPr>
        <p:spPr>
          <a:xfrm>
            <a:off x="5944680" y="3048120"/>
            <a:ext cx="723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1"/>
          <p:cNvSpPr/>
          <p:nvPr/>
        </p:nvSpPr>
        <p:spPr>
          <a:xfrm>
            <a:off x="59436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2"/>
          <p:cNvSpPr/>
          <p:nvPr/>
        </p:nvSpPr>
        <p:spPr>
          <a:xfrm>
            <a:off x="5943600" y="411480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4"/>
          <p:cNvSpPr/>
          <p:nvPr/>
        </p:nvSpPr>
        <p:spPr>
          <a:xfrm>
            <a:off x="4802400" y="3276720"/>
            <a:ext cx="349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1"/>
          <p:cNvSpPr/>
          <p:nvPr/>
        </p:nvSpPr>
        <p:spPr>
          <a:xfrm>
            <a:off x="5867280" y="4114800"/>
            <a:ext cx="838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2"/>
          <p:cNvSpPr/>
          <p:nvPr/>
        </p:nvSpPr>
        <p:spPr>
          <a:xfrm>
            <a:off x="5868360" y="304812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3"/>
          <p:cNvSpPr/>
          <p:nvPr/>
        </p:nvSpPr>
        <p:spPr>
          <a:xfrm>
            <a:off x="59436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4"/>
          <p:cNvSpPr/>
          <p:nvPr/>
        </p:nvSpPr>
        <p:spPr>
          <a:xfrm>
            <a:off x="5867280" y="411480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0"/>
          <p:cNvSpPr/>
          <p:nvPr/>
        </p:nvSpPr>
        <p:spPr>
          <a:xfrm>
            <a:off x="4800600" y="327672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234C-9133-44F4-BF32-06E6EC8F995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NAND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838080" y="1676520"/>
          <a:ext cx="2171880" cy="279072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Object 21"/>
          <p:cNvGraphicFramePr/>
          <p:nvPr/>
        </p:nvGraphicFramePr>
        <p:xfrm>
          <a:off x="1295280" y="4572000"/>
          <a:ext cx="127332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572000"/>
                    <a:ext cx="127332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48"/>
          <p:cNvSpPr/>
          <p:nvPr/>
        </p:nvSpPr>
        <p:spPr>
          <a:xfrm>
            <a:off x="2362320" y="228600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9"/>
          <p:cNvSpPr/>
          <p:nvPr/>
        </p:nvSpPr>
        <p:spPr>
          <a:xfrm>
            <a:off x="2362320" y="281952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0"/>
          <p:cNvSpPr/>
          <p:nvPr/>
        </p:nvSpPr>
        <p:spPr>
          <a:xfrm>
            <a:off x="2362320" y="342900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1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Group 109"/>
          <p:cNvGrpSpPr/>
          <p:nvPr/>
        </p:nvGrpSpPr>
        <p:grpSpPr>
          <a:xfrm>
            <a:off x="4269240" y="2133720"/>
            <a:ext cx="3579480" cy="2593080"/>
            <a:chOff x="4269240" y="2133720"/>
            <a:chExt cx="3579480" cy="2593080"/>
          </a:xfrm>
        </p:grpSpPr>
        <p:sp>
          <p:nvSpPr>
            <p:cNvPr id="150" name="Text Box 52"/>
            <p:cNvSpPr/>
            <p:nvPr/>
          </p:nvSpPr>
          <p:spPr>
            <a:xfrm>
              <a:off x="6935040" y="213372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Text Box 54"/>
            <p:cNvSpPr/>
            <p:nvPr/>
          </p:nvSpPr>
          <p:spPr>
            <a:xfrm>
              <a:off x="5411160" y="213372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55"/>
            <p:cNvSpPr/>
            <p:nvPr/>
          </p:nvSpPr>
          <p:spPr>
            <a:xfrm>
              <a:off x="6934320" y="42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56"/>
            <p:cNvSpPr/>
            <p:nvPr/>
          </p:nvSpPr>
          <p:spPr>
            <a:xfrm>
              <a:off x="6934320" y="33526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57"/>
            <p:cNvSpPr/>
            <p:nvPr/>
          </p:nvSpPr>
          <p:spPr>
            <a:xfrm>
              <a:off x="4269240" y="40384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58"/>
            <p:cNvSpPr/>
            <p:nvPr/>
          </p:nvSpPr>
          <p:spPr>
            <a:xfrm>
              <a:off x="4269240" y="31240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110"/>
          <p:cNvGrpSpPr/>
          <p:nvPr/>
        </p:nvGrpSpPr>
        <p:grpSpPr>
          <a:xfrm>
            <a:off x="4269240" y="2133720"/>
            <a:ext cx="3579480" cy="2593080"/>
            <a:chOff x="4269240" y="2133720"/>
            <a:chExt cx="3579480" cy="2593080"/>
          </a:xfrm>
        </p:grpSpPr>
        <p:sp>
          <p:nvSpPr>
            <p:cNvPr id="157" name="Text Box 111"/>
            <p:cNvSpPr/>
            <p:nvPr/>
          </p:nvSpPr>
          <p:spPr>
            <a:xfrm>
              <a:off x="6935040" y="213372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112"/>
            <p:cNvSpPr/>
            <p:nvPr/>
          </p:nvSpPr>
          <p:spPr>
            <a:xfrm>
              <a:off x="5410440" y="213372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113"/>
            <p:cNvSpPr/>
            <p:nvPr/>
          </p:nvSpPr>
          <p:spPr>
            <a:xfrm>
              <a:off x="6934320" y="42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114"/>
            <p:cNvSpPr/>
            <p:nvPr/>
          </p:nvSpPr>
          <p:spPr>
            <a:xfrm>
              <a:off x="6934320" y="33526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15"/>
            <p:cNvSpPr/>
            <p:nvPr/>
          </p:nvSpPr>
          <p:spPr>
            <a:xfrm>
              <a:off x="4269240" y="40384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116"/>
            <p:cNvSpPr/>
            <p:nvPr/>
          </p:nvSpPr>
          <p:spPr>
            <a:xfrm>
              <a:off x="4269240" y="31240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131"/>
          <p:cNvGrpSpPr/>
          <p:nvPr/>
        </p:nvGrpSpPr>
        <p:grpSpPr>
          <a:xfrm>
            <a:off x="4268880" y="2209680"/>
            <a:ext cx="3579480" cy="2593440"/>
            <a:chOff x="4268880" y="2209680"/>
            <a:chExt cx="3579480" cy="2593440"/>
          </a:xfrm>
        </p:grpSpPr>
        <p:sp>
          <p:nvSpPr>
            <p:cNvPr id="164" name="Text Box 118"/>
            <p:cNvSpPr/>
            <p:nvPr/>
          </p:nvSpPr>
          <p:spPr>
            <a:xfrm>
              <a:off x="6934320" y="220968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119"/>
            <p:cNvSpPr/>
            <p:nvPr/>
          </p:nvSpPr>
          <p:spPr>
            <a:xfrm>
              <a:off x="5410800" y="220968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120"/>
            <p:cNvSpPr/>
            <p:nvPr/>
          </p:nvSpPr>
          <p:spPr>
            <a:xfrm>
              <a:off x="6933960" y="434340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121"/>
            <p:cNvSpPr/>
            <p:nvPr/>
          </p:nvSpPr>
          <p:spPr>
            <a:xfrm>
              <a:off x="6933960" y="342900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22"/>
            <p:cNvSpPr/>
            <p:nvPr/>
          </p:nvSpPr>
          <p:spPr>
            <a:xfrm>
              <a:off x="4268880" y="411480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23"/>
            <p:cNvSpPr/>
            <p:nvPr/>
          </p:nvSpPr>
          <p:spPr>
            <a:xfrm>
              <a:off x="4268880" y="320040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124"/>
          <p:cNvGrpSpPr/>
          <p:nvPr/>
        </p:nvGrpSpPr>
        <p:grpSpPr>
          <a:xfrm>
            <a:off x="4269240" y="2209680"/>
            <a:ext cx="3579480" cy="2593080"/>
            <a:chOff x="4269240" y="2209680"/>
            <a:chExt cx="3579480" cy="2593080"/>
          </a:xfrm>
        </p:grpSpPr>
        <p:sp>
          <p:nvSpPr>
            <p:cNvPr id="171" name="Text Box 125"/>
            <p:cNvSpPr/>
            <p:nvPr/>
          </p:nvSpPr>
          <p:spPr>
            <a:xfrm>
              <a:off x="6934680" y="220968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126"/>
            <p:cNvSpPr/>
            <p:nvPr/>
          </p:nvSpPr>
          <p:spPr>
            <a:xfrm>
              <a:off x="5410440" y="220968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127"/>
            <p:cNvSpPr/>
            <p:nvPr/>
          </p:nvSpPr>
          <p:spPr>
            <a:xfrm>
              <a:off x="6934320" y="434304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128"/>
            <p:cNvSpPr/>
            <p:nvPr/>
          </p:nvSpPr>
          <p:spPr>
            <a:xfrm>
              <a:off x="6934320" y="342864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129"/>
            <p:cNvSpPr/>
            <p:nvPr/>
          </p:nvSpPr>
          <p:spPr>
            <a:xfrm>
              <a:off x="4269240" y="411444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130"/>
            <p:cNvSpPr/>
            <p:nvPr/>
          </p:nvSpPr>
          <p:spPr>
            <a:xfrm>
              <a:off x="4269240" y="320004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80"/>
          <p:cNvGrpSpPr/>
          <p:nvPr/>
        </p:nvGrpSpPr>
        <p:grpSpPr>
          <a:xfrm>
            <a:off x="4267080" y="2209680"/>
            <a:ext cx="3429000" cy="2590560"/>
            <a:chOff x="4267080" y="2209680"/>
            <a:chExt cx="3429000" cy="2590560"/>
          </a:xfrm>
        </p:grpSpPr>
        <p:sp>
          <p:nvSpPr>
            <p:cNvPr id="178" name="Rectangle 53"/>
            <p:cNvSpPr/>
            <p:nvPr/>
          </p:nvSpPr>
          <p:spPr>
            <a:xfrm>
              <a:off x="4267080" y="4114440"/>
              <a:ext cx="3049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75"/>
            <p:cNvSpPr/>
            <p:nvPr/>
          </p:nvSpPr>
          <p:spPr>
            <a:xfrm>
              <a:off x="4267080" y="3124080"/>
              <a:ext cx="3049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76"/>
            <p:cNvSpPr/>
            <p:nvPr/>
          </p:nvSpPr>
          <p:spPr>
            <a:xfrm>
              <a:off x="6934320" y="434304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77"/>
            <p:cNvSpPr/>
            <p:nvPr/>
          </p:nvSpPr>
          <p:spPr>
            <a:xfrm>
              <a:off x="6934320" y="342864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8"/>
            <p:cNvSpPr/>
            <p:nvPr/>
          </p:nvSpPr>
          <p:spPr>
            <a:xfrm>
              <a:off x="7010280" y="220968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79"/>
            <p:cNvSpPr/>
            <p:nvPr/>
          </p:nvSpPr>
          <p:spPr>
            <a:xfrm>
              <a:off x="5410080" y="220968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4" name="Object 19"/>
          <p:cNvGraphicFramePr/>
          <p:nvPr/>
        </p:nvGraphicFramePr>
        <p:xfrm>
          <a:off x="3505320" y="1905120"/>
          <a:ext cx="5029200" cy="383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905120"/>
                    <a:ext cx="5029200" cy="38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DD92-A6E9-4976-841F-00DE088A0BE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NOR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838080" y="1676520"/>
          <a:ext cx="2171880" cy="279072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Object 31"/>
          <p:cNvGraphicFramePr/>
          <p:nvPr/>
        </p:nvGraphicFramePr>
        <p:xfrm>
          <a:off x="1219320" y="4495680"/>
          <a:ext cx="12841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495680"/>
                    <a:ext cx="12841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32"/>
          <p:cNvGraphicFramePr/>
          <p:nvPr/>
        </p:nvGraphicFramePr>
        <p:xfrm>
          <a:off x="3505320" y="1600200"/>
          <a:ext cx="5181480" cy="427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600200"/>
                    <a:ext cx="518148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C704-2C12-4C8D-A846-49369AB08DE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-input NAND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pulls low if ALL inputs ar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pulls high if ANY input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4"/>
          <p:cNvGraphicFramePr/>
          <p:nvPr/>
        </p:nvGraphicFramePr>
        <p:xfrm>
          <a:off x="2209680" y="2438280"/>
          <a:ext cx="4648320" cy="35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438280"/>
                    <a:ext cx="4648320" cy="35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5"/>
          <p:cNvSpPr/>
          <p:nvPr/>
        </p:nvSpPr>
        <p:spPr>
          <a:xfrm>
            <a:off x="2209680" y="2666880"/>
            <a:ext cx="449604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188F-E26B-492B-8194-C65262DF0D6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Fabr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transistors are fabricated on silicon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hography process similar to printing 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each step, different materials are deposited or e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st to understand by viewing both top and cross-section of wafer in a simplified manufactur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0BFC-03B2-4D92-B08B-5AB97B6036F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Cross-se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use p-type substrate for n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n-well for body of p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4"/>
          <p:cNvGraphicFramePr/>
          <p:nvPr/>
        </p:nvGraphicFramePr>
        <p:xfrm>
          <a:off x="609480" y="2590920"/>
          <a:ext cx="8153640" cy="26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90920"/>
                    <a:ext cx="8153640" cy="26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E73D-18C3-4C64-A546-E5F8DA8F069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ell and Substrate Ta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rate must be tied to GND and n-well 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to lightly-doped semiconductor forms poor connection called Shottky Di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heavily doped well and substrate contacts /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4"/>
          <p:cNvGraphicFramePr/>
          <p:nvPr/>
        </p:nvGraphicFramePr>
        <p:xfrm>
          <a:off x="457200" y="3130560"/>
          <a:ext cx="8077320" cy="29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130560"/>
                    <a:ext cx="8077320" cy="29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A2F2-5C3E-464A-A86E-B61FF5F82EA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Mask 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nd wires are defin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-section taken along dashed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533520" y="2514600"/>
          <a:ext cx="8001000" cy="34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800100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3647-2EB6-4B0A-91BD-028CE5C0A85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ircuits: many transistors on one c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ry Large Scale Integ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LSI): bucketload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lementary Metal Oxide Semicondu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, cheap, low powe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:  How to build your own simple CMOS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logic gates from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layout and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 of the course: How to build a good CMOS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9F04-BAEB-4725-B483-43C15B1D42A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tailed Mask View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+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+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5"/>
          <p:cNvGraphicFramePr/>
          <p:nvPr/>
        </p:nvGraphicFramePr>
        <p:xfrm>
          <a:off x="4038480" y="1523880"/>
          <a:ext cx="4148280" cy="441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523880"/>
                    <a:ext cx="4148280" cy="44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E27E-38EC-492C-A641-B257F20A5C6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br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are built in huge factories called f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 clean rooms as large as football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0301"/>
          <p:cNvPicPr/>
          <p:nvPr/>
        </p:nvPicPr>
        <p:blipFill>
          <a:blip r:embed="rId1"/>
          <a:stretch/>
        </p:blipFill>
        <p:spPr>
          <a:xfrm>
            <a:off x="1295280" y="2514600"/>
            <a:ext cx="4572000" cy="33926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5868720" y="5410080"/>
            <a:ext cx="203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of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Machines Corporatio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authorized use not permit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71BE-43DA-4A74-8FFE-F021411F7C1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brication Ste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blank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inverter from the bottom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tep will be to form the 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wafer with protective layer of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x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layer where n-well should be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ant or diffuse n dopants into exposed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Object 5"/>
          <p:cNvGraphicFramePr/>
          <p:nvPr/>
        </p:nvGraphicFramePr>
        <p:xfrm>
          <a:off x="533520" y="5097600"/>
          <a:ext cx="8153280" cy="93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097600"/>
                    <a:ext cx="815328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125E-0ECA-4B7B-8A84-CF146A585CA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xid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op of Si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0 – 1200 C with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or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oxidation furn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4"/>
          <p:cNvGraphicFramePr/>
          <p:nvPr/>
        </p:nvGraphicFramePr>
        <p:xfrm>
          <a:off x="533520" y="4876920"/>
          <a:ext cx="81532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76920"/>
                    <a:ext cx="81532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34DC-3FC2-4DB8-A290-67CC3ADAEF7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hotores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 on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resist is a light-sensitive organic poly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ens where exposed to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533520" y="472428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2428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8586-6E6D-4068-90F2-895C36EB170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thograph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 photoresist through n-well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exposed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Object 4"/>
          <p:cNvGraphicFramePr/>
          <p:nvPr/>
        </p:nvGraphicFramePr>
        <p:xfrm>
          <a:off x="533520" y="464832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4832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5"/>
          <p:cNvGraphicFramePr/>
          <p:nvPr/>
        </p:nvGraphicFramePr>
        <p:xfrm>
          <a:off x="990720" y="3429000"/>
          <a:ext cx="648468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429000"/>
                    <a:ext cx="64846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AC56-EECC-4C45-BB5A-B7EB22FC00B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t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h oxide with hydrofluoric acid (H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ps through skin and eats bone; nasty stuff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ttacks oxide where resist has been ex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Object 6"/>
          <p:cNvGraphicFramePr/>
          <p:nvPr/>
        </p:nvGraphicFramePr>
        <p:xfrm>
          <a:off x="533520" y="464832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4832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370D-F17E-4505-B1D7-2B8C30BCCE5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rip Photores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remaining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ixture of acids called piranah e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ary so resist doesn’t melt in next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Object 4"/>
          <p:cNvGraphicFramePr/>
          <p:nvPr/>
        </p:nvGraphicFramePr>
        <p:xfrm>
          <a:off x="533520" y="4898880"/>
          <a:ext cx="807696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98880"/>
                    <a:ext cx="807696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504C-3BA3-4DB6-ACD4-571EFAF5FD3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w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well is formed with diffusion or ion impla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wafer in furnace with arsenic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until As atoms diffuse into exposed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Implana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st wafer with beam of As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s blocked by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nly enter exposed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4"/>
          <p:cNvGraphicFramePr/>
          <p:nvPr/>
        </p:nvGraphicFramePr>
        <p:xfrm>
          <a:off x="533520" y="4888080"/>
          <a:ext cx="81532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88080"/>
                    <a:ext cx="81532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FC19-080C-4989-A772-977C7BDBF7B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rip Ox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the remaining oxide using 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to bare wafer with 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equent steps involve similar series of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533520" y="5105520"/>
          <a:ext cx="815328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105520"/>
                    <a:ext cx="815328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BDF6-1CF2-40E4-9D55-47D51F21DF4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licon Latti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re built on a silicon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is a Group IV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crystal lattice with bonds to four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4"/>
          <p:cNvGraphicFramePr/>
          <p:nvPr/>
        </p:nvGraphicFramePr>
        <p:xfrm>
          <a:off x="2895480" y="2895480"/>
          <a:ext cx="3124440" cy="30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895480"/>
                    <a:ext cx="3124440" cy="30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6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1B42-A50B-4658-8AA3-1F983530373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lysilic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osit very thin layer of gate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6-7 atomic lay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Vapor Deposition (CVD) of silicon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wafer in furnace with Silane gas (Si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many small crystals called 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vily doped to be good 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Object 5"/>
          <p:cNvGraphicFramePr/>
          <p:nvPr/>
        </p:nvGraphicFramePr>
        <p:xfrm>
          <a:off x="533520" y="4768920"/>
          <a:ext cx="8153280" cy="12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68920"/>
                    <a:ext cx="81532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570C-1542-4BEC-88BE-D94C6672FF8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lysilicon Pattern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ame lithography process to pattern 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6"/>
          <p:cNvGraphicFramePr/>
          <p:nvPr/>
        </p:nvGraphicFramePr>
        <p:xfrm>
          <a:off x="304920" y="2590920"/>
          <a:ext cx="8229600" cy="17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90920"/>
                    <a:ext cx="822960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7"/>
          <p:cNvGraphicFramePr/>
          <p:nvPr/>
        </p:nvGraphicFramePr>
        <p:xfrm>
          <a:off x="533520" y="4772160"/>
          <a:ext cx="8153280" cy="122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772160"/>
                    <a:ext cx="8153280" cy="12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F825-3490-46D6-8733-8D6F8A0787F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lf-Aligned Proces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xide and masking to expose where n+ dopants should be diffused or impl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diffusion forms nMOS source, drain, and n-well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Object 4"/>
          <p:cNvGraphicFramePr/>
          <p:nvPr/>
        </p:nvGraphicFramePr>
        <p:xfrm>
          <a:off x="533520" y="4740120"/>
          <a:ext cx="8153280" cy="13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40120"/>
                    <a:ext cx="8153280" cy="13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85EE-2F7E-4D49-BDDE-302A14C577A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diffu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oxide and form n+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lf-aligned 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gate blocks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silicon is better than metal for self-aligned gates because it doesn’t melt during late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Object 4"/>
          <p:cNvGraphicFramePr/>
          <p:nvPr/>
        </p:nvGraphicFramePr>
        <p:xfrm>
          <a:off x="609480" y="4751280"/>
          <a:ext cx="8077320" cy="13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51280"/>
                    <a:ext cx="8077320" cy="13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Object 5"/>
          <p:cNvGraphicFramePr/>
          <p:nvPr/>
        </p:nvGraphicFramePr>
        <p:xfrm>
          <a:off x="380880" y="3352680"/>
          <a:ext cx="8229600" cy="8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352680"/>
                    <a:ext cx="82296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D58B-F19C-44E5-B907-B7785496EE5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diffusion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ly dopants were diff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ion implantation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regions are still called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533520" y="4740120"/>
          <a:ext cx="8153280" cy="13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40120"/>
                    <a:ext cx="8153280" cy="13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0F84-B87C-4474-B366-3FEF9F7219C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diffusion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oxide to complete patterning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5"/>
          <p:cNvGraphicFramePr/>
          <p:nvPr/>
        </p:nvGraphicFramePr>
        <p:xfrm>
          <a:off x="533520" y="4768920"/>
          <a:ext cx="8153280" cy="12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68920"/>
                    <a:ext cx="81532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6979-1689-489B-BA1C-53049040F4E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-Diffu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set of steps form p+ diffusion regions for pMOS source and drain and substrate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Object 4"/>
          <p:cNvGraphicFramePr/>
          <p:nvPr/>
        </p:nvGraphicFramePr>
        <p:xfrm>
          <a:off x="380880" y="3276720"/>
          <a:ext cx="8229600" cy="9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276720"/>
                    <a:ext cx="822960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5"/>
          <p:cNvGraphicFramePr/>
          <p:nvPr/>
        </p:nvGraphicFramePr>
        <p:xfrm>
          <a:off x="533520" y="4768920"/>
          <a:ext cx="8153280" cy="123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768920"/>
                    <a:ext cx="81532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CAF8-3041-406B-8D14-16A8F5574B2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tac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need to wire together the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chip with thick field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h oxide where contact cuts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533520" y="4675320"/>
          <a:ext cx="8153280" cy="13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75320"/>
                    <a:ext cx="815328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Object 5"/>
          <p:cNvGraphicFramePr/>
          <p:nvPr/>
        </p:nvGraphicFramePr>
        <p:xfrm>
          <a:off x="304920" y="3581280"/>
          <a:ext cx="800100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581280"/>
                    <a:ext cx="800100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AA02-12AE-4DC1-BB10-D5F501594B6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tal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utter on aluminum over whole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to remove excess metal, leav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533520" y="4660920"/>
          <a:ext cx="8153280" cy="13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60920"/>
                    <a:ext cx="815328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5"/>
          <p:cNvGraphicFramePr/>
          <p:nvPr/>
        </p:nvGraphicFramePr>
        <p:xfrm>
          <a:off x="304920" y="2362320"/>
          <a:ext cx="7924680" cy="22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362320"/>
                    <a:ext cx="79246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47F9-A933-4FC0-9442-F25D376DC6A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are specified with set of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dimensions of masks determine transistor size (and hence speed, cost, and pow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distance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by minimum width of 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ize improves 30% every 3 years or 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 for feature size when describing desig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rules in term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in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59B8-394C-493E-8AB1-68C6AF71A7F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pa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is a semi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 silicon has no free carriers and conducts poo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dopants increases the con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V: extra electron (n-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III: missing electron, called hole (p-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4"/>
          <p:cNvGraphicFramePr/>
          <p:nvPr/>
        </p:nvGraphicFramePr>
        <p:xfrm>
          <a:off x="1905120" y="4027320"/>
          <a:ext cx="4419360" cy="18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4027320"/>
                    <a:ext cx="441936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9000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12CA-4DBD-4737-8C18-09D2A999E61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ed Design Ru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ve rules to get you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696080" cy="403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9E4A-203E-4C7A-B599-5073E577330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5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1163520" cy="289584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dimensions specified as Width /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ize is 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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called 1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, this is 1.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wide,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6" descr=""/>
          <p:cNvPicPr/>
          <p:nvPr/>
        </p:nvPicPr>
        <p:blipFill>
          <a:blip r:embed="rId2"/>
          <a:stretch/>
        </p:blipFill>
        <p:spPr>
          <a:xfrm>
            <a:off x="2895480" y="3505320"/>
            <a:ext cx="4191120" cy="2371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21C3-6ABB-4F2C-BFB3-89E87DFA727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transistors are stacks of gate, oxide, 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 as electrically controlled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logic gates out of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masks to specify layout of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you know everything necessary to start designing schematics and layout for a simple chi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1F5D-CEE5-4455-832F-3A54FC945DF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bout these No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 © 2011 David Money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notes may be used and modified for educational and/or non-commercial purposes so long as the source is at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0518-5C91-4D13-810C-63E4003F7D9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-n Junc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junction between p-type and n-type semiconductor forms a di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lows only in on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4"/>
          <p:cNvGraphicFramePr/>
          <p:nvPr/>
        </p:nvGraphicFramePr>
        <p:xfrm>
          <a:off x="2286000" y="2881440"/>
          <a:ext cx="4343400" cy="30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881440"/>
                    <a:ext cx="434340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25D9-44E6-46ED-AF8D-EF8706AE769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terminals: gate, source, drain,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– oxide – body stack looks like a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and body are cond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xide) is a very good ins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metal – oxide – semiconductor (MOS)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gate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nger made of metal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Metal gates are returning toda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5"/>
          <p:cNvGraphicFramePr/>
          <p:nvPr/>
        </p:nvGraphicFramePr>
        <p:xfrm>
          <a:off x="4267080" y="3800520"/>
          <a:ext cx="4289400" cy="21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3800520"/>
                    <a:ext cx="4289400" cy="21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15CD-96C5-48EC-8849-4099BD0B3B1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is usually tied to ground (0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gate is at a low vol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-type body is at low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-body and drain-body diodes are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urrent flows, transistor i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5"/>
          <p:cNvGraphicFramePr/>
          <p:nvPr/>
        </p:nvGraphicFramePr>
        <p:xfrm>
          <a:off x="2209680" y="3733920"/>
          <a:ext cx="4191120" cy="23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733920"/>
                    <a:ext cx="419112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8546-3348-4F89-AF87-77525ABB40B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gate is at a high vol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charge on gate of MOS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charge attracted to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s a channel under gate to n-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current can flow through n-type silicon from source through channel to drain, transistor i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4"/>
          <p:cNvGraphicFramePr/>
          <p:nvPr/>
        </p:nvGraphicFramePr>
        <p:xfrm>
          <a:off x="2819520" y="4114800"/>
          <a:ext cx="3429000" cy="18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4114800"/>
                    <a:ext cx="3429000" cy="18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7535-122D-45A8-A24E-469698D013E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, but doping and voltages rever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tied to high voltage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ow: transistor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high: transistor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ble indicates inverted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2057400" y="3733920"/>
          <a:ext cx="441972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733920"/>
                    <a:ext cx="441972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Prof. David Money Harris</cp:lastModifiedBy>
  <dcterms:modified xsi:type="dcterms:W3CDTF">2011-01-19T22:31:18Z</dcterms:modified>
  <cp:revision>322</cp:revision>
  <dc:subject/>
  <dc:title>PowerPoint Presentation</dc:title>
</cp:coreProperties>
</file>