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97EDF-1D24-48E8-A062-3594776FF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2992-8254-45B5-A68E-792B1AAEA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0E88C-D794-4BC6-8EB5-9B4214EE9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E3EE-257D-480F-BBBF-F2551C3B88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2689-12D2-4AE9-8705-9168F8CE2B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F9057-F4D3-4A97-AE97-FA27ECEF4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7587-7A2B-44B1-85CE-4F50A3D8B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E593-7E4E-455B-85FE-4DEB29218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55FC-1C86-47FA-AFDA-C3D3C8D28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88B24-B37D-442C-8957-E2CBB9ACF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8C1EF-9844-4DB7-B00F-D6F22D9C5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82BD-DE85-49C8-885B-347EFFB36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10BF-5097-4A89-88BA-7D2CDD99EC1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9: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binational Circuit Desig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B6688-3E1D-4BB7-A49F-799DEF05E1B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Or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arasitic delay model was too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arasitic delay for Y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arrives latest? 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arrives latest?  2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3733920"/>
          <a:ext cx="39621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39621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25146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8954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DC87-2764-40E1-9161-AF80944ED3D7}" type="slidenum">
              <a:t>10</a:t>
            </a:fld>
          </a:p>
        </p:txBody>
      </p:sp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ner &amp; Outer Inpu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output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rail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put arrival time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latest input to inner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5880" y="1676520"/>
          <a:ext cx="3657600" cy="18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76520"/>
                    <a:ext cx="3657600" cy="18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5053A-5038-4072-BC26-F82BB36110CD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 favor one input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input A of a NAND gate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er transistor on A (less capaci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size of non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tal resistance is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 approaches g = 1 on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otal logical effort go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15000" y="2819520"/>
          <a:ext cx="327672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19520"/>
                    <a:ext cx="32767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905120" y="38098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41911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46483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5A0E5-3654-407F-803C-EED6B4ABFDBA}" type="slidenum">
              <a:t>12</a:t>
            </a:fld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can be made perfectly 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05120" y="2438280"/>
          <a:ext cx="41907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41907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396F-AB21-41A0-9D97-A304B5963A0D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favor one edge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rising output of inverter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nMOS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logical effort by comparing to unskewed inverter with same effective resistance on that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3 = 5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1.5 = 5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00200" y="2895480"/>
          <a:ext cx="533412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3341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209680" y="52578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57150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C7A0-83FA-42C2-ADC5-92121DEF7BCD}" type="slidenum">
              <a:t>14</a:t>
            </a:fld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- and LO-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Logical effort of a skewed gate for a particular transition is the ratio of the input capacitance of that gate to the input capacitance of an unskewed inverter delivering the same output current for the same tran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reduce size of noncritical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 gates favor rising output (small n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-skew gates favor falling output (small p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smaller for favor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arger for the other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81A3-3399-43F5-876A-6BB855ACC6C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85800" y="1542960"/>
          <a:ext cx="7772400" cy="440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542960"/>
                    <a:ext cx="77724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6780-513C-4D0D-8826-94FA7CA6C3A8}" type="slidenum">
              <a:t>16</a:t>
            </a:fld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symmetric and 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transistor on unimportan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parasitic delay for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8120" y="3657600"/>
          <a:ext cx="32763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2763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BCF9-4C93-4A9A-B5C2-D60AAE84B32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P/N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lected P/N ratio for unit rise and fall resistan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3 for an inver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choose ratio for least averag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driving identical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 = (P + 1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P = (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delay for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43320" y="5373720"/>
          <a:ext cx="50472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3320" y="5373720"/>
                    <a:ext cx="5047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286000" y="37339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41911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4572000"/>
            <a:ext cx="4876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5029200"/>
            <a:ext cx="4876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41008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172200" y="2971800"/>
          <a:ext cx="192420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971800"/>
                    <a:ext cx="19242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01A87-C8DF-4A4D-A605-3BFF4C4B8E5E}" type="slidenum">
              <a:t>18</a:t>
            </a:fld>
          </a:p>
        </p:txBody>
      </p:sp>
    </p:spTree>
  </p:cSld>
  <p:transition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ati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best P/N ratio is sqrt of equal delay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roves average delay slightly for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gnificantly decreases area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B383-AA46-4AB6-81E2-19075EB4C89B}" type="slidenum">
              <a:t>19</a:t>
            </a:fld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Pu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EC96-1A29-4787-ACC3-5780965EDD92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p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 vs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-arriving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rea and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2DFD0-6814-4B11-8FAE-4E38BB47131F}" type="slidenum">
              <a:t>20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ux(input  s, d0, d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y = s ? d1 : d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ketch a design using AND, OR, and NOT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81080" y="4038480"/>
          <a:ext cx="335304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335304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B3CB-05DD-4172-89F0-57DB8FC79367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Sketch a design using NAND, NOR, and NOT gates. 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28800" y="2666880"/>
          <a:ext cx="4343400" cy="23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666880"/>
                    <a:ext cx="4343400" cy="23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79D9-4B98-49BA-AA2F-463F99B03C1F}" type="slidenum">
              <a:t>4</a:t>
            </a:fld>
          </a:p>
        </p:txBody>
      </p:sp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bble Pus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etwork of AND / 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NAND / NOR +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bubbles around to simplify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DeMorgan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77120" y="2133720"/>
          <a:ext cx="198108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133720"/>
                    <a:ext cx="19810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143000" y="3352680"/>
          <a:ext cx="6781680" cy="26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352680"/>
                    <a:ext cx="678168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CC4FC-7B22-4429-B74A-FE1615FDDA2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Sketch a design using one compound gate and one NOT gate.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71600" y="3048120"/>
          <a:ext cx="609588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09588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3B357-B762-434C-92E3-31C691E3BCA2}" type="slidenum">
              <a:t>6</a:t>
            </a:fld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90720" y="2057400"/>
          <a:ext cx="67053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6705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72428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5638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5181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55627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791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0E251-BB0C-43C2-A5AD-90A240CAA0B3}" type="slidenum">
              <a:t>7</a:t>
            </a:fld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er has a maximum input capacitance of 16 units on each input.  It must drive a load of 160 units.  Estimate the delay of the two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9320" y="4648320"/>
          <a:ext cx="175248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648320"/>
                    <a:ext cx="1752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066680" y="3124080"/>
          <a:ext cx="2971800" cy="16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124080"/>
                    <a:ext cx="29718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419720" y="3124080"/>
          <a:ext cx="3962160" cy="157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124080"/>
                    <a:ext cx="396216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143000" y="2743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60 / 16 = 10   B = 1   N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495680" y="4572000"/>
          <a:ext cx="138600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4572000"/>
                    <a:ext cx="13860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828800" y="281952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648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8769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51814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5791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4572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48769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571500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5AAE3-D49A-4EE4-91DB-2B7F9F0C98CE}" type="slidenum">
              <a:t>8</a:t>
            </a:fld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your designs with transistor sizes that achieve this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38080" y="2514600"/>
          <a:ext cx="7543800" cy="301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514600"/>
                    <a:ext cx="7543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873C7-2F32-4CD6-9072-7ADDDFC6A697}" type="slidenum">
              <a:t>9</a:t>
            </a:fld>
          </a:p>
        </p:txBody>
      </p:sp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24T01:33:11Z</dcterms:modified>
  <cp:revision>1061</cp:revision>
  <dc:subject/>
  <dc:title>PowerPoint Presentation</dc:title>
</cp:coreProperties>
</file>