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E537E-F465-4620-BE0D-357F42DEC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94E47-EA60-4422-A154-1B9FB6C18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0D4E-4AEE-41BA-8A86-E60A7DAC2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A0EEC-5396-4D22-9BEC-6006B0D442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9E32-CA1B-4AEB-8278-C7BCBE6977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C9A4-F2CA-434C-922F-F03114261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45960-7732-40DC-8774-EF619DEB6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C316-1632-477B-873A-9A48C1ADC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5632F-0EC7-490E-8331-C77BD5404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4A613-E553-4E7D-8018-CC1A4FF5A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5321-83BB-4420-9228-8CA983554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A5F04-71EF-4432-98D0-0CDC79AFE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17B8-B37B-4CA9-9B62-12E948A0456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Simu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03ACD-1945-40C9-99C3-9171D49A6DE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100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5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0 0.05 SWEEP Vgs 0 1.0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9EBC-2FEC-423B-B58A-B8A090239119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496040" cy="33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1F03-A230-4B75-9B34-8588B32DB42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AA9BB-C017-4CD5-9711-1AFB7BAF71B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12AE-826E-4574-BEB1-555D7DE300E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52880" y="2257560"/>
            <a:ext cx="5457600" cy="37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162D-442D-4C86-A4D9-5089B35F70D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6EF2A-CEC0-4511-92C4-D0FA41FE4AB0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6F0BD-E55C-4203-979F-F94019BE776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7B67-9CA3-415C-A408-5CAD6955122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E814-E700-47EF-8C96-0540D05C32D2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42B18-48F0-446D-BB7F-47A2F1198C4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EE42C-04F2-4722-84F8-C5959FC0E414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F1CD6-B82F-4665-8B64-8879FC72619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B2F8-6447-4F79-AF04-3F9CF36C443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2.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9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8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.8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.2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0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s of 1.5:1 – 2.2:1 give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7.2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89AF-DF8D-44BD-BE87-67EAC11796D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68FBC-F486-4F13-81B4-ADCFBE0DA0F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4FEE5-DC1D-4012-958E-A6181E8A864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984400"/>
            <a:ext cx="381024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F1B0E-A8CF-4140-9167-EE98DCB6002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IBM 65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26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F058B-C487-4154-8A0D-E9A1DC0F16D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14A34-4309-4610-BD8B-96B9C346676F}" type="slidenum">
              <a:t>27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’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AD63A-78F3-460A-A40A-60063C868E98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839E-4369-45A2-8F7C-C9E790D0D337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0 1ns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1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CD2A-BDFC-4669-BCBC-CDF9FCB0831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501920"/>
            <a:ext cx="5639040" cy="43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F0769-FBE8-469B-BFD8-EF64FF93EE1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0 1n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0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BD1A-AD15-4783-846F-F125EF75698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72" name="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3CE7-E59B-4186-9A6B-05C25D0268E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1523880"/>
          <a:ext cx="4876560" cy="395316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D4C25-6A33-419A-9BC5-EB5AC7F7CFF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10:49Z</dcterms:modified>
  <cp:revision>989</cp:revision>
  <dc:subject/>
  <dc:title>PowerPoint Presentation</dc:title>
</cp:coreProperties>
</file>