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wmf" ContentType="image/x-wmf"/>
  <Override PartName="/ppt/media/image28.wmf" ContentType="image/x-wmf"/>
  <Override PartName="/ppt/media/image10.png" ContentType="image/png"/>
  <Override PartName="/ppt/media/image5.wmf" ContentType="image/x-wmf"/>
  <Override PartName="/ppt/media/image30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png" ContentType="image/png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png" ContentType="image/png"/>
  <Override PartName="/ppt/media/image21.png" ContentType="image/png"/>
  <Override PartName="/ppt/media/image1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E74A8-E01B-46DE-A0B6-45E95979CC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69280-FF7B-4B20-8914-ECF9BF98CB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BA868-5C8E-4453-9A06-76CCCE12CA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3D111-4E8C-4C02-B9BA-987333A881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8BD93-16E9-4531-B0A7-316B351639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3AD28-A271-4718-A4C3-5E87FA91C9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6FDCC-B45E-42C8-AFB2-A0712F710C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85987-F023-4C1D-AF11-47768CC623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6B3B2-1576-4110-91B4-437CACBFD0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E6EE9-84C8-4B57-B79A-A47AF88B61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1072B-51A0-4896-85C2-D254F0B406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4C05F-0E65-4CD6-8280-49B72EBB58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2786-FD59-466C-9727-B398015DE12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.wmf"/><Relationship Id="rId8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7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46F6A-5574-4E6B-9709-C03B0C13315E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 Dissipation Sour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: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witch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hort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load capaci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-circuit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power: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u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un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onten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hreshold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ction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50620-636E-4B2E-A3CB-B694A5CCE5D2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ynamic Power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billion transistor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M logic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width: 1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factor = 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50M memory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width: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factor = 0.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V 65 n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1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(gate) + 0.8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(diffu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dynamic power consumption @ 1 GHz.  Neglect wire capacitance and short-circuit cur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879CC-8D74-49B8-B634-060EDD9D38FC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90480" y="1600200"/>
          <a:ext cx="731052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1600200"/>
                    <a:ext cx="731052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49745-CFF9-4EEA-8F26-25CCD39521B4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ynamic Power Re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minimi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y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143000" y="1838160"/>
          <a:ext cx="2514600" cy="5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38160"/>
                    <a:ext cx="251460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38691-F563-4D30-944C-AAB3239FFDA8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ity Factor Estim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rob(node i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-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*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ly random data has P = 0.5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is often not completely 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upper bits of 64-bit words representing bank account balances are usually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ropagating through ANDs and ORs has lower activity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design, but typicall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2514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2057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C3A04-9B42-4CF2-9223-79391BD76784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witching Probabili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6400800" cy="345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FAD18-09B3-4998-8227-916C6F822B22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4-input AND is built out of two levels of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activity factor at each node if the inputs have P = 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057400" y="3200400"/>
            <a:ext cx="4187880" cy="2000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733920" y="3200400"/>
            <a:ext cx="685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4572000"/>
            <a:ext cx="685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10080" y="3505320"/>
            <a:ext cx="83844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76641-FA9B-4F94-A1F5-D95619056356}" type="slidenum">
              <a:t>16</a:t>
            </a:fld>
          </a:p>
        </p:txBody>
      </p:sp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ock Ga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est way to reduce the activity is to turn off the clock to registers in unused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s clock activity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s all switching activity in the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determining if block will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438280" y="3657600"/>
            <a:ext cx="4243680" cy="242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74F38-AA96-4935-B9E4-E64F84B0B21A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pacit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wer stages of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gate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loorplanning to keep communicating blocks close 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long wires with inverters or buffers rather than complex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9EDBC-DF7B-483A-BE32-883941A48BFD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ltage / Frequenc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each block at the lowest possible voltage and frequency that meets performanc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eparate supplies to different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converters required when cro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low to 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Voltage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f according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791320" y="4343400"/>
            <a:ext cx="2422440" cy="1641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162920" y="3124080"/>
            <a:ext cx="1295280" cy="10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98CDF-BA83-4D3D-A134-CABF02DD4E75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an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CB340-18D8-4954-84F9-F8957333F860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tic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power is consumed even when chip is quies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 draws power from nominally OFF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ed circuits burn power in fight between ON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9740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EBC6B-2168-4199-BA0D-270CB1B77B7B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tic Power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it power estimation for 1 billion transistor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static power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hreshold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nA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nA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t used in all memories and in 95% of logic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leak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nA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ction leak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i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C5E39-0BFB-4FF3-AE1B-0E9107E866D7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5800" y="1779480"/>
          <a:ext cx="7848720" cy="22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79480"/>
                    <a:ext cx="784872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AA842-1637-44DA-B78E-362DF8776495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bthreshold Leak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 50 m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leakage at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219320" y="1981080"/>
          <a:ext cx="3124080" cy="73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81080"/>
                    <a:ext cx="312408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5169960" y="1600200"/>
            <a:ext cx="3431160" cy="23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values in 65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 nA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@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3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 nA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  @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4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 nA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    @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5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 = 100 mV/dec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92704-A7E5-42E8-BEC5-E7A15BDCC986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ack Effec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0640" indent="-35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OFF transistors have less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0, so N2 has negativ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 through 2-stack reduces ~10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 through 3-stack reduces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95280" y="2590920"/>
          <a:ext cx="4267440" cy="8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90920"/>
                    <a:ext cx="426744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7086600" y="1600200"/>
            <a:ext cx="1042920" cy="160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"/>
          <p:cNvGraphicFramePr/>
          <p:nvPr/>
        </p:nvGraphicFramePr>
        <p:xfrm>
          <a:off x="1295280" y="3498840"/>
          <a:ext cx="1524240" cy="69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3498840"/>
                    <a:ext cx="152424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1295280" y="4191120"/>
          <a:ext cx="2895840" cy="695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95280" y="4191120"/>
                    <a:ext cx="289584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21CC7-C67A-40F7-86B9-E060529E9740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akage Contro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 and delay trade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m for low leakage in sleep and low delay in active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duce lea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ltiple 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62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low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ly in critical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ck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62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put vector contr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sl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62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verse body bi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sl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62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forward body bias in active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EDB14-C841-46EF-8E9C-F31219E16B74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ate Leak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strong function of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igible for older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es subthreshold leakage at 65 nm and below in some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rder of magnitude less for pMOS than n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leakage in the process using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10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k gate dielectrics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rocesses provide multiple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thicker oxide for 3.3 V I/O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leakage in circuits by limit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9E273-4DF5-4C3B-A921-A67B5CD9E88E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ND3 Leakage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n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6.3 n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ff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.63 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ff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9.3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934320" y="1676520"/>
            <a:ext cx="1346040" cy="1193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62120" y="2855880"/>
            <a:ext cx="6705360" cy="3240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390800" y="5791320"/>
            <a:ext cx="109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from [Lee03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3CA58-AF0A-43AF-B5D7-6D6AB7602738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Junction Leak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reverse-biased p-n j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diffusion and substrate or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inary diode leakage is negli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-to-band tunneling (BTBT) can b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in high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istors where other leakage is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t a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-induced drain leakage (GIDL) exacerb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t for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r more neg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69FE5-DEB5-42E5-8068-303501157187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715000" y="1828800"/>
            <a:ext cx="2819520" cy="21495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 Ga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OFF power to blocks when they are idle to sav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virtual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outputs to prev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lid logic levels to next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drop across sleep transistor degrades performance during normal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 the transistor wide enough to minimize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wide sleep transistor costs 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justified when circuit sleeps long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BFA3E-19D8-4172-816D-0AC8A89118BE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and Energ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is drawn from a voltage source attached to th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in(s) of a c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taneous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421160" y="2844720"/>
          <a:ext cx="1901880" cy="4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1160" y="2844720"/>
                    <a:ext cx="19018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403056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419720" y="3487680"/>
          <a:ext cx="1609560" cy="95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3487680"/>
                    <a:ext cx="1609560" cy="9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76092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419720" y="4419720"/>
          <a:ext cx="2786040" cy="98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4419720"/>
                    <a:ext cx="278604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5257800" y="2819520"/>
            <a:ext cx="1066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3505320"/>
            <a:ext cx="17528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4495680"/>
            <a:ext cx="1981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F9E61-34F0-460D-94CA-9F43A529C148}" type="slidenum">
              <a:t>3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 in Circuit El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1676520"/>
          <a:ext cx="266688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26668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685800" y="3084480"/>
          <a:ext cx="3048120" cy="8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084480"/>
                    <a:ext cx="304812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5486400" y="1828800"/>
            <a:ext cx="1828800" cy="920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5638680" y="3124080"/>
            <a:ext cx="1371600" cy="976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5715000" y="4648320"/>
            <a:ext cx="2590920" cy="88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685800" y="4343400"/>
          <a:ext cx="3886200" cy="1736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5800" y="4343400"/>
                    <a:ext cx="388620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8170B-01A5-4A34-B55A-B5101CBAA78B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rging a Capaci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gate output 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stored in capacitor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energy drawn from the supply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f the energy from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dissipated in the pMOS transistor as heat, other half stored in capac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gate output 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in capacitor is dumped to G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sipated as heat in the nMOS transi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600200" y="2282760"/>
          <a:ext cx="160020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2760"/>
                    <a:ext cx="160020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943600" y="1523880"/>
            <a:ext cx="2666880" cy="185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1600200" y="3043080"/>
          <a:ext cx="2514600" cy="113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3043080"/>
                    <a:ext cx="251460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01EE0-1271-41EB-82D2-D43610D60210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witching Wavefor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0 V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50 fF, f = 1 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219320" y="1962000"/>
            <a:ext cx="6553080" cy="4057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19320" y="5562720"/>
            <a:ext cx="20574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400800" y="2017800"/>
            <a:ext cx="2286000" cy="159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0BFCB-2301-438B-934D-25FD0AFAD1F2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witching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20720" y="1676520"/>
          <a:ext cx="34653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1676520"/>
                    <a:ext cx="34653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648320" y="4114800"/>
          <a:ext cx="3809880" cy="196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114800"/>
                    <a:ext cx="380988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6E330-1FC2-46EA-9D2C-9F032DAA789A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ctivity Fac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the system clock frequency =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, 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ctivity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ignal is a clock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ignal switches once per cycl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336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592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163520" y="4191120"/>
          <a:ext cx="2705040" cy="56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3520" y="4191120"/>
                    <a:ext cx="270504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A37A4-0C38-4616-BBC1-031D51E09006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ort Circuit Curr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ransistors switch, both nMOS and pMOS networks may be momentarily ON a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to a blip of “short circuit” cur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10% of dynamic power if rise/fall times are comparable for input an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generally ignore this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4F324-D0E0-41AD-99F4-5C28E6D20742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17T22:01:09Z</dcterms:modified>
  <cp:revision>2043</cp:revision>
  <dc:subject/>
  <dc:title>PowerPoint Presentation</dc:title>
</cp:coreProperties>
</file>