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1.png" ContentType="image/png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93923-6D86-49CB-AFF8-360D2CAF8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914A-17C4-4CE3-A737-AB15CA86B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4AAE-2AF9-4B2A-956E-A2AF3BC7A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7179D-C5FA-4A52-A046-ADD277AAFE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95C9F-4785-49F6-BEF8-F510D217D0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C21B-A77A-4E9D-A6C5-94B22A7EA5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DAA8B-1BD9-4670-A465-ACC63A564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E9E5-D6B8-4028-9DD8-2B123834B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52FCA-18CD-4C63-8215-5AA3AB8BA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80D6-0210-4FA9-B1EE-534C1121E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AD1CC-C1F7-42D4-86D6-50B964E68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EABFB-EFC7-4A20-9A90-407D34417E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25FA-7C98-4308-9F5A-FDF53A5A2A3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97C4C-309A-476B-A43C-EF0DC68C163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Dissipation 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hort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load capaci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circuit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u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8953E-B9A6-473F-9D4A-475A43671C1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M logic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0M memo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V 6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gate) + 0.8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diffu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@ 1 GHz.  Neglect wire capacitance and short-circuit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6BDA-1D73-4A8D-B9D0-5BDD73DB178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90480" y="1600200"/>
          <a:ext cx="73105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00200"/>
                    <a:ext cx="73105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09168-82D2-44A4-A9F7-75BC289EE5E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Power Re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inim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838160"/>
          <a:ext cx="251460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38160"/>
                    <a:ext cx="25146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3C11-0934-446B-8FB3-FD8853A8D0F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ity Factor Esti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ob(node i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random data has P = 0.5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often not completely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upper bits of 64-bit words representing bank account balances are usually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pagating through ANDs and ORs has lower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esign, but typical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4F783-2F60-4EAD-BFAB-DCF4EF1294A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Prob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34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BEE7F-B79E-47B0-BF26-8576846C58F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-input AND is built out of two levels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activity factor at each node if the inputs have P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187880" cy="2000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32004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3505320"/>
            <a:ext cx="838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D6016-F405-4712-8681-D52D2395831F}" type="slidenum">
              <a:t>16</a:t>
            </a:fld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ock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reduce the activity is to turn off the clock to registers in unus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clock activ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all switching activity in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determining if block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4368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C749E-B318-45BE-B9AA-992D6B7F23A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stages of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loorplanning to keep communicating blocks clos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ong wires with inverters or buffers rather than complex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5F5A-4F7C-49D6-BDA4-A336405B0FA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tage / Frequ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each block at the lowest possible voltage and frequency that meets performa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parate supplies to differen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ters required when cro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ow to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oltage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 accord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422440" cy="1641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2920" y="3124080"/>
            <a:ext cx="1295280" cy="10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C66F8-D166-457E-A24F-6BB427364ED4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DF4EC-924C-4639-A673-F6EE94B582A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 is consumed even when chip is qui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draws power from nominally O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ed circuits burn power in fight between 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7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40F5-B71F-4C6C-959C-4860ADCD5DB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power estimation for 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t used in all memories and in 95% of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7DCD-A4E3-4EDD-8994-57C72AA1F7D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779480"/>
          <a:ext cx="784872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79480"/>
                    <a:ext cx="7848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947BC-FB2E-471D-935B-133762C5C9C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50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eakage a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19320" y="1981080"/>
          <a:ext cx="312408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31240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169960" y="1600200"/>
            <a:ext cx="34311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values in 65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3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 = 100 mV/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EC1F-000E-4B47-8240-A423D41B554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ck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F transistors have less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, so N2 has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2-stack reduces ~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3-stack reduces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590920"/>
          <a:ext cx="4267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4267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29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295280" y="3498840"/>
          <a:ext cx="152424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498840"/>
                    <a:ext cx="15242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95280" y="4191120"/>
          <a:ext cx="289584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191120"/>
                    <a:ext cx="28958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57104-ADDB-48FA-BA75-C85AB609C77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akage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and delay trad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low leakage in sleep and low delay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in critic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vector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erse body b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ward body bias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1A9E-3DC8-4390-904E-2BA80423855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trong function of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subthreshold leakage at 65 nm and below in som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er of magnitude less for pMOS than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the process using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gate dielectric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provide multip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icker oxide for 3.3 V I/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circuits by limit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C0604-2841-4DA8-9DAD-49A50628865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3 Leakag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3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.63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.3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346040" cy="1193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2855880"/>
            <a:ext cx="6705360" cy="3240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390800" y="5791320"/>
            <a:ext cx="109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from [Lee03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EB74-A406-4950-982F-D25847745CE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reverse-bias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iffusion and substrate or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 is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n high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where other leakage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 exacer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f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more neg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F4E6-9AD7-4A22-9E0A-EFBDC276D4C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19520" cy="2149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ower to blocks when they are idle to sav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rtu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outputs to pr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logic levels to nex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rop across sleep transistor degrades performance during 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the transistor wide enough to minimiz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wide sleep transistor costs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justified when circuit sleeps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4919C-583F-4F50-8AEA-DD4DBE105D06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and Ener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drawn from a voltage source attached to th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n(s) of a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21160" y="2844720"/>
          <a:ext cx="190188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844720"/>
                    <a:ext cx="1901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030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19720" y="3487680"/>
          <a:ext cx="160956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87680"/>
                    <a:ext cx="16095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60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419720" y="4419720"/>
          <a:ext cx="2786040" cy="9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419720"/>
                    <a:ext cx="27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257800" y="281952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5053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4956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CC3F-36DB-4293-A320-D3A5C1787DF7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in Circuit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26668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2666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5800" y="3084480"/>
          <a:ext cx="304812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84480"/>
                    <a:ext cx="304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1828800" cy="920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371600" cy="9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715000" y="4648320"/>
            <a:ext cx="2590920" cy="8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85800" y="4343400"/>
          <a:ext cx="3886200" cy="17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4343400"/>
                    <a:ext cx="3886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2D617-A6E0-49AE-AC7D-607E3D6C0E6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ing a Capaci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ored in capacito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energy drawn from the supply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the energy from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issipated in the pMOS transistor as heat, other half stored in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n capacitor is dumped to G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d as heat in the nMOS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00200" y="2282760"/>
          <a:ext cx="16002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2760"/>
                    <a:ext cx="1600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666880" cy="18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600200" y="3043080"/>
          <a:ext cx="251460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043080"/>
                    <a:ext cx="25146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A883F-2F0C-428C-88C9-7962D39D0A8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Wavefo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 fF, f = 1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1962000"/>
            <a:ext cx="6553080" cy="405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00800" y="2017800"/>
            <a:ext cx="2286000" cy="15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31CF5-F763-4869-94D2-DA6EABBAFC1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witching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0720" y="1676520"/>
          <a:ext cx="34653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676520"/>
                    <a:ext cx="34653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91AD8-D6AB-4CDB-8285-0BFB7A1E080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Fac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ystem clock frequenc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is a cloc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switches once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33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59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63520" y="4191120"/>
          <a:ext cx="27050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4191120"/>
                    <a:ext cx="27050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6625-95C5-4F7E-830E-40F46C66393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ort Circuit Curr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nsistors switch, both nMOS and pMOS networks may be momentarily O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blip of “short circuit”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0% of dynamic power if rise/fall times are comparable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generally ignore this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8EFA-D24A-4CDB-84C0-23E8741E2E8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2:01:09Z</dcterms:modified>
  <cp:revision>2043</cp:revision>
  <dc:subject/>
  <dc:title>PowerPoint Presentation</dc:title>
</cp:coreProperties>
</file>