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D03C-3F35-4798-AD9E-FA2614A4A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44B1-6FF6-434C-9357-CB0AC7A8C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FA12-FFEF-4F8D-8C03-0487651A2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1207-0FA6-4434-810B-1FCC55A3D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0309-13A8-4CA4-BE16-4306FC06F3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4809-BDD4-4734-A010-78923512F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7FAE8-772A-4935-9AC7-444046D14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2C2E-AA34-4C4B-A41F-25FC2B218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9C4A-8BC3-445F-AF81-D08002158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56A9-F036-4040-8172-DDB1E70C9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5D27-2F07-4296-8BD2-77749780F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9496-238C-434C-AB74-FC0C2A0E5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EB1E-2170-405F-B2F3-1240FFBA93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512C-44F5-49C0-AE79-972CC95BCA3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69DB-1520-468C-86C0-32A30F0FB4A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5A2E-9571-40F4-B071-ECABE127BEA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6742-E051-4279-8A87-568B3A8EB247}" type="slidenum">
              <a:t>12</a:t>
            </a:fld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5AEF-C140-4A0A-923B-B55AEEC4EB2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3BC3-EA26-4A23-9F0A-F192AE57DFBF}" type="slidenum">
              <a:t>14</a:t>
            </a:fld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ECCF-B8EB-4A3F-86F5-35984485610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559F-BA8B-4671-85A4-2764FB06CC3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62DD-3319-4557-8A5C-74627C6B85AE}" type="slidenum">
              <a:t>17</a:t>
            </a:fld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7148-459A-437E-B8EA-E72EA53ACC00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A80F-B313-43CB-A4FE-AEF792388A97}" type="slidenum">
              <a:t>19</a:t>
            </a:fld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C768-8F48-4DE1-A09A-10DA6511D35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7D7F-78F3-495C-ADF1-37C08CC3D5C8}" type="slidenum">
              <a:t>20</a:t>
            </a:fld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4941-BD57-4239-BD1A-428CFE8A580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101F-F471-4163-965A-E6712A598F5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33CC-D487-4BC2-BA5B-0869904FDF1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B39A-80E2-4765-9261-6D96BA20810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3A11-4643-4A9A-B6BF-C54740FE0EE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15AB-22CF-4A95-AEF6-57F5D84BBBF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1C92-F6D8-4265-B619-C2E2162C7650}" type="slidenum">
              <a:t>27</a:t>
            </a:fld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C4DD-8BAE-44DA-AB5C-F7A42F5E168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2C9E-1768-4C5C-8985-51C7103F35A9}" type="slidenum">
              <a:t>29</a:t>
            </a:fld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C241-B69E-4F00-849C-C2DD1C57EA19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F4BE-E7B2-4AD1-B0C1-85443E5A48B2}" type="slidenum">
              <a:t>30</a:t>
            </a:fld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1272-A851-44B9-A358-59A8362EA4B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C889-BEB4-4A8E-B2CC-5F50702E3BA7}" type="slidenum">
              <a:t>32</a:t>
            </a:fld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EE77-F1CE-4D63-B9D1-FCE902403AC1}" type="slidenum">
              <a:t>33</a:t>
            </a:fld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AE79-BD8D-4CBB-B77A-44B85A10E66A}" type="slidenum">
              <a:t>34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55573-9E60-410C-B643-A5A0A81BC21F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9BA6-2005-4F44-9850-F46C39F449DC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202A-D5DF-485E-B3F8-058E433EDBE5}" type="slidenum">
              <a:t>4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479D-80D5-43A3-A720-F6829EE6CB4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EC51-4C67-446D-959B-83924C81BD0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3A76-D1EB-4A78-BB01-979F9319101E}" type="slidenum">
              <a:t>7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F761-0EFD-42A4-A1DF-25D515D36B5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195B-F4BB-46E2-B024-8FC24FFFAC9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2Z</dcterms:modified>
  <cp:revision>704</cp:revision>
  <dc:subject/>
  <dc:title>PowerPoint Presentation</dc:title>
</cp:coreProperties>
</file>