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.jpeg" ContentType="image/jpeg"/>
  <Override PartName="/ppt/media/image28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2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35.png" ContentType="image/png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71030-E1F9-405A-AF33-41FFD7565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2A0D8-B43E-46CB-8046-CD0E4BA97C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BEEAB-BBDF-4F6C-B5F7-0F10A93BD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C7B92-C06F-495C-AF9C-E0A16FAA46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41E3C-083E-40C5-AF70-9FE13DB6E2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A9369-8C44-4F02-B263-497AE3F88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9C49A-E581-468F-B624-5F24F669BC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C4C88-A9DC-409F-AF71-1F2A49836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7760E-C96B-47D4-B8A2-C8B4B1A56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599CD-A6FB-46C1-A5DE-5F8E5E2EF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6E956-A539-4926-BA75-503B50854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A0B66-4C07-41A2-BAA1-3A6E6163F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A908-F6BF-4087-A0EB-9846A9A60C6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5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&amp; Transient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F399D-C136-44C2-8613-BFD31EC7C907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urrent vs.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out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,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i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2209680"/>
          <a:ext cx="777240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7724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2438A-10F9-47CC-B580-F24B1209275F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2743200"/>
          <a:ext cx="685800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743200"/>
                    <a:ext cx="685800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where |currents| are equa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705720" y="4267080"/>
          <a:ext cx="2057400" cy="137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267080"/>
                    <a:ext cx="205740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1EEE1-2A7E-4D91-8002-550CB08BA779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62120" y="2133720"/>
          <a:ext cx="7619760" cy="376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2133720"/>
                    <a:ext cx="761976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8580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3628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1523880"/>
            <a:ext cx="914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14600"/>
            <a:ext cx="17524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52B7-15FB-4D57-9587-6BA314736779}" type="slidenum">
              <a:t>12</a:t>
            </a:fld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Transfer Curv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be points on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-457200" y="2819520"/>
          <a:ext cx="5257800" cy="25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2819520"/>
                    <a:ext cx="525780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105520" y="2666880"/>
          <a:ext cx="3733560" cy="28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666880"/>
                    <a:ext cx="3733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93C3F-10E4-4A91-B0BC-154528661277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erating Reg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t transistor operating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029200" y="3276720"/>
          <a:ext cx="373392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76720"/>
                    <a:ext cx="373392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85800" y="2743200"/>
          <a:ext cx="4267080" cy="2371680"/>
        </p:xfrm>
        <a:graphic>
          <a:graphicData uri="http://schemas.openxmlformats.org/drawingml/2006/table">
            <a:tbl>
              <a:tblPr/>
              <a:tblGrid>
                <a:gridCol w="1422000"/>
                <a:gridCol w="1422720"/>
                <a:gridCol w="142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209680" y="3200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3200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35812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358128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3962520"/>
            <a:ext cx="12189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96252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434340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4343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47242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72428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867280" y="1600200"/>
          <a:ext cx="205740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05740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7A7CA-2A70-439D-9C02-22884A8D80F5}" type="slidenum">
              <a:t>14</a:t>
            </a:fld>
          </a:p>
        </p:txBody>
      </p:sp>
    </p:spTree>
  </p:cSld>
  <p:transition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ta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switching point will move from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kew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gates: collapse into equivalen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438280" y="2819520"/>
          <a:ext cx="4343400" cy="32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19520"/>
                    <a:ext cx="434340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EE92E-ED56-45E4-93E0-A9BAFA5DCAD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Margi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noise can a gate input see before it does not recognize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14400" y="2438280"/>
          <a:ext cx="7467480" cy="35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38280"/>
                    <a:ext cx="746748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3AB66-C32A-433F-AEFE-2E3C95D433B1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Lev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ximize noise margins, select logic levels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y gain point of DC transfer character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39A2F-0351-4FF8-BEDD-7B5CADD17AB1}" type="slidenum">
              <a:t>17</a:t>
            </a:fld>
          </a:p>
        </p:txBody>
      </p:sp>
    </p:spTree>
  </p:cSld>
  <p:transition>
    <p:zoom dir="ou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olving differentia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is usually considered to be a step or r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0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AC18E-F6A7-40E3-B87D-00F3E2EC04E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Step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nd step response of inverter driving load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1981080"/>
          <a:ext cx="309096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30909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609480" y="4343400"/>
          <a:ext cx="5195880" cy="16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343400"/>
                    <a:ext cx="5195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019920" y="4114800"/>
          <a:ext cx="2743200" cy="17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4114800"/>
                    <a:ext cx="274320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486400" y="1981080"/>
          <a:ext cx="2936880" cy="193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1981080"/>
                    <a:ext cx="29368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6019920" y="4038480"/>
            <a:ext cx="25146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4267080"/>
            <a:ext cx="2743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3124080"/>
            <a:ext cx="12952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2590920"/>
            <a:ext cx="12952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981080"/>
            <a:ext cx="1752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D712B-4597-4DE7-B0A0-A83E3CE46BCC}" type="slidenum">
              <a:t>19</a:t>
            </a:fld>
          </a:p>
        </p:txBody>
      </p:sp>
    </p:spTree>
  </p:cSld>
  <p:transition>
    <p:zoom dir="ou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 and Noise Mar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0636D-1BDB-4B49-9917-99C4C19DBB2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sing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ing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erage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s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output crossing 0.2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0.8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output crossing 0.8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0.2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726080" y="1600200"/>
            <a:ext cx="3884400" cy="346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70AF-6817-4AE6-81B9-4B8FCFB17A8A}" type="slidenum">
              <a:t>20</a:t>
            </a:fld>
          </a:p>
        </p:txBody>
      </p:sp>
    </p:spTree>
  </p:cSld>
  <p:transition>
    <p:zoom dir="ou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ll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erage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4AC91-3770-4935-A454-E06B07D22C7F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ulated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differential equations by hand is too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CE simulator solves the equations numer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more accurate I-V models to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mulations take time to write, may hid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133720" y="3276720"/>
          <a:ext cx="3657600" cy="29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76720"/>
                    <a:ext cx="365760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6E4A2-D886-4BD7-A938-63EE551AFC86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ould like to be able to easily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accurate as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easier to ask “What if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p response usually looks like a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RC response with a decaying expon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C delay models to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total capacitance on outpu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ective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a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e transistors by finding their effectiv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average current as gate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E5EAB-0528-4CAA-95C6-470F8E497901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ffectiv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ley models have limit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ccurate enough for moder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complicated for much h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cation: treat transistor as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 effective resistanc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veraged across switching of digital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inaccurate to predict current at any give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ood enough to predict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B8434-D34A-4C11-97D3-ABE9883A4943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Delay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quivalent circuits for 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switch + capacitance and ON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nMOS has resistance 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pMOS has resistance 2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nversely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62120" y="4038480"/>
          <a:ext cx="75438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038480"/>
                    <a:ext cx="75438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9D176-3BC0-4511-9E7F-01B18B68B733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Val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of gate width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ly decline to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nanometer tec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with shorter channe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fer to minimum contacted device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aybe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matter as long as you are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7434E-3B32-473B-BF6A-ADF3719B0D00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Delay Estim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1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62120" y="2057400"/>
          <a:ext cx="769608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69608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8380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6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2666880"/>
            <a:ext cx="30481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2057400"/>
            <a:ext cx="304812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161CC-8662-4D58-8E6A-BC5A3BC391E2}" type="slidenum">
              <a:t>27</a:t>
            </a:fld>
          </a:p>
        </p:txBody>
      </p:sp>
    </p:spTree>
  </p:cSld>
  <p:transition>
    <p:zoom dir="ou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lay Model Comparis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4419360" cy="41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A181E-59FD-4127-A7D8-E0C0585844AC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 a 3-input NAND with transistor widths chosen to achieve effective rise and fall resistances equal to a unit inverter (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971800" y="2819520"/>
          <a:ext cx="3352680" cy="29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819520"/>
                    <a:ext cx="33526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54864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6BFDB-7AA4-47AD-9450-019F1C9A723B}" type="slidenum">
              <a:t>29</a:t>
            </a:fld>
          </a:p>
        </p:txBody>
      </p:sp>
    </p:spTree>
  </p:cSld>
  <p:transition>
    <p:zoom dir="ou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source is gr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source &gt; 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pass transistor pa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ransistor would turn itself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s pull no high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a degraded “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degraded value slowly (low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transistors pull no low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s are needed to pass both 0 and 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400800" y="1828800"/>
          <a:ext cx="1828800" cy="17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828800"/>
                    <a:ext cx="18288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82300-D1BC-4A52-9708-B68066CB55C0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C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e the 3-input NAND gate with gate and diffusion capaci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89676-071F-40FD-A468-439152D70D0F}" type="slidenum">
              <a:t>30</a:t>
            </a:fld>
          </a:p>
        </p:txBody>
      </p:sp>
    </p:spTree>
  </p:cSld>
  <p:transition>
    <p:zoom dir="ou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more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ransistors look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up or pulldown network model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more delay of 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752480" y="3984480"/>
          <a:ext cx="601992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984480"/>
                    <a:ext cx="601992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16412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2743200"/>
          <a:ext cx="7794720" cy="14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743200"/>
                    <a:ext cx="77947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FE2D2-3F06-4EB2-A82B-499E0B4D6038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1409760" cy="19051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worst-case rising and falling delay of 3-input NAND driv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cal g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48320" y="2057400"/>
          <a:ext cx="3733560" cy="199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057400"/>
                    <a:ext cx="373356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914400" y="2286000"/>
          <a:ext cx="3048120" cy="142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286000"/>
                    <a:ext cx="3048120" cy="14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905120" y="5105520"/>
          <a:ext cx="1218960" cy="284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5120" y="5105520"/>
                    <a:ext cx="121896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" descr=""/>
          <p:cNvPicPr/>
          <p:nvPr/>
        </p:nvPicPr>
        <p:blipFill>
          <a:blip r:embed="rId8"/>
          <a:stretch/>
        </p:blipFill>
        <p:spPr>
          <a:xfrm>
            <a:off x="3505320" y="3886200"/>
            <a:ext cx="16603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4876920" y="4876920"/>
          <a:ext cx="3809880" cy="60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4876920"/>
                    <a:ext cx="380988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64819-CCA0-4117-971B-C525A642A2AC}" type="slidenum">
              <a:t>32</a:t>
            </a:fld>
          </a:p>
        </p:txBody>
      </p:sp>
    </p:spTree>
  </p:cSld>
  <p:transition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Compon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has 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or 11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of 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h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tional to load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FE272-8848-4ECC-989D-30356C131EA6}" type="slidenum">
              <a:t>33</a:t>
            </a:fld>
          </a:p>
        </p:txBody>
      </p:sp>
    </p:spTree>
  </p:cSld>
  <p:transition>
    <p:zoom dir="ou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mination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-case (contamination) delay can be substantially less than propagation de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If all three inputs fall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505320" y="4572000"/>
          <a:ext cx="512100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572000"/>
                    <a:ext cx="51210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143000" y="2666880"/>
          <a:ext cx="3276720" cy="17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666880"/>
                    <a:ext cx="327672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762120" y="4495680"/>
            <a:ext cx="2743200" cy="12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784E7-48E1-430E-BDD9-D8A73777384F}" type="slidenum">
              <a:t>34</a:t>
            </a:fld>
          </a:p>
        </p:txBody>
      </p:sp>
    </p:spTree>
  </p:cSld>
  <p:transition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1600200" y="3621240"/>
          <a:ext cx="586728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621240"/>
                    <a:ext cx="58672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d contacted diffusion on every s /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yout minimizes diffusion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3 layout shares one diffusio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output capacitance by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d uncontacted diffusion might help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81AE5-210D-4C0C-8C79-1FC22FB980C1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 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layout is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838080" y="2209680"/>
          <a:ext cx="7315200" cy="36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31520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03059-62D8-4616-B2AB-78020D176BA0}" type="slidenum">
              <a:t>36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k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2090880"/>
          <a:ext cx="7772400" cy="34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90880"/>
                    <a:ext cx="777240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905120" y="2895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124080"/>
            <a:ext cx="1828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0280" y="2895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41911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038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6483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C1F25-2D51-4786-859C-262757E3AFAC}" type="slidenum">
              <a:t>4</a:t>
            </a:fld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etween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size and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KCL, must settle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solv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raphical solution gives mor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638680" y="2971800"/>
          <a:ext cx="312444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971800"/>
                    <a:ext cx="312444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4A380-997C-4781-AC29-EE59346B08C9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pends on region of transisto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nMOS and pMO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0421-BF52-4549-9E09-6682913FCDD5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1600200"/>
          <a:ext cx="7772400" cy="2225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30481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8168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30481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46483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518148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5720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1055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71F43-0E5F-4E0E-A20E-184689DD5A1A}" type="slidenum">
              <a:t>7</a:t>
            </a:fld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5800" y="1600200"/>
          <a:ext cx="7772400" cy="2225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572000"/>
            <a:ext cx="2667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43087-B06D-4C7D-B445-10235CBA765A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is wider than nMOS such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14400" y="1905120"/>
          <a:ext cx="716292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1629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353EA-892A-42DB-AB9B-D64EC4FABA91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32:42Z</dcterms:modified>
  <cp:revision>704</cp:revision>
  <dc:subject/>
  <dc:title>PowerPoint Presentation</dc:title>
</cp:coreProperties>
</file>