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6.png" ContentType="image/png"/>
  <Override PartName="/ppt/media/image14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26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2.wmf" ContentType="image/x-wmf"/>
  <Override PartName="/ppt/media/image7.wmf" ContentType="image/x-wmf"/>
  <Override PartName="/ppt/media/image12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CA064-2179-4AF7-A882-669C1D312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46E5A-D930-45A2-8DF8-0EBDFDDBF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24BEA-8DBB-48A8-88A5-07FEF4569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35CE1-8565-4FDA-8DBE-28C7F1B04E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FDFE2-91AA-4F2F-BDFB-7AF3750CE0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0ACF2-E591-4651-A818-D110DC8CA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D488E-17CA-4525-BD31-EEE029C3D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03F51-2FBE-43A1-9A47-0183DAE9D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0B13-ABD6-4C3D-89AB-F11EA42B4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8CDA-D515-4818-ACAA-9FA03CB2E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312BC-E6D7-4530-9747-A240AB9EA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34D09-A981-4FD8-9F64-FE25D1C50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1B45-005F-4291-8DAA-62C6CCD8031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4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ideal Transistor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35D15-8290-485B-9738-A354CAFDA0B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 Sat I-V Effe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transistor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-saturated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ransistors are partially velocity satu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wer law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2 determined empirically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for 65 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21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19320" y="2057400"/>
          <a:ext cx="3660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3660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82104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19320" y="3505320"/>
          <a:ext cx="2666880" cy="50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505320"/>
                    <a:ext cx="26668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7E8FD-3016-4E29-AA41-0A238B28666C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Power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301464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63840" y="29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1600200"/>
          <a:ext cx="3962160" cy="15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39621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89736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5880" y="1752480"/>
          <a:ext cx="2438640" cy="127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1752480"/>
                    <a:ext cx="24386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514600" y="3276720"/>
            <a:ext cx="3276720" cy="267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2204D-7E83-4249-A7AB-6EB03935BEED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Channel Length Modulation</a:t>
            </a:r>
            <a:endParaRPr b="0" lang="en-US" sz="4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form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ple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between n and p with no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of depletion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 grows with reverse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–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r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181480" y="2743200"/>
          <a:ext cx="342900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743200"/>
                    <a:ext cx="342900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7148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81280" y="3352680"/>
            <a:ext cx="762120" cy="304920"/>
            <a:chOff x="3581280" y="3352680"/>
            <a:chExt cx="762120" cy="304920"/>
          </a:xfrm>
        </p:grpSpPr>
        <p:sp>
          <p:nvSpPr>
            <p:cNvPr id="114" name=""/>
            <p:cNvSpPr/>
            <p:nvPr/>
          </p:nvSpPr>
          <p:spPr>
            <a:xfrm>
              <a:off x="3581280" y="3352680"/>
              <a:ext cx="7621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365760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981080" y="3809880"/>
            <a:ext cx="1371240" cy="304920"/>
            <a:chOff x="1981080" y="3809880"/>
            <a:chExt cx="1371240" cy="304920"/>
          </a:xfrm>
        </p:grpSpPr>
        <p:sp>
          <p:nvSpPr>
            <p:cNvPr id="117" name=""/>
            <p:cNvSpPr/>
            <p:nvPr/>
          </p:nvSpPr>
          <p:spPr>
            <a:xfrm>
              <a:off x="1981080" y="3809880"/>
              <a:ext cx="13712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81080" y="4114800"/>
              <a:ext cx="12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2B7F9-C207-42ED-A2CB-51928F9083C5}" type="slidenum">
              <a:t>12</a:t>
            </a:fld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 Length Mod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nnel length modulat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featur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ally fit to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16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2057400"/>
          <a:ext cx="457200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45720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C7CE8-864D-41FC-98B3-8C1F1D0108BA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reshold Voltage Eff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hich the channel starts to i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models assume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ly depends (weakly) on almost everything 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voltag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lengt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rt Channel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AF5F7-4E18-4CF5-8199-E1C3E988DD82}" type="slidenum">
              <a:t>14</a:t>
            </a:fld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dy Effe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is a fourth transistor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ffects the charge required to invert th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decrea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rfac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doping level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ntrinsic carrier concentration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dy effect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76520" y="2666880"/>
          <a:ext cx="2361960" cy="4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236196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76520" y="3386160"/>
          <a:ext cx="12189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386160"/>
                    <a:ext cx="12189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00200" y="5029200"/>
          <a:ext cx="281952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029200"/>
                    <a:ext cx="28195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8F76C-1068-456E-A722-F70769FA93E6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ody Effect Cont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source-to-body voltage, treat a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2362320" cy="677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2228760" cy="11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ED3A0-A2BD-4CC7-A0BD-AC2E1299F1E8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B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 from drain affects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ronounced in small transistors where the drain is closer to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 also affec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rain voltage causes current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152960" y="3287880"/>
          <a:ext cx="838080" cy="28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2960" y="3287880"/>
                    <a:ext cx="838080" cy="28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15296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600200" y="3809880"/>
          <a:ext cx="198108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809880"/>
                    <a:ext cx="19810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6172200" y="4572000"/>
            <a:ext cx="1295280" cy="304920"/>
            <a:chOff x="6172200" y="4572000"/>
            <a:chExt cx="1295280" cy="304920"/>
          </a:xfrm>
        </p:grpSpPr>
        <p:sp>
          <p:nvSpPr>
            <p:cNvPr id="146" name=""/>
            <p:cNvSpPr/>
            <p:nvPr/>
          </p:nvSpPr>
          <p:spPr>
            <a:xfrm>
              <a:off x="6172200" y="4572000"/>
              <a:ext cx="12952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72200" y="48769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638680" y="2362320"/>
            <a:ext cx="2819520" cy="2251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324480" y="3352680"/>
            <a:ext cx="76212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03E22-B566-4AF1-A5D5-47704A88A4AB}" type="slidenum">
              <a:t>17</a:t>
            </a:fld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ort Channel Eff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mall transistors, source/drain depletion regions extend into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the amount of charge required to invert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us mak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function of channe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hannel effect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cesses exhibit a reverse short channel effect in whic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s with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A3B1F-05E6-47FC-AB6A-53C50B2BA99C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current in 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ff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oe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0 in cu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9880" y="2155680"/>
            <a:ext cx="4934160" cy="3940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600200" y="2895480"/>
            <a:ext cx="21337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8096B-B817-44CC-A46B-78EC0FD8E31D}" type="slidenum">
              <a:t>19</a:t>
            </a:fld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ideal Transistor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Field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Length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Voltag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Channel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and Environmental 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49B63-629C-4756-A763-08EF0586577E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 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co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an’t abruptly turn ON 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 source in contemporar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through ultrathin gate di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N junction diod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E6EBC-8FFD-4DB3-8749-9A309D7BE860}" type="slidenum">
              <a:t>20</a:t>
            </a:fld>
          </a:p>
        </p:txBody>
      </p: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threshold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hreshold leakage exponential with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is process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1.3-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relative to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log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100 mV/decade @ room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19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608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4191120" cy="982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1460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3105000" cy="2479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162920" y="2971800"/>
            <a:ext cx="137160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2895480"/>
            <a:ext cx="76212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95280" y="1908000"/>
          <a:ext cx="3200400" cy="83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1908000"/>
                    <a:ext cx="32004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60F61-500A-4EF7-9C90-CE1791518718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tunnel thorough very thin gate 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ly sensitive to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B are tech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for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nMOS gates leak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for older processes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ly important at 65 nm and below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10.5 Å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5600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2971800" cy="2748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467480" y="5029200"/>
            <a:ext cx="930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From [Song0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3124080" cy="108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AC2C5-567E-48CC-AF7B-0F36F9D0F852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Junction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have som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diod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-to-band tunneling (BT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-induced drain leakage (GI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5800" y="4624560"/>
          <a:ext cx="7772400" cy="13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624560"/>
                    <a:ext cx="77724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B416-859D-4A3A-ADF0-9221DC7F89BB}" type="slidenum">
              <a:t>23</a:t>
            </a:fld>
          </a:p>
        </p:txBody>
      </p:sp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ode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have som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y significant negative diode voltage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rea and perimeter of diffusion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&lt; 1 f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glig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95280" y="1981080"/>
          <a:ext cx="175284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175284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25BFF-8140-4D3D-B1CC-BC0DF658D957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nd-to-Band Tunn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across heavily doped p-n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sidewall between drain &amp;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lo do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junction leakage to significant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dewall junction 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andgap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B: tech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00200" y="3605040"/>
            <a:ext cx="3048120" cy="1043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181480" y="3757680"/>
            <a:ext cx="3140280" cy="68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656F8-5E7A-4595-839D-70E05AF2976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</a:rPr>
              <a:t>Gate-Induced Drain Leakage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at overlap between gat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nounced when drain is 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ate is at a negativ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warts efforts to reduce subthreshold leakage using a negative gat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3105360" cy="24796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5029200"/>
            <a:ext cx="533520" cy="5335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55CA0-6B90-4BFE-9A3E-C5BDF2122E8C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mperatur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438280" y="3809880"/>
          <a:ext cx="3102120" cy="21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9880"/>
                    <a:ext cx="310212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752480" y="2895480"/>
            <a:ext cx="1447560" cy="380880"/>
            <a:chOff x="1752480" y="2895480"/>
            <a:chExt cx="1447560" cy="380880"/>
          </a:xfrm>
        </p:grpSpPr>
        <p:sp>
          <p:nvSpPr>
            <p:cNvPr id="198" name=""/>
            <p:cNvSpPr/>
            <p:nvPr/>
          </p:nvSpPr>
          <p:spPr>
            <a:xfrm>
              <a:off x="1752480" y="2895480"/>
              <a:ext cx="14475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52480" y="3276360"/>
              <a:ext cx="13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828800" y="3352680"/>
            <a:ext cx="1295280" cy="380880"/>
            <a:chOff x="1828800" y="3352680"/>
            <a:chExt cx="1295280" cy="380880"/>
          </a:xfrm>
        </p:grpSpPr>
        <p:sp>
          <p:nvSpPr>
            <p:cNvPr id="201" name=""/>
            <p:cNvSpPr/>
            <p:nvPr/>
          </p:nvSpPr>
          <p:spPr>
            <a:xfrm>
              <a:off x="1828800" y="3352680"/>
              <a:ext cx="1295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2880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C4B55-7025-440E-9084-267E6960BFBC}" type="slidenum">
              <a:t>27</a:t>
            </a:fld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 What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 if transistors are not ide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still behave like swit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se effects matter f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voltage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scent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BE027-239E-48FC-B779-FEB04B5E5CB8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meter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have uncertainty i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around typical (T)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: opp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parameters are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867280" y="2666880"/>
          <a:ext cx="25639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666880"/>
                    <a:ext cx="25639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2133720" y="3276720"/>
            <a:ext cx="1143000" cy="380520"/>
            <a:chOff x="2133720" y="3276720"/>
            <a:chExt cx="1143000" cy="380520"/>
          </a:xfrm>
        </p:grpSpPr>
        <p:sp>
          <p:nvSpPr>
            <p:cNvPr id="210" name=""/>
            <p:cNvSpPr/>
            <p:nvPr/>
          </p:nvSpPr>
          <p:spPr>
            <a:xfrm>
              <a:off x="2133720" y="32767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33720" y="36572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133720" y="3733920"/>
            <a:ext cx="1143000" cy="380520"/>
            <a:chOff x="2133720" y="3733920"/>
            <a:chExt cx="1143000" cy="380520"/>
          </a:xfrm>
        </p:grpSpPr>
        <p:sp>
          <p:nvSpPr>
            <p:cNvPr id="213" name=""/>
            <p:cNvSpPr/>
            <p:nvPr/>
          </p:nvSpPr>
          <p:spPr>
            <a:xfrm>
              <a:off x="2133720" y="37339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33720" y="41144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33720" y="4191120"/>
            <a:ext cx="1143000" cy="380520"/>
            <a:chOff x="2133720" y="4191120"/>
            <a:chExt cx="1143000" cy="380520"/>
          </a:xfrm>
        </p:grpSpPr>
        <p:sp>
          <p:nvSpPr>
            <p:cNvPr id="216" name=""/>
            <p:cNvSpPr/>
            <p:nvPr/>
          </p:nvSpPr>
          <p:spPr>
            <a:xfrm>
              <a:off x="2133720" y="41911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33720" y="45716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76DDF-9673-4B01-90ED-B8DFE21236F2}" type="slidenum">
              <a:t>29</a:t>
            </a:fld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deal Transisto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-channel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228600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A3133-4E9F-470D-9C48-F7963B1A55CC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 also vary in time an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66680" y="3886200"/>
          <a:ext cx="6096240" cy="15811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5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2286000" y="2438280"/>
            <a:ext cx="1143000" cy="380880"/>
            <a:chOff x="2286000" y="2438280"/>
            <a:chExt cx="1143000" cy="380880"/>
          </a:xfrm>
        </p:grpSpPr>
        <p:sp>
          <p:nvSpPr>
            <p:cNvPr id="222" name=""/>
            <p:cNvSpPr/>
            <p:nvPr/>
          </p:nvSpPr>
          <p:spPr>
            <a:xfrm>
              <a:off x="2286000" y="243828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6000" y="281916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86000" y="2895480"/>
            <a:ext cx="1143000" cy="380880"/>
            <a:chOff x="2286000" y="2895480"/>
            <a:chExt cx="1143000" cy="380880"/>
          </a:xfrm>
        </p:grpSpPr>
        <p:sp>
          <p:nvSpPr>
            <p:cNvPr id="225" name=""/>
            <p:cNvSpPr/>
            <p:nvPr/>
          </p:nvSpPr>
          <p:spPr>
            <a:xfrm>
              <a:off x="2286000" y="289548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0" y="327636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00400" y="43434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5105520"/>
            <a:ext cx="1143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43434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5105520"/>
            <a:ext cx="1143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636E-45BA-4CF3-A966-EB29FD3FF67D}" type="slidenum">
              <a:t>30</a:t>
            </a:fld>
          </a:p>
        </p:txBody>
      </p:sp>
    </p:spTree>
  </p:cSld>
  <p:transition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rners describe worst cas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esign works in all corners, it will probably work for any va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corner with four letters (T, F,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E2B63-3892-48B9-84B2-FB01DA676347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portant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ritical simulation corner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838080" y="2895480"/>
          <a:ext cx="6782040" cy="2300400"/>
        </p:xfrm>
        <a:graphic>
          <a:graphicData uri="http://schemas.openxmlformats.org/drawingml/2006/table">
            <a:tbl>
              <a:tblPr/>
              <a:tblGrid>
                <a:gridCol w="1905120"/>
                <a:gridCol w="1219320"/>
                <a:gridCol w="1218960"/>
                <a:gridCol w="1219320"/>
                <a:gridCol w="121932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hres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281952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342900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5780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7712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396252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4495680"/>
            <a:ext cx="1067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4C8B-7188-4E06-9670-7FE289E7163D}" type="slidenum">
              <a:t>32</a:t>
            </a:fld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deal vs. Simulated nMOS I-V Plo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 nm IBM process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0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438280"/>
            <a:ext cx="1904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90720" y="1857240"/>
          <a:ext cx="7110360" cy="42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7240"/>
                    <a:ext cx="711036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30D78-C9FA-4572-A790-D941B059B341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N and OFF Curr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257800" y="1523880"/>
          <a:ext cx="30481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523880"/>
                    <a:ext cx="30481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7543800" y="1676520"/>
            <a:ext cx="762120" cy="5331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3047760" cy="2571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8680" y="4419720"/>
            <a:ext cx="914400" cy="3045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E2A23-49E0-433E-A91B-AA191DE2DEFA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ic Fields Eff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electric field: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s carriers int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hannel: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electric field: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s carriers from drain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hannel: v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952880" y="1600200"/>
            <a:ext cx="1143000" cy="380520"/>
            <a:chOff x="4952880" y="1600200"/>
            <a:chExt cx="1143000" cy="380520"/>
          </a:xfrm>
        </p:grpSpPr>
        <p:sp>
          <p:nvSpPr>
            <p:cNvPr id="75" name=""/>
            <p:cNvSpPr/>
            <p:nvPr/>
          </p:nvSpPr>
          <p:spPr>
            <a:xfrm>
              <a:off x="4952880" y="160020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52880" y="198072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800600" y="2895480"/>
            <a:ext cx="1295280" cy="380880"/>
            <a:chOff x="4800600" y="2895480"/>
            <a:chExt cx="1295280" cy="380880"/>
          </a:xfrm>
        </p:grpSpPr>
        <p:sp>
          <p:nvSpPr>
            <p:cNvPr id="78" name=""/>
            <p:cNvSpPr/>
            <p:nvPr/>
          </p:nvSpPr>
          <p:spPr>
            <a:xfrm>
              <a:off x="4800600" y="2895480"/>
              <a:ext cx="1295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0600" y="32763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EAA7B-0A37-4395-B799-0324E61648F8}" type="slidenum">
              <a:t>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ffee Cart Ana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d student runs from VLSI lab to coffee c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men are pouring out of the physics lecture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how long you have been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velocity = fatig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wind blowing you against the glass (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are buffeted against the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bility 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scatter off freshmen, fall down, g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confuse this with the satura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31694-5286-4146-95C5-7CC218609E0D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bility Degrad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ively 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s with oxid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315200" cy="17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BBE01-D767-44CA-BB35-1323516E24C8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ocity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rrier velocity roll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scatter off atoms in silicon lat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reach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es: 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0228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2971800" cy="174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114800" y="4572000"/>
            <a:ext cx="1428840" cy="979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449440" cy="291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921F9-39EA-4080-93BB-296F2C184C8B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32:48Z</dcterms:modified>
  <cp:revision>1801</cp:revision>
  <dc:subject/>
  <dc:title>PowerPoint Presentation</dc:title>
</cp:coreProperties>
</file>