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E7422-E020-42AC-B988-4A6B38501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B8C7-7561-46B3-B5C2-33B723CCB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D7C9-9C62-4698-B6B1-674DF4F7D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F6A5-3CF1-474E-B120-EFA90826AC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BE5D5-6E8E-4E03-AEC2-C3460FFC3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5C4E-FCB8-439E-9C15-BFBB65C294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424E8-9289-4486-9753-12794B596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9D05-0AFB-49B0-A9A1-1D480E23D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4505-9DB1-4760-8DA7-8F55D3CB72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8B471-4B4A-4BFB-8AE0-6488730E7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6E14-8497-47CB-ACBA-765CE7CAC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813BE-4460-4C6C-87FB-0208DD79A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E904E-DEF0-495E-98E3-A037A498FD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B42D-3356-466F-8CA1-28DD2EBAEBB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EA55-3BF4-45C0-B935-4FAC56FCCBD4}" type="slidenum">
              <a:t>10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65760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1814-AC94-4DC1-83A4-0DAC16CABA25}" type="slidenum">
              <a:t>11</a:t>
            </a:fld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66AF0-3520-42BF-8774-3F6DD7BD9977}" type="slidenum">
              <a:t>12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971800"/>
            <a:ext cx="3505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360DC-EA41-40DF-9856-3962A9CBDB3A}" type="slidenum">
              <a:t>13</a:t>
            </a:fld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0585-8687-4CF7-8F2B-7543316A104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6B11-9B8F-461A-8093-3A4A05F49E5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B127A-4720-4045-9F75-FDFCE792A72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87AB3-C546-4C51-8248-89AF8D1A7C2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A1EF1-EA00-40BB-959B-E2F7B2FDE3E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D7179-A7B1-4C43-9D0F-D31B4F03DBE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745C-BA0F-4510-B2D9-39B939EEA4AC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78C76-652E-4F9B-9A48-2574F74A6C3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3D9D-2271-4BF2-9137-573E32871058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96E4F-114B-47C5-B007-9CF0DC01887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BDED6-D9C7-4303-83C2-E1F9E5E03B2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87F3B-356E-4256-BD14-533D5D35CD0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362C1-8E37-4D79-807A-FA9E05628CE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25DC-F799-4D14-BCAE-581E1ADEA58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35Z</dcterms:modified>
  <cp:revision>542</cp:revision>
  <dc:subject/>
  <dc:title>PowerPoint Presentation</dc:title>
</cp:coreProperties>
</file>