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2D9F-A964-49A1-AD99-AB1AFACFB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24F4-AB98-44BA-8B3B-C48DF227F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10CC-7216-4377-9DC8-260E97DEA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31BA-54E6-46BF-A454-78602FA6EC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CEE1-E54F-40C1-B426-C23DDCD27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7EC4-376A-4B24-974D-E54828A35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0067-AA61-4649-BA43-61A04F0BC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A90C-00F6-49EA-9B58-FE54B8C12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DA6F-6EDC-4641-80E8-62577EB28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81CE-8544-4C57-8B04-F8657256F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D797-6DDF-4E6A-89C1-E0DC6E960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A143-FF3B-4B67-9D00-99E13EC4B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0104-08EC-44AE-9EC6-F33215E817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C930-F054-4BFD-84C4-8BDE5FDA82F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CB20-5A75-4601-BEA8-FE583048CF74}" type="slidenum">
              <a:t>10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657600"/>
            <a:ext cx="3657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F77A-ADD5-4661-B8CE-5A50B2A48465}" type="slidenum">
              <a:t>11</a:t>
            </a:fld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DB7F-74A9-43B1-BA3F-CD8767A2DDF0}" type="slidenum">
              <a:t>12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971800"/>
            <a:ext cx="3505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CABB-00F7-4409-B867-E797A0A357B7}" type="slidenum">
              <a:t>13</a:t>
            </a:fld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E139-8A32-4CF6-8115-40C812539CA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C412-3187-48C9-A36A-E35E3280BFE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2063-E798-44BB-9796-6EEC65DFCD3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1DD4-DED8-41FB-97AF-21FB981FC01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973A-CEB7-447E-8F45-025D12967E2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2230-63DC-4DE2-9558-4DFBB130AB3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63BD-FF56-4082-B026-0749EE56BAD4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3404-61F8-48AD-AB4C-7175D064079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DAF5-A793-4030-9880-3118028662C5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B522-BB36-461B-B1BD-1773869F87D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1AC6-D44A-4A26-B6A7-732D0826E5B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1124-DDF6-4B16-A5BC-20A3C0DE0C1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03F2-F0AC-4936-B3B3-65DD0FB2655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132A-9A42-4622-9559-75B2DF3A446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35Z</dcterms:modified>
  <cp:revision>542</cp:revision>
  <dc:subject/>
  <dc:title>PowerPoint Presentation</dc:title>
</cp:coreProperties>
</file>