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2.wmf" ContentType="image/x-wmf"/>
  <Override PartName="/ppt/media/image5.wmf" ContentType="image/x-wmf"/>
  <Override PartName="/ppt/media/image10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92487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486B7-F755-45C2-9803-F7C569D331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8C050-1D38-4FCF-AEDA-C83FE1B331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BFDB0-9602-4E71-9D47-81B9331600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81B02-60BE-4DF3-B85F-27CA0AC558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CF5A3-13E8-4ABF-9776-2DA65CD627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0EA55-DA44-4B9B-A5F2-51C862E349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8857B-9100-437A-9FB6-C2A301AA06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21D38-7D2F-44EA-B9C9-242D09CEEB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1AF8A-9F8F-459D-BD9C-69C3707425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3F2FE-BF64-4021-B86F-9A5BCEA113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007B1-5EE6-4DDD-9655-4B3C010829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ED9EB-2DFF-4CE0-9EE5-2212AFBCBC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7F71-6467-4156-BF17-8B328FF4274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21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ckaging, Power, &amp; Clock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A969C-D817-4449-A838-9D548793A4A3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chip has a heat sink with a thermal resistance to the package of 4.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/W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istance from chip to package is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/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ystem box ambient temperature may re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ip temperature must not exceed 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maximum chip power dissip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00-55 C) / (4 + 1 C/W) = 9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4952880"/>
            <a:ext cx="44197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7D975-8BA1-4F76-A0F1-E0042068E7E5}" type="slidenum">
              <a:t>10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mperature Sens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 die temperature and throttle performance if it gets too h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pair of pnp bipolar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pnp available in CM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difference is proportional to absolute te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with on-chip A/D co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629400" y="2362320"/>
            <a:ext cx="1593720" cy="1228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477120" y="3886200"/>
            <a:ext cx="2060280" cy="96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914400" y="3429000"/>
          <a:ext cx="5486400" cy="134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548640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371AF-381D-4418-8A52-3224A3E5B16E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Distribu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Distribution Network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 current from pads to transistors on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stable voltage with low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verage and peak power de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current return paths for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electromigration &amp; self-heating wear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 little chip area and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lay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4A251-20B7-4BE2-A8E3-40FD4DA93005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Requireme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nomi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r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ro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+/- 10% o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s o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r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 dr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 di/dt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nges on many time 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438280" y="4114800"/>
          <a:ext cx="3873600" cy="198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4114800"/>
                    <a:ext cx="387360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41BCE-3D13-4E91-8640-698DC1E60679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R Dro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ip draws 24 W from a 1.2 V supply.  The power supply impedance is 5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What is the IR dro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4 W / 1.2 V = 20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 drop = (20 A)(5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100 m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2362320"/>
            <a:ext cx="44193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19320" y="2819520"/>
            <a:ext cx="46479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C69CB-42F7-431D-83B3-E1F2C0BEB24B}" type="slidenum">
              <a:t>14</a:t>
            </a:fld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 di/dt Nois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1.2 V chip switches from an idle mode consuming 5W to a full-power mode consuming 53 W.  The transition takes 10 clock cycles at 1 GHz.  The supply inductance is 0.1 nH. What is the L di/dt droo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= (53 W – 5 W)/(1.2 V) = 40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= 10 cycles * (1 ns / cycle) = 10 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 di/dt droop = (0.1 nH) * (40 A / 10 ns) = 0.4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3429000"/>
            <a:ext cx="6629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3886200"/>
            <a:ext cx="6629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4267080"/>
            <a:ext cx="6629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D0F59-D47B-4D21-9295-85B29B66620C}" type="slidenum">
              <a:t>15</a:t>
            </a:fld>
          </a:p>
        </p:txBody>
      </p:sp>
    </p:spTree>
  </p:cSld>
  <p:transition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ypass Capaci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low supply impedance at all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 capacitors have impedance decreasing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capacitors have parasitic R and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s to resonant frequency of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828800" y="3429000"/>
          <a:ext cx="5257800" cy="24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429000"/>
                    <a:ext cx="5257800" cy="24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356E1-84D5-4F0A-9EBE-DE375A8673D3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System Mode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comes from regulator on system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 and package add parasitic R and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pass capacitors help stabilize supply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capacitors also have parasitic R and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 system for time and frequency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62120" y="3772080"/>
          <a:ext cx="761976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772080"/>
                    <a:ext cx="761976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5A702-DABE-42E0-89C3-3D34CD2BA4F4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requency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capacitors in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capacitor near regulator has low impedance at low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lso has a low self-resonant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capacitors near chip and on chip have low impedance at high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caps to get low impedance at all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362320" y="4419720"/>
          <a:ext cx="4038480" cy="16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4419720"/>
                    <a:ext cx="4038480" cy="16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6A0AC-1302-485F-B400-B716C0A87C50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Pentium 4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supply impedance for Pentium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ke near 100 MHz caused by package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response to sudden supply current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op: on-chip bypass c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op: packag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op: board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90720" y="4132440"/>
            <a:ext cx="3124080" cy="1935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572000" y="4191120"/>
            <a:ext cx="3124080" cy="1753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336840" y="5824440"/>
            <a:ext cx="6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Xu08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33960" y="579132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Wong0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2B8AC-E6AC-4CFD-AE6E-92844E2938FF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6C0EA-3591-42A6-8E0D-F58F5DFB64B8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rge Pump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a different supply voltage is needed but little current is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V for Flash memory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body bias for leakage control during sl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the voltage on-chip with a charge pu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19320" y="4038480"/>
            <a:ext cx="3657600" cy="1081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715000" y="4267080"/>
            <a:ext cx="2057400" cy="86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ABB6A-AFD1-40CE-BE4B-285C519C8DD9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nergy Scaveng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ra-low power systems can scavenge their energy from the environment rather than needing batt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 calculator (solar ce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ID tags (anten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re pressure monitors powered by vibrational energy of tires (piezoelectric genera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 film microbatteries deposited on the chip can store energy for times of peak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07454-5B7C-47CB-A630-6B9CF60ABD82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ock Distribu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 small chip, the clock distribution network is just a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possibly an inverter for cl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practical chips, the RC delay of the wire resistance and gate load is very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tions in this delay cause clock to get to different elements at different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hips use repeaters to buffer the clock and equalize th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but doesn’t eliminate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B4FC3-97EB-4676-A3EC-43CB50F67B7A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 comes from differences in gate and wir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right buffer sizing, cl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l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uld ideally arrive at the sam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power supply noise changes buffer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l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always see RC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990720" y="3886200"/>
          <a:ext cx="6705360" cy="184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86200"/>
                    <a:ext cx="6705360" cy="18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12AA6-083B-470E-BEBE-9F82AE94E224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view: Skew Impac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62640" y="1523880"/>
          <a:ext cx="390204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62640" y="1523880"/>
                    <a:ext cx="390204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990720" y="4038480"/>
          <a:ext cx="2743200" cy="118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4038480"/>
                    <a:ext cx="274320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ly full cycle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fo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 adds sequ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hold time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D4AEC-1AE5-4A75-B568-ABA75081DF5C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lu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ful clock distribution network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nty of metal wiring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budget actual, not worst case sk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vs. global skew bu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lerate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circuit structures insensitive to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08549-4EE5-4315-9EC8-0F2E1BF8224E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ock Dist. Networ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 h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-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E5689-FF6E-4F42-9B86-D6E2EF7CD734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ock Gri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grid on two or more levels to carry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wires wide to reduce R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s low skew between nearby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possibly large skew across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7D62C-4CF5-4CA3-B4B8-19BCD18FFEE9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lpha Clock Gri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778040" y="1523880"/>
          <a:ext cx="55879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040" y="1523880"/>
                    <a:ext cx="55879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D7DD6-8D70-45D6-84B5-74FD4E4E3EB4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-Tre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ctal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s clock arbitrarily close to any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ed delay along all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variations cause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and B might see big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410080" y="2971800"/>
          <a:ext cx="281952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2971800"/>
                    <a:ext cx="281952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2562F-6FBE-4A5D-A152-4679703261FE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ck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e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connection of signals and power from chip to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tle delay or disto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 connection of chip to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s heat produced on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s chip from mechanical da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le with thermal expa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xpensive to manufacture and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724C3-7946-4429-9517-509674E482E8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tanium 2 H-Tre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levels of buffer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-le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 a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429000" y="2362320"/>
          <a:ext cx="5227560" cy="33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362320"/>
                    <a:ext cx="5227560" cy="33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CE6D3-DA92-4986-9251-73F70CF27C4B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ybrid Networ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H-tree to distribute clock to many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e these points together with a 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IBM Power4, Power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-tree drives 16-64 sector bu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s drive total of 1024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oints shorted together with 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883A0-EE51-49D6-9826-75BC4E7F0B7C}" type="slidenum">
              <a:t>31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ckage Typ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-hole vs. surface m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619760" cy="313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156F3-5AF2-414B-B1FE-7D5BBF424565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ip-to-Package Bon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, chip is surround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d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pads on 100 – 20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nd wi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tach pads to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ad fr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stributes signals in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eat sprea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elps with coo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438280" y="3733920"/>
            <a:ext cx="3200400" cy="232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FF649-1A3E-45AE-BD85-1A8FAC946B78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dvanced Pack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 wires contribute parasitic induc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cy packages have many signal, power 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tiny printed circuit bo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lip-ch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aces connections across surface of die rather than around periph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level metal pads covered with solder b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 flips upside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fully aligned to package (done blind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ed to melt b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rolled Collapse Chip Conne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A18C5-0033-4CEC-A6DA-2B233469AE95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ckage Parasit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2514600"/>
          <a:ext cx="7772400" cy="35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14600"/>
                    <a:ext cx="7772400" cy="35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any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ND in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ance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17E08-A22D-417D-87F8-C547DDFAEB71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eat Dissip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 W light bulb has surface area of 12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anium 2 die dissipates 130 W over 4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s have enormous power dens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ling is a serious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e spreads heat to larger surfac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sinks may increase surface area fur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s increase airflow rate over surfac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quid cooling used in extreme cases ($$$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90E82-09DF-4DF3-B179-78B0C69F7EB4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hermal Resis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temperature rise on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rmal resistance of chip junction to amb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: power dissipation on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mal resistances combine like re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es and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es comb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8A7B2-74D8-4074-86DD-13AC3B2F2D4D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4-19T17:43:32Z</dcterms:modified>
  <cp:revision>2098</cp:revision>
  <dc:subject/>
  <dc:title>PowerPoint Presentation</dc:title>
</cp:coreProperties>
</file>