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0501-2735-46DC-ABB0-AFC1EEBD5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629CD-D94C-4B4E-BDEF-85C56D725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A0703-9766-4AD3-9858-DB75C5B0F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64F39-D69D-4CFB-8512-5575F08E8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7B306-A4D7-48CB-AA24-70436BF683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7461-35DD-4966-B210-035B8CDF9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579B-C7EE-4EBF-9F3A-B5FC6DDFC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97AAF-FC23-4B2D-A831-2D239089C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19470-9232-446F-92E1-2E7D1BFEF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30273-2664-4812-AD82-9FF829547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0CD32-1C25-4CA7-885C-E7B20583E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7585A-6A23-4CA8-875B-A39673BFA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CEA6-9970-4639-B57E-3081106AD1A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ing, Power, &amp; Clo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74D91-D0F3-4F3C-9A10-7BBA5884A70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ip has a heat sink with a thermal resistance to the package of 4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from chip to package i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box ambient temperature may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temperature must not exceed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ximum chip power dissip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0-55 C) / (4 + 1 C/W) = 9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4952880"/>
            <a:ext cx="4419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12E36-4281-4234-995C-BA6C6C4B76B1}" type="slidenum">
              <a:t>10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mperature Sen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die temperature and throttle performance if it gets too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air of pnp 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np available in C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ifference is proportional to absolute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with on-chip A/D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629400" y="2362320"/>
            <a:ext cx="1593720" cy="1228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060280" cy="9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914400" y="3429000"/>
          <a:ext cx="54864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54864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7262B-67C7-4F9C-B9D0-DF19AFA881A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 Network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current from pads to transistors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ble voltage with 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verage and peak power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urrent return paths for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electromigration &amp; self-heating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 little chip area and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la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EB67-0A37-4B9F-A6B9-5DB1FCBB7A8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Requir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no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+/- 10%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 many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38280" y="4114800"/>
          <a:ext cx="387360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87360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3702-C26E-40EA-9DD9-8DA87348AFBF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R Dr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ip draws 24 W from a 1.2 V supply.  The power supply impedance is 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What is the IR dr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4 W / 1.2 V = 2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 = (20 A)(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00 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362320"/>
            <a:ext cx="4419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819520"/>
            <a:ext cx="4647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3E5B5-EED6-4E01-BC85-3D4B1601959B}" type="slidenum">
              <a:t>14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 di/dt Noi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.2 V chip switches from an idle mode consuming 5W to a full-power mode consuming 53 W.  The transition takes 10 clock cycles at 1 GHz.  The supply inductance is 0.1 nH. What is the L di/dt dr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(53 W – 5 W)/(1.2 V) = 4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10 cycles * (1 ns / cycle) = 1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droop = (0.1 nH) * (40 A / 10 ns) =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4290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8862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26708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DF1A9-930F-4523-97B8-9EF644996E36}" type="slidenum">
              <a:t>15</a:t>
            </a:fld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ypass Capaci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low supply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capacitors have impedance decreasing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capacitors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resonant frequency of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28800" y="3429000"/>
          <a:ext cx="52578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52578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28B5A-BAEF-49A9-B1D5-AC744FE8D10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ystem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comes from regulator on system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nd package add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capacitors help stabilize 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pacitors also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system for time and frequency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3772080"/>
          <a:ext cx="761976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72080"/>
                    <a:ext cx="76197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5684-0FD5-4AFF-96C3-B7039D6D117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requency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apacitors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apacitor near regulator has low impedance at low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has a low self-resonant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apacitors near chip and on chip have low impedance at high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aps to get low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2320" y="4419720"/>
          <a:ext cx="4038480" cy="16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419720"/>
                    <a:ext cx="4038480" cy="16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79C96-9064-47E2-A423-E2D6A1253EC3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Pentium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impedance for Pentium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ke near 100 MHz caused by package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response to sudden supply curren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on-chip bypass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packag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boar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4132440"/>
            <a:ext cx="3124080" cy="193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4191120"/>
            <a:ext cx="3124080" cy="1753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36840" y="582444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Xu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3960" y="579132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Wong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AE57D-8DE4-41ED-B57C-33156E4FBF7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B6C47-1AA1-4890-9607-A1EDA3964B6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e Pum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a different supply voltage is needed but little current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V for Flash memory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ody bias for leakage control during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the voltage on-chip with a charge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3657600" cy="1081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2057400" cy="8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387D1-4BFA-4CAC-822C-31E3AB9155D9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Scaven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-low power systems can scavenge their energy from the environment rather than need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calculator (solar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ID tags (anten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 pressure monitors powered by vibrational energy of tires (piezoelectric gener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film microbatteries deposited on the chip can store energy for times of peak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CEBC4-5524-4638-8E43-E7A389CC0E0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small chip, the clock distribution network is just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sibly an inverter for cl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ractical chips, the RC delay of the wire resistance and gate load is ver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this delay cause clock to get to different elements at differen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hips use repeaters to buffer the clock and equalize th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but doesn’t eliminat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38581-F317-4CB1-97C2-BA97C55A1157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comes from differences in gate and wi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ight buffer sizing,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ideally arrive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wer supply noise changes buff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always see RC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90720" y="3886200"/>
          <a:ext cx="6705360" cy="18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670536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D15F9-86B7-4572-848F-CD0674BD66C6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: Skew Impa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990720" y="403848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03848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full cycl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adds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hold time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73F1B-BA9C-46F0-BFAD-B0FE87E9858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clock distribution network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nty of metal wir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udget actual, not worst case sk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vs. global skew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t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ircuit structures insensitive to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A49F-C313-4CB6-833B-E7FD72A8A8A2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.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E8643-DBD8-4C7D-9611-5D7594795993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id on two or more levels to carry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wires wide to reduc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low skew between nearb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ssibly large skew acros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48EE1-0A45-4658-992C-E80330B15E79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pha 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78040" y="1523880"/>
          <a:ext cx="5587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523880"/>
                    <a:ext cx="5587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B9BA7-10DB-4C08-9325-79E1EC93EAC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-Tre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s clock arbitrarily close to any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d delay along all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variations caus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might see big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10080" y="2971800"/>
          <a:ext cx="28195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971800"/>
                    <a:ext cx="2819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DA98F-5E11-4FAC-9473-BECE2AF94CA1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connection of signals and power from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elay or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connection of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heat produced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chip from mechanic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le with thermal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 to manufacture an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2E33A-35AF-495E-9939-DC4420D8EA47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anium 2 H-Tre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levels of buff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-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429000" y="2362320"/>
          <a:ext cx="5227560" cy="33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5227560" cy="33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35046-E174-41EB-AFB0-4142E1EDD718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ybrid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-tree to distribute clock to man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 these points together with a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BM Power4, Powe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 drives 16-64 secto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s drive total of 1024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ints shorted together with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24AB8-B6BC-44A4-AF41-968554168189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e vs. surface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1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65684-6E17-4A7E-BA2F-C7A5B3F6479F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ip-to-Package Bon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, chip is surround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pads on 100 – 2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nd w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ach pads to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 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s signals i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t spr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with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3200400" cy="23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440EA-4686-4028-860E-AF9FC3752F85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wires contribute parasitic i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cy packages have many signal, power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iny printed circuit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ip-c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s connections across surface of die rather than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level metal pads covered with solder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flips upsid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aligned to package (done blin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to melt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rolled Collapse Chip Conn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18F9-952D-4FBD-B82A-1B34C32F26BC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Parasi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2514600"/>
          <a:ext cx="777240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anc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FD7E1-CA8A-48C8-8E4B-A9813F4D72D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eat Dissip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W light bulb has surface area of 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nium 2 die dissipates 130 W over 4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have enormous pow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 is a serious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spreads heat to larg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s may increase surface area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s increase airflow rate ov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cooling used in extreme cases ($$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C8156-86D4-4870-8BB3-C218768FB08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rmal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temperature rise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mal resistance of chip junction to amb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power dissipation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resistances combine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and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F381C-E926-4937-818F-CD7DEDB8BC5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9T17:43:32Z</dcterms:modified>
  <cp:revision>2098</cp:revision>
  <dc:subject/>
  <dc:title>PowerPoint Presentation</dc:title>
</cp:coreProperties>
</file>