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3.wmf" ContentType="image/x-wmf"/>
  <Override PartName="/ppt/media/image30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42.wmf" ContentType="image/x-wmf"/>
  <Override PartName="/ppt/media/image28.png" ContentType="image/png"/>
  <Override PartName="/ppt/media/image31.wmf" ContentType="image/x-wmf"/>
  <Override PartName="/ppt/media/image11.png" ContentType="image/png"/>
  <Override PartName="/ppt/media/image43.wmf" ContentType="image/x-wmf"/>
  <Override PartName="/ppt/media/image44.wmf" ContentType="image/x-wmf"/>
  <Override PartName="/ppt/media/image1.png" ContentType="image/png"/>
  <Override PartName="/ppt/media/image45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0DAC1-19BA-49DF-9FFF-696243882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0CF22-4A23-4E93-8206-CDAC3358B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5F2F4-F68A-449E-98F1-0AD9208FE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F98C-56EB-414B-A6B9-95D2249AC8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7FBB0-B99B-4D4A-ACE1-0873B815DE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4C42B-4D8B-4296-AD53-1DE1F8CEF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B3AB2-534C-4201-A9E3-6005A8036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B670-3CAA-46C4-A0EA-24C07D272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94DD3-37B8-49F4-B36B-552C0B755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1CDFA-6CFB-4B12-A566-A4B82A7E7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920AC-16A6-4380-B68E-264C62524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6BB9F-6528-438A-8FA9-F524A4EDD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F6E8-C91F-4EAA-8DB4-9B2CA5708E9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0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s, ROM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087C4-615D-498E-8D0D-170F78C9D08C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te RO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83348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333760" cy="463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A92A2-0E20-4DD4-A8E7-31887664923A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Ms and EP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rray with transistors at every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 out fuses to disable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oating gate to turn off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ROM, EEPROM,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14600" y="4114800"/>
          <a:ext cx="403848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4114800"/>
                    <a:ext cx="403848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71BA9-B231-4369-A7C8-A1561263D843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lash Program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on floating gate determin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1: nega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0: posi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erased to 1 by applying a high body voltage so that electrons tunnel off floating gate into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d to 0 by applying high gate volt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00200" y="4370400"/>
            <a:ext cx="5715000" cy="143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D3B23-5AE4-4B1F-81BA-0042BE645AA0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ND Flas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ensity, low cost /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d one page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sed one block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96-bi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pages / 8 KB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locks /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51460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D903C-007F-48DD-9D96-1C49AC724624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4 Gb NAND Flas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K cells /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its / cell (multipl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cells /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 pages /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K blocks /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416400" cy="3962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02360" y="56689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Trinh0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1BF14-BCE5-4E89-991C-86124DA698F8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ding Logic with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OM as lookup table containing truth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 requir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ds x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function is easy – reprogram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, s bits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+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x 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OM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4038480"/>
          <a:ext cx="222552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38480"/>
                    <a:ext cx="222552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43400" y="4495680"/>
          <a:ext cx="297180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495680"/>
                    <a:ext cx="29718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334120" y="19810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1981080"/>
            <a:ext cx="3049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373392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373392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386BA-0830-41CE-A484-147DBDDBE7C1}" type="slidenum">
              <a:t>15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build an 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ns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tenn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,R) – 1 when in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ctuat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step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 degree turns TL, 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our ant smart enough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out of a ma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rateg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ep right antenna on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oboAnt adapted from MIT 6.004 2002 OpenCourseWare by Ward and Ter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990360" cy="112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638680" y="3581280"/>
            <a:ext cx="2065320" cy="2041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45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36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B39B-494B-4387-B789-D5667150109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st in sp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go forward until we hit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1393920" cy="12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199728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F7F0C-F4E5-443D-A8AE-59221412FD86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nk!!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turn left (rotate counterclockw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we don’t touch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334120" cy="1349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3063960" cy="191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573CA-F512-4695-830C-686BB7A5C73C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little to the righ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forward and turn right a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for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1152360" cy="1463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3048120" cy="22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A4516-827E-42ED-9F41-C052F1A8F0F0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-Addressable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Logic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3BE71-2B74-40E2-9EFD-0E83108EAB3B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n a little to the lef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left a little, until not tou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1006560" cy="1515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4114800" cy="23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201B3-54CF-497C-8140-16D26771081E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oops – a corner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right until hitting next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457520" cy="165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4038480" cy="23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8E5D8-6A29-4B3F-A7B9-E4B66BBC37A6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equivalent states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3429000" cy="2036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429000" cy="2417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114800" y="3505320"/>
            <a:ext cx="6094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A3C9D-7C8D-4ACB-8F38-ABC05A6D35E5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e Transition T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981080" y="1752480"/>
          <a:ext cx="5029200" cy="4095720"/>
        </p:xfrm>
        <a:graphic>
          <a:graphicData uri="http://schemas.openxmlformats.org/drawingml/2006/table">
            <a:tbl>
              <a:tblPr/>
              <a:tblGrid>
                <a:gridCol w="719280"/>
                <a:gridCol w="717480"/>
                <a:gridCol w="719280"/>
                <a:gridCol w="717480"/>
                <a:gridCol w="719280"/>
                <a:gridCol w="717480"/>
                <a:gridCol w="71892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 flipH="1">
            <a:off x="1676160" y="21337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590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76160" y="32004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36576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676160" y="4876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53341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676160" y="419112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4419720"/>
            <a:ext cx="228600" cy="304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9880" y="23623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6400" y="34290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C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9040" y="41911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9040" y="51055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82222-29F0-4A8C-83F2-43A4589A842A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F9504-9726-4B2B-A90A-E6F3B2E55FC2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9815B-E98F-4D36-AE47-B41AAB7D028C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grammable Logic 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forms any function in sum-of-products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puts &amp;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ts / Minte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D of lit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R of Min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63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90720" y="4648320"/>
          <a:ext cx="396216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648320"/>
                    <a:ext cx="3962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257800" y="3048120"/>
          <a:ext cx="3137040" cy="30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048120"/>
                    <a:ext cx="31370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27882-7E8A-448A-B1AA-69D3ADD9489A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R-NOR 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s and ORs are not very efficient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or Pseudo-nMOS NORs are very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eMorgan’s Law to convert to all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66680" y="2895480"/>
          <a:ext cx="295596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295596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648320" y="2895480"/>
          <a:ext cx="3070080" cy="308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895480"/>
                    <a:ext cx="30700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149C9-FC56-4F2C-8C19-1E66DF8514B0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 Schematic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85800" y="1676520"/>
          <a:ext cx="41353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1353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55932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105520" y="1600200"/>
          <a:ext cx="3268440" cy="44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600200"/>
                    <a:ext cx="3268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44984-0C82-47E3-AE3A-5615925C9304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 vs.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 plane of the PLA is like the ROM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D plane of the PLA is like the ROM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 are more flexible than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hav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ws for n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generate the minterms that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dvantage of logic si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536C1-D531-4787-AE9E-66F038DF0A5A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of ordinary memory (e.g.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memory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ee which words contain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828800" y="3048120"/>
          <a:ext cx="51055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48120"/>
                    <a:ext cx="51055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3AD67-0E4B-4B47-8C55-936EFAEF4310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 PL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state transition table to log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62120" y="1905120"/>
          <a:ext cx="4572000" cy="4095720"/>
        </p:xfrm>
        <a:graphic>
          <a:graphicData uri="http://schemas.openxmlformats.org/drawingml/2006/table">
            <a:tbl>
              <a:tblPr/>
              <a:tblGrid>
                <a:gridCol w="653760"/>
                <a:gridCol w="652680"/>
                <a:gridCol w="654120"/>
                <a:gridCol w="650880"/>
                <a:gridCol w="653760"/>
                <a:gridCol w="652680"/>
                <a:gridCol w="65412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1828800" cy="1468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1752480" cy="14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5943600" y="5181480"/>
          <a:ext cx="898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5181480"/>
                    <a:ext cx="898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9DC6A-9815-48B7-903B-9797861AB692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boAnt 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762120" y="2286000"/>
          <a:ext cx="1844640" cy="156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286000"/>
                    <a:ext cx="18446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4FEEF-5B38-4374-B046-C5441238176A}" type="slidenum">
              <a:t>31</a:t>
            </a:fld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0T C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four match transistors to 6T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 x 4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2743200"/>
          <a:ext cx="28670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28670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191120" y="2819520"/>
          <a:ext cx="3733560" cy="28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819520"/>
                    <a:ext cx="373356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5BB2F-956D-4934-B2AD-24D8FB006E9C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 Cell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like ordinary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tc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wordline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match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key on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lines 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NOR of match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es high if no words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1905120"/>
          <a:ext cx="3886200" cy="26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05120"/>
                    <a:ext cx="388620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40738-EF21-46BF-8647-79A8F122307A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d-Only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 are nonvol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their contents when power is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-programmed ROMs use one transistor per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or absence determines 1 o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CFDD3-B55D-40E9-A73A-ADE5D695BAA0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word x 6-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ed with dot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s indicate 1’s in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160020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0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1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2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3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90720" y="2819520"/>
          <a:ext cx="43434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43434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486400" y="3657600"/>
          <a:ext cx="2743200" cy="19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657600"/>
                    <a:ext cx="27432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071360" y="571500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s like 6 4-input pseudo-nMOS N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97492-FADE-4CC6-BE94-0388B9B75147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Array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cell is 12 x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1/10 size of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447920" y="2286000"/>
          <a:ext cx="579096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579096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439C1-3DA2-4CA3-BDD6-D398FE06B106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w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 row decoders must pitch-match with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 single track per wor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700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6933960" cy="36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1ABFD-6462-4835-9CB8-B3DA932CBD6E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7T03:36:16Z</dcterms:modified>
  <cp:revision>1567</cp:revision>
  <dc:subject/>
  <dc:title>PowerPoint Presentation</dc:title>
</cp:coreProperties>
</file>