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1.png" ContentType="image/png"/>
  <Override PartName="/ppt/media/image45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E23CD-9F19-47AE-8787-37D00A6D9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99CA9-E06E-4594-A916-75119DBAE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38D66-EB0B-49E8-B4FB-C468619B7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FEF2D-2943-4107-819A-5E667E58E4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A45C-9587-483E-BEB9-A20F9D0C33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A8D86-32C3-4AED-AF1C-52738B041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54AF3-9E16-4FD5-8DBE-A84AB48BF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16190-A282-4E9D-88FF-DEB027D32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2B01-0B25-4514-82CF-DDD64DB82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EE405-2E43-4A9E-B681-3254722BC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09F3-FA9B-49D2-80F8-A1A28AC480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B5A5-E1A2-4F09-947F-207DA1F7A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857C-5157-4EDE-8FCB-D5CEB37BD2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, ROM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75492-087F-4A1E-A301-2CF0C62898E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3B1E-226B-4BD4-ACF6-E321DC5CF50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3AA8-7B5A-4728-B162-9C682751D94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on floating gate determin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1: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0: posi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erased to 1 by applying a high body voltage so that electrons tunnel off floating gat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to 0 by applying high gate vol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4370400"/>
            <a:ext cx="571500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A9AB0-75E3-4F44-8FE1-526920E8CC8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, low cost /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ed one block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6-bi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pages / 8 KB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cks /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51460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D845-A6C6-4614-A599-9C8E0EC8A06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4 Gb 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cells /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ts / cell (multip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cells /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pages /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K blocks /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1640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02360" y="5668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6DD5-C757-44E5-B405-3912EDDE030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19810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3891-2442-4660-B80D-B5CEDF0AA8E0}" type="slidenum">
              <a:t>1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62AA-A9B4-4CE7-A9A2-8B1CE3B852E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78001-B34B-46BD-AC0E-411F8E99B6E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’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1CFE-BBA0-4F35-9466-036420DC044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0459-7F26-49FB-9933-67B5094A6B50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1506-71A7-4331-ADDF-9E0D4D8B4BF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27AC-149D-469F-9DDF-F085EBEA888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900C-3BFF-40B8-958E-7A9ECC12696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03238-1DDB-4BC1-B9BC-67E29C47CF4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1212-C8D7-4261-B41D-B49960DDA30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205B4-4878-4723-93DA-8AB96D2E309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88F7-B06E-4A3B-8D2B-19D745B31B8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B8C6-A4D0-4734-8E74-54D5D9DD91D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’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34F53-EFB4-4E2A-B519-9FFF56EAF63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EE59-C9B5-43C4-BA4B-F2799E9919E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C15F5-8F23-440F-89F4-03263EB4EE9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DDA47-CBA2-4818-B2D1-F2E9CF25F0F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1905120"/>
          <a:ext cx="4572000" cy="4095720"/>
        </p:xfrm>
        <a:graphic>
          <a:graphicData uri="http://schemas.openxmlformats.org/drawingml/2006/table">
            <a:tbl>
              <a:tblPr/>
              <a:tblGrid>
                <a:gridCol w="653760"/>
                <a:gridCol w="652680"/>
                <a:gridCol w="654120"/>
                <a:gridCol w="650880"/>
                <a:gridCol w="653760"/>
                <a:gridCol w="652680"/>
                <a:gridCol w="6541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5FAD0-30C1-41C6-8B94-33FC43E7C24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3693-D2BD-4158-80DD-B6B2216BAC27}" type="slidenum">
              <a:t>31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57BC6-2ACC-49A9-9DB3-8A38B4FC02E6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B7A51-73F9-40F1-AB83-C2B3DDFBE7C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B752-C2F9-4577-948C-3CC1571A73F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’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449A-249A-4B85-B3E7-A9E16C36D20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7C156-B744-41EC-8F28-CC7FCF31739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1B54-57C1-4D99-9F7C-C3DCC8D58E1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7T03:36:16Z</dcterms:modified>
  <cp:revision>1567</cp:revision>
  <dc:subject/>
  <dc:title>PowerPoint Presentation</dc:title>
</cp:coreProperties>
</file>