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10.png" ContentType="image/png"/>
  <Override PartName="/ppt/media/image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800F-ED68-4C3F-9C0F-E8C313B19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9A74-BEF0-459A-A0FD-131B374AE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3D89-E994-4323-86DE-59F21E616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264C-BF93-43B5-959E-939889D05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EBE9-1DFC-4228-B232-5512FA342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A5D2-9853-420E-B259-324573D03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E191-147B-4A2E-B2A9-D65D02955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961D-6C3E-40DC-A20A-7DECA10A6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9811-DB41-480A-8A24-7525D7C93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D0D5-CE71-420F-939C-EA7BDF5A2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497B-6445-47B2-B73E-863CA0734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4393-F311-4E37-8A42-5BF8EDEC3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92BD-5155-4E16-B99F-BBD80D3498E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995D-427C-4712-B0E4-9B8EB0859BD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EB5D-4338-46A1-B218-74E7B2C440D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C2DE-1C6B-4214-99A7-ECB914BEF62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4157-34FE-4774-A985-AF2303AC56C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BECB-D713-45ED-B49A-74746B9EB9F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3EFC-E3EE-47AF-BFD2-123B125B1AD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0E11-FF30-4D57-BB2E-E10C0B4C040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51ED-1DE1-48E6-96B4-19C0C272DE9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F348-BB28-4562-A3D8-227A78C6F9B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E936-042E-4E66-B085-F7124254182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F30B-67FC-4ADE-AB42-D4612352BBD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1CA04-24C2-487C-8AD8-468442951CB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ED0B-DA0A-4C0A-877B-AD09C453A62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4DC3-23ED-478F-9261-B5F9276A68F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03CC-E22E-4A66-8345-1D4294E8A03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9067-AF21-4F39-9BCD-12040A9FD39F}" type="slidenum">
              <a:t>2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C09E-03C9-4CE4-AA8E-5C1FEE2964E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9D51-7D3C-455F-ACAF-78D88C91F2A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A4AF-626D-428C-AE6C-B58C104FC02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0D4F-A177-4C73-8242-99EC00F491F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5908F-F4FB-4FDA-817A-2CFECDFDCF5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489E-B50A-4A44-9675-5CB053EC603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FCE0-6412-4400-B731-2FA6CE0A028D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084920" cy="4496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D7E0-4DA0-451F-886E-AA1EDD34815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273F-133E-436A-BEAE-C9150ADAC7B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644C-3C70-40C0-90CD-90EDE4B0CD1F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02E3-AD97-432B-9867-881A8C1FB579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F6A5-15B7-400F-BEE7-6EC2A0180B6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2CB2-5495-4D32-9330-E65341C1BD3A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EFEC-37CE-4FFE-9AC2-5D0A052F350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C290-88EE-4669-9281-7CD6AA37A7D7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5390-03C7-455E-8B28-41B8C2DA1817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2950-90E1-4D91-BBF6-728EDD286CA7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B99B-9C7D-447A-B512-588C0AE84233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B340-7816-4216-AF65-DB536013EC98}" type="slidenum">
              <a:t>40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9318-3928-4D14-AD75-72598B67958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15F6-6718-4942-9DB6-3E2A36BBDC8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2789-3408-4594-9C42-22C823E97C3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9C77-6E06-4572-AE30-C86CD19D937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6482-5CE3-4129-A095-D620B737EFF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15:55Z</dcterms:modified>
  <cp:revision>475</cp:revision>
  <dc:subject/>
  <dc:title>PowerPoint Presentation</dc:title>
</cp:coreProperties>
</file>