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15.wmf" ContentType="image/x-wmf"/>
  <Override PartName="/ppt/media/image7.png" ContentType="image/png"/>
  <Override PartName="/ppt/media/image6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30.jpeg" ContentType="image/jpeg"/>
  <Override PartName="/ppt/media/image10.png" ContentType="image/png"/>
  <Override PartName="/ppt/media/image5.png" ContentType="image/png"/>
  <Override PartName="/ppt/media/image3.wmf" ContentType="image/x-wmf"/>
  <Override PartName="/ppt/media/image26.wmf" ContentType="image/x-wmf"/>
  <Override PartName="/ppt/media/image1.png" ContentType="image/png"/>
  <Override PartName="/ppt/media/image14.wmf" ContentType="image/x-wmf"/>
  <Override PartName="/ppt/media/image29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22.wmf" ContentType="image/x-wmf"/>
  <Override PartName="/ppt/media/image28.jpeg" ContentType="image/jpeg"/>
  <Override PartName="/ppt/media/image23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4447A-F58B-4E9B-83E5-4A9D08817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732F7-9E9D-4793-87F4-63D5E37A6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DCAAF-85E2-45C3-8EBC-7651A6A9C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8CEBB-8D8B-47F0-8ECA-131F03DCEC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F1621-6EAB-49F4-BAAE-E1EB500623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3B128-92D1-4BE8-BC2D-D055DF582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2742-A7CB-4DDA-ADB4-E53CC9DBC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B0675-D454-462E-8C92-302803752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9439B-0C98-4F80-B898-597F677EE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33AF-1C82-4356-AB4C-CFDC05A7B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9F207-8925-4B34-8B4D-990FBCE45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64DE-C6B9-41BA-8F04-64970B95B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0C3B-95BA-44F4-A88A-26931A091DE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o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8FC8F-E936-4A3C-992D-A34846EFA867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instruction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four cycles to fetch on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383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762120" y="2819520"/>
          <a:ext cx="7619760" cy="22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19520"/>
                    <a:ext cx="7619760" cy="22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BE996-9990-4E26-8C65-C788B12B0D14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C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1, 1, 2, 3, 5, 8, 1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543800" cy="32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EEFBA-6AED-4CEB-9FF9-5F149D1F2B70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Assembl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n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assemb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772400" cy="34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83657-BEEE-47C0-84B4-C421A5DB2213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addi $3, $0,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machine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: use instruction encodings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4038480"/>
          <a:ext cx="55627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38480"/>
                    <a:ext cx="55627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742B9-28A1-46EB-B7BA-17BEDFDD7CF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anguag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96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8BF0-0D0A-4E3D-BE37-5BF04DD186A9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Micro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( [Paterson04], [Harris07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7848720" cy="382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0AE87-0C21-4D0E-8217-F47CEF905070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cycle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1833480" y="87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57400" y="1523880"/>
          <a:ext cx="4800600" cy="448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00600" cy="44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2A5E3-FD9F-423E-988B-AED6C8A933F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op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ly decompose MIPS into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-lev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5572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3124080"/>
          <a:ext cx="754380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54380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3C7EB-7EE1-4F06-9E73-9137BC674C19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230508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324480" cy="444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50C4B-F3ED-401D-A131-66F9FEAC580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erarch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62040" y="1523880"/>
          <a:ext cx="6018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523880"/>
                    <a:ext cx="6018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2C449-A646-4E41-85B5-513F4266CE86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Process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, Packaging,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5E9D9-2C9C-43F8-9DB2-71D449C13E0C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D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and 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ardware usin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log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logic before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code into gates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18485-8116-4309-A61D-B793FF049B41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rilo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ullad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1(a, b, c, 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1(a, b, c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3064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943600" y="1676520"/>
          <a:ext cx="2682720" cy="15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76520"/>
                    <a:ext cx="268272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220D7-CA9C-4344-98AA-428038511E4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logic be implem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nd NORs vs. ANDs and 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-in and fan-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ransistors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hoices affect speed, area,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ynthesis makes these choices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nough for man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-crafted circuits are still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06039-35D1-4193-A7F7-1F112D830510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Carry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2362320"/>
          <a:ext cx="3200400" cy="23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3200400" cy="23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20968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?  Gate Del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267080" y="2819520"/>
          <a:ext cx="4343400" cy="18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819520"/>
                    <a:ext cx="434340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07F67-AAFE-4023-8FA4-0AFEF0B56D06}" type="slidenum">
              <a:t>23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6002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, y,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1(x, a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2(y, a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3(z, b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g4(cout, x, y, 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5791320" y="2362320"/>
          <a:ext cx="2743200" cy="20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362320"/>
                    <a:ext cx="274320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7C47B-1BDD-40EA-AC4C-8319FBC73654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800600" y="3048120"/>
          <a:ext cx="3809880" cy="16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48120"/>
                    <a:ext cx="3809880" cy="16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85800" y="1523880"/>
            <a:ext cx="5715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1, i2, i3, i4, c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1(i1, 0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2(i1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3(cn, i1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4(i2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5(cn, i2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1(i3, 1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2(i3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3(cn, i3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4(i4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5(cn, i4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6(cout, 0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6(cout, 1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3B23-61EE-4A25-BE67-42A139D136A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CK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ARRY A B C COUT VDD 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1 I1 A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2 I1 B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3 CN C I1 GND NMOS W=1U L=0.18U AD=0.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4 I2 B GND GND NMOS W=1U L=0.18U AD=0.1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5 CN A I2 GND NMOS W=1U L=0.18U AD=0.5P AS=0.1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1 I3 A VDD VDD PMOS W=2U L=0.18U AD=0.6P AS=1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2 I3 B VDD VDD PMOS W=2U L=0.18U AD=0.6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3 CN C I3 VDD P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4 I4 B VDD VDD PMOS W=2U L=0.18U AD=0.3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5 CN A I4 VDD PMOS W=2U L=0.18U AD=1P AS=0.3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6 COUT CN GND GND N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6 COUT CN VDD VDD PMOS W=4U L=0.18U AD=2P AS=2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1 I1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3 I3 GND 3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 A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B B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 C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N CN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OUT COUT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666CD-AC36-45AE-A0D2-088E9B30F030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FDBE1-B07F-4390-8527-D505C809895E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Floorpl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11560" y="1546200"/>
            <a:ext cx="45194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98E7E-602F-421A-A397-68081E372AF9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646880" cy="464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899A-F4A6-4DBC-A27B-D2B8B596516B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stick diagram for a 4-input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92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76520" y="2057400"/>
          <a:ext cx="624816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624816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752480" y="2057400"/>
            <a:ext cx="52578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4656A-5FFE-4F14-B6EE-09BE8EC35770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084920" cy="4496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c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w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2 Access to I/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/ substrate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A719-FEA0-452B-BBBD-3918F6C049EF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nthesized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HDL into gate-level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 using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4EF3-53AE-430F-9E93-A4B95E199ACE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itch Matc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d controller area is mostl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is smaller if wires run through/ov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= faster, lower power as we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nap-together cells for datapaths and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wires into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by abu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lots of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530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105520" y="3352680"/>
          <a:ext cx="304776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352680"/>
                    <a:ext cx="304776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A4F04-564B-46BA-B175-0AAA4644C11F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Data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datapath built from 8 bitslices (regula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per at top drives control signals to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162560" cy="36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C7875-2C68-45CF-B0E5-5E681D92A6A7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lice Pla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 for bits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ordering, dimensions,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cells for wiring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238880" cy="316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8F571-2ACD-40BA-B7E2-3FEC18129DE3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rea estimates to make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another block you already 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from transistor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room for large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mileage may vary; derate by 2x for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71600" y="3699000"/>
            <a:ext cx="6248520" cy="239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7B69D-D9E3-4EDF-9053-09C2F2C37542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is slow &amp;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IS 0.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$1000,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nm: $3M, 1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ging chips is ver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visibility into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design is right before build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kt. simulation / formal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vs. schematic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&amp; electrical rul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is &gt; 50% of effort on most chi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324480" y="1676520"/>
          <a:ext cx="231624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676520"/>
                    <a:ext cx="23162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58BE9-4849-448A-8022-7FB8C79BCED5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057400" y="4495680"/>
            <a:ext cx="4495680" cy="1424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 flipV="1">
            <a:off x="4114800" y="1600200"/>
            <a:ext cx="1066680" cy="3276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419720" y="3809520"/>
            <a:ext cx="3733560" cy="1295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&amp; Packag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out final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 8, 12” wa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for throughpu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latency (10 week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into individual 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d gold wires from die I/O pads to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A683E-DFA3-490E-9533-1EAD9BDEAE71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at chip ope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dust particle or wafer defect kills a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s from 90% to &lt;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ie size, maturity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ach part before shipping to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6327-654D-4491-B599-22A2056102B1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stom vs. Synthe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5800" y="2062080"/>
            <a:ext cx="4038480" cy="4033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44880" y="2133720"/>
            <a:ext cx="3689640" cy="36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39747-0726-4AC5-B2FE-573B85ADF31B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ping with Complex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esign System-on-Ch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illions (even billions!)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 to hundreds of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B6D8E-76F4-4189-93B4-5A1213E24C90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PS R3000 Proces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ommercial processor (19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by John Hennessy (Stanford, MIPS Fou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64 KB C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K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2-4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 I/O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Wa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I Work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114800" y="2514600"/>
            <a:ext cx="3733920" cy="32576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258440" y="5791320"/>
            <a:ext cx="340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gecko54000.free.fr/?documentations=1988_MIPS_R3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F082B-7131-40D1-A873-A299DC6D157E}" type="slidenum">
              <a:t>40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uctured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vide and Con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ly system into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modules wher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ell-forme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odules to be treated as black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nd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4669E-BD8A-4AC4-9EAC-7627BCB9468A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Part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r’s perspective, what does it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set,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, x86, Alpha, PIC, ARM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ycle, multcycle, pipelined, supersca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are functional blocks constr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 carry, carry lookahead, carry selec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how are transistor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, pass transistors,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ip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, memories, rando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8E7EC-EFCE-4DE3-9392-C5B80A6AEA41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jski Y-Cha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3116160" y="20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057400" y="1447920"/>
          <a:ext cx="487692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48769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E38E2-F8D7-441E-90B8-7E898B2BB2A2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ubset of MIPS processo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n from Patterson &amp; Henne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is a 32-bit architecture with 32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8-bit subset using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lement 8 registers ($0 - $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hardwired to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program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ll build this processor in the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the key concepts in VLSI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64239-1B14-4BE7-8948-397AACDBEA6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812960"/>
            <a:ext cx="7848720" cy="39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B2C3B-5755-4418-910E-56EF936D1BDB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15:55Z</dcterms:modified>
  <cp:revision>475</cp:revision>
  <dc:subject/>
  <dc:title>PowerPoint Presentation</dc:title>
</cp:coreProperties>
</file>