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3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.jpeg" ContentType="image/jpeg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png" ContentType="image/png"/>
  <Override PartName="/ppt/media/image16.wmf" ContentType="image/x-wmf"/>
  <Override PartName="/ppt/media/image17.wmf" ContentType="image/x-wmf"/>
  <Override PartName="/ppt/media/image19.wmf" ContentType="image/x-wmf"/>
  <Override PartName="/ppt/media/image21.wmf" ContentType="image/x-wmf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708C8-2AC1-414B-90F2-0BAB6C1AEB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AAB05-800B-4159-B28A-0EB5D146F4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0BDE2-9BF2-4343-BFDE-92350DE900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DF9BB-A351-4A10-A939-8EE12B8D7C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74A02-0F52-4F14-AE8F-6161849437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959D9-716C-4B4A-8C72-D7AAC5915F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5C385-FCBF-4B98-B76A-DDFC21E5BD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8CA4C-7892-4EF7-8016-93A872E038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7EA08-160E-4415-9A84-B7CD9614C5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4797A-88DD-40E8-9CAE-94E4B4B25B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6474B-77AD-48F0-AD84-7F0116B06C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C6655-FF89-491E-8A0B-9842EB4F76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1FAEA-3984-4FE9-B43E-B5243BC8273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8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atapat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unctiona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Uni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66E28-6971-4EEA-B58A-74EED13BF56E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unnel Source Generat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772400" cy="25891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62120" y="2133720"/>
            <a:ext cx="2971800" cy="32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tate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2514600"/>
            <a:ext cx="2971800" cy="34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cal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2928960"/>
            <a:ext cx="2971800" cy="34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ithmetic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3352680"/>
            <a:ext cx="2971800" cy="34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tate Le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3733920"/>
            <a:ext cx="2971800" cy="34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cal/Arithmetic Le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4FD72-AD97-41AB-81A7-3ADD807CB6E1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rray Funnel Shif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N-input multiplex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1-of-N hot select signals for shift am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pass transistor design 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rops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295280" y="2743200"/>
          <a:ext cx="3276720" cy="32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743200"/>
                    <a:ext cx="327672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257800" y="3124080"/>
            <a:ext cx="216684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54E35-0203-4700-B7AF-99C5A350AA1B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arithmic Funnel Shif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N stages of 2-input mu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elect decoding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00200" y="2835360"/>
            <a:ext cx="5410080" cy="2651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1A0B0-86CC-4E47-8252-C4431A422228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32-bit Logarithmic Funne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r multiplexers reduce delay and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nds &gt; 32 bits introduce datapath irreg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3443400" cy="3581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572000" y="2973240"/>
            <a:ext cx="4114800" cy="253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DC90C-E5BB-47C6-89BE-FA9F18B773E2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rrel Shif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el shifters perform right rotations using wrap-around wi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ft rotations are right rotations by N – k = k + 1 b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s are rotations with the end bits masked of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010280" y="23623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5817B-7701-459D-9997-F3BE9E187536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ogarithmic Barrel Shif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1981080" cy="17953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85800" y="3581280"/>
            <a:ext cx="2590920" cy="2089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3573360" cy="40273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762120" y="32767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shift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56386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/Left shi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00600" y="55627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/Left Shift &amp; Ro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62A50-6EA9-48CE-AE72-B6E2ECCCDDD6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32-bit Logarithmic Barre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path never wider than 32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stage preshifts by 1 to handle lef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743200" y="2362320"/>
            <a:ext cx="320364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19A5B-7585-4BB9-9054-1457AF37868D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-input Add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we want to add k N-bit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0001 + 0111 + 1101 + 0010 = 10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ightforward solution: k-1 N-input CP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and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581280" y="3809880"/>
          <a:ext cx="194328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3809880"/>
                    <a:ext cx="194328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2C2C8-5752-426D-8489-B290BB8D4E5D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 Save Addi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ull adder sums 3 inputs and produces 2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 output has twi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eig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sum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full adders in parallel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rry save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 N sums and N carry o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209680" y="3352680"/>
          <a:ext cx="3733920" cy="26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352680"/>
                    <a:ext cx="3733920" cy="26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8F442-9EAC-4C87-BDF2-4F6038E7D55B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SA Appl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k-2 stages of C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result in carry-save redundant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CPA computes actual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209680" y="2971800"/>
          <a:ext cx="3581640" cy="30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971800"/>
                    <a:ext cx="3581640" cy="30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4572000" y="4800600"/>
            <a:ext cx="6858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95680" y="5791320"/>
            <a:ext cx="83844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43200" y="4724280"/>
            <a:ext cx="712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21200" y="4724280"/>
            <a:ext cx="5331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429000" y="548640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01C2B-2BCF-4F30-BB2E-7711D5BFD193}" type="slidenum">
              <a:t>19</a:t>
            </a:fld>
          </a:p>
        </p:txBody>
      </p:sp>
    </p:spTree>
  </p:cSld>
  <p:transition>
    <p:zoom dir="ou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input Ad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AF609-9C71-4727-93D9-8F28A70B650A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pl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x N-bit multi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 N M-bit partial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 these to produce M+N-bit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666880" y="1523880"/>
          <a:ext cx="5334120" cy="26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523880"/>
                    <a:ext cx="5334120" cy="26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3429000" y="2438280"/>
            <a:ext cx="762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76720" y="2743200"/>
            <a:ext cx="7617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24080" y="3048120"/>
            <a:ext cx="7621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971800" y="3429000"/>
            <a:ext cx="762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19520" y="3733920"/>
            <a:ext cx="24382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567B4-6C74-4984-99DE-D012AF6764A7}" type="slidenum">
              <a:t>20</a:t>
            </a:fld>
          </a:p>
        </p:txBody>
      </p:sp>
    </p:spTree>
  </p:cSld>
  <p:transition>
    <p:zoom dir="ou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eneral For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icand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= 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…,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ier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…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30372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743200" y="2590920"/>
          <a:ext cx="5105520" cy="9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590920"/>
                    <a:ext cx="510552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1143000" y="3657600"/>
          <a:ext cx="6477120" cy="23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657600"/>
                    <a:ext cx="6477120" cy="23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3D983-4CC4-4ABC-8FCD-150802B852BC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ot Diag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dot represents a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38080" y="2209680"/>
          <a:ext cx="7848720" cy="31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848720" cy="31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03D74-BED5-460E-8363-BF9C4B60D994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rray Multipli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057400" y="1523880"/>
          <a:ext cx="487692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523880"/>
                    <a:ext cx="48769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CE069-961D-4286-806E-31E1BE9A8C28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ctangular Arr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quash array to fit rectangular floor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514600" y="1981080"/>
          <a:ext cx="342108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1981080"/>
                    <a:ext cx="342108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CFEE2-5053-48AD-A277-6B2CAE224445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ewer Partial Produc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y multiplier requires N partial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e looked at groups of r bits, we could form N/r partial produ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er and small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radix-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r = 2: look at pairs of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 partial products of 0, Y, 2Y, 3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three are easy, but 3Y requires adde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3760D-4712-44A7-AEA7-1265A0B1AC7E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ooth Encod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 of 3Y, try –Y, then increment next partial product to add 4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ly, for 2Y, try –2Y + 4Y in next partial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295280" y="2895480"/>
            <a:ext cx="6858000" cy="31356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429000" y="419112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429000" y="449568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429000" y="480060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429000" y="510552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429000" y="541008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29000" y="571500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105520" y="41911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248520" y="41911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91520" y="419112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05520" y="449568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248520" y="449568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391520" y="449568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05520" y="480060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48520" y="480060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391520" y="480060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05520" y="51055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248520" y="51055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391520" y="510552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105520" y="541008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248520" y="541008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91520" y="541008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05520" y="571500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248520" y="571500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391520" y="571500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C4AA3-EA45-4D7D-8500-280A5937108D}" type="slidenum">
              <a:t>26</a:t>
            </a:fld>
          </a:p>
        </p:txBody>
      </p:sp>
    </p:spTree>
  </p:cSld>
  <p:transition>
    <p:zoom dir="ou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ooth Hardwar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h encoder generates control lines for each 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h selectors choose PP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828800" y="2362320"/>
            <a:ext cx="5029200" cy="364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0073E-FD1A-4F4A-A6F0-40C4C245040A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gn Extens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al products can be 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sign extension, which is cumber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fanout on most significant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990720" y="2666880"/>
          <a:ext cx="7467480" cy="344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66880"/>
                    <a:ext cx="7467480" cy="34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EC745-7602-42E8-B4E6-F79C75FAB33E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mplified Sign Ex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 bits are either all 0’s or all 1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all 0’s is all 1’s + 1 in proper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is to reduce loading on MS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295280" y="3048120"/>
          <a:ext cx="5715000" cy="299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048120"/>
                    <a:ext cx="5715000" cy="29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F077C-EAB1-4432-B323-50FD0852B500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arato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’s detecto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 00…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’s detector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 11…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ity comparato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nitude comparato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&lt;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31AA5-ED27-4D7A-B7E6-7A28ABA6F395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ven Simpler Sign Ex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to add all the 1’s in 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ompute the answ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990720" y="2743200"/>
          <a:ext cx="7467480" cy="201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743200"/>
                    <a:ext cx="7467480" cy="20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64B6F-EC09-4728-9E85-113B9371B1BF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dvanced Multipl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ed vs. unsigned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er radix Booth en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y vs. tree CSA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F0A5D-FBC1-4931-92C5-DC46988F3B51}" type="slidenum">
              <a:t>31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1’s &amp; 0’s Detecto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’s detector: N-input AND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’s detector: NOTs + 1’s detector (N-input N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219320" y="2590920"/>
          <a:ext cx="2895480" cy="18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590920"/>
                    <a:ext cx="2895480" cy="18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5105520" y="2743200"/>
          <a:ext cx="3047760" cy="125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2743200"/>
                    <a:ext cx="304776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1295280" y="4419720"/>
          <a:ext cx="4648320" cy="1447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4419720"/>
                    <a:ext cx="464832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1A425-C0AD-4758-94C7-89971AAF2970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quality Compara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if each bit is equal (XNOR, aka equality g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’s detect on bitwise e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057400" y="2819520"/>
          <a:ext cx="4724280" cy="27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819520"/>
                    <a:ext cx="4724280" cy="27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E4052-BE05-4DF5-94F7-A4E6067976F3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agnitude Compara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and look at 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 B + ~A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unsigned numbers, carry out is sign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666880" y="2971800"/>
          <a:ext cx="3276720" cy="290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971800"/>
                    <a:ext cx="3276720" cy="29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529B7-19F1-42CA-9CDF-05424C929149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gned vs. Unsigne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igned numbers, comparison is ha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: carr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: zero (all bits of 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are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: negative (MSB of resul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: overflow (inputs had different signs, output sig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: N xor V (sign of resul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09680" y="3630600"/>
            <a:ext cx="4800600" cy="23893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38480" y="50292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2A98F-45BB-4729-8858-0D8EB78E9808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hift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Shif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s number left or right and fills with 0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 LSR 1 = 010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 LSL1 = 0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 Shif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s number left or right.  Rt shift sign ext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 ASR1 = 110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 ASL1 = 0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s number left or right and fills with lost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 ROR1 = 110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 ROL1 = 0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86200" y="2438280"/>
            <a:ext cx="1066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162920" y="2438280"/>
            <a:ext cx="1066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373392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373392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86200" y="50292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238880" y="5029200"/>
            <a:ext cx="10670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B9BB8-42A1-4B3C-96D8-2FC088ADF661}" type="slidenum">
              <a:t>8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unnel Shif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unnel shifter can do all six types of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s N-bit field Y from 2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bit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 by k bits (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 &lt;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ly involves N N:1 multiplex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8120" y="3408480"/>
            <a:ext cx="3581280" cy="245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D79DA-73FC-400D-9442-1309916ED42D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4-09T19:03:48Z</dcterms:modified>
  <cp:revision>1518</cp:revision>
  <dc:subject/>
  <dc:title>PowerPoint Presentation</dc:title>
</cp:coreProperties>
</file>