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6B0C-1AA5-4BF7-92C7-6F6C37C1B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0391-6415-4BAB-AC32-4A9B620C9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3C0B-3BFC-41E5-B609-19DD690C5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2328-3600-44DA-9B62-B977F413B1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A870B-813A-42EC-9C4A-0EA7BF0A1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CF7A-99CB-48E0-AE45-6D687CBB1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3D4D-FC9B-4BA3-A8D0-F88E4DD0B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652C-2E98-4C9B-8162-2A912F2E7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A9E9-1FF3-4FEB-9E8D-C15901DCA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64CB-98BB-41B4-A0DA-51AD2424C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0556-918A-45D4-84E9-1C728D3DD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1B2C-FBD5-4C36-A5CE-D956F413C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FA96-2F15-46C2-A533-12B1566F40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atap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c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93B7-2290-4E6A-8612-85A607EDCD7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nel Source Gener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58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2133720"/>
            <a:ext cx="297180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51460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2896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733920"/>
            <a:ext cx="29718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/Arithmetic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9CDC-A15B-4495-9F8E-657E2528547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81DD-24B4-48FB-AF97-69C7610A352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arithmic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2835360"/>
            <a:ext cx="541008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762C-F90E-44BA-B0B6-0FB7A136731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Funn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multiplexers reduce delay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nds &gt; 32 bits introduce datapath ir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4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2973240"/>
            <a:ext cx="4114800" cy="25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4955-5CA7-4351-80AC-3EE8715F194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l shifters perform right rotations using wrap-around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rotations are right rotations by N – k = k + 1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are rotations with the end bits maske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768B-E4FB-4F4E-A18B-CA923BB2996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arithmic 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81080" cy="179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20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3573360" cy="402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2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hif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 &amp;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9A91-CEFA-470A-AF88-EB670307394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Barr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never wider than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preshifts by 1 to handle lef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03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A382-4CA4-41EB-81DD-9A63AF24D55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6228-19C6-4978-9A09-9103E62FD74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04CB-2813-42E5-B1D0-227ABE318BB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4800600"/>
            <a:ext cx="685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9132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724280"/>
            <a:ext cx="712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21200" y="47242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486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EE6AF-95D3-4901-9FB2-F023A2B95456}" type="slidenum">
              <a:t>1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A015-442D-463F-BCDE-61FA14731F6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429000" y="2438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7432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0481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429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733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D4EA-9918-47F4-AB98-E40C7AE6E6A7}" type="slidenum">
              <a:t>20</a:t>
            </a:fld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B602-C1C5-4E34-8A80-D2B424CD078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4BE9-C74F-4543-A347-B4ADC7736EA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1338-17AD-4227-82C3-ACC41641C37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A0C99-8D9B-4EA8-A284-E1E9C204B13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EF8A-CE0D-4D2B-8C9F-594EECF427F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3135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9000" y="4191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4956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8006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54100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715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4191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4956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51055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100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57150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10C6-EF7D-49E7-A7BD-6127F96B7662}" type="slidenum">
              <a:t>26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E06E-458E-4E5B-A868-D9BBEFC65A4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B42D-1EEE-40C5-BF87-18AFAD394146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’s or all 1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’s is all 1’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AB55-1D94-4E84-86A2-5C0FDEFAE25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B599-4140-4189-ACEC-DD223B0B6A16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’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3557-BDE6-4908-81DD-3272DF00E148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C5EA-5289-4917-98EF-4A5EE9065440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’s &amp; 0’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 NOTs + 1’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A603-01B5-4695-9673-C36F6F4D6C3E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D2D6-D7E0-4AB5-8F9F-84B93A8E643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FC75-3C1E-481E-93CD-B98BC8CCC47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zero (all bits of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re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: overflow (inputs had different signs, output sig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 N xor V (sign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3630600"/>
            <a:ext cx="4800600" cy="238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5EBF-9F46-405A-8234-E638DA281BAB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5029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B56C-0786-425D-A3AB-7E7AA1EBCD7B}" type="slidenum">
              <a:t>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 involves N N:1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3408480"/>
            <a:ext cx="3581280" cy="245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96B8F-4483-4EAB-ACAD-4E46F9083B1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48Z</dcterms:modified>
  <cp:revision>1518</cp:revision>
  <dc:subject/>
  <dc:title>PowerPoint Presentation</dc:title>
</cp:coreProperties>
</file>