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3.wmf" ContentType="image/x-wmf"/>
  <Override PartName="/ppt/media/image50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39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43D03-7C5F-4C5E-9CA3-8BF71C198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FC522-74AF-49E8-9D94-ED298B15D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B951C-A733-4A4B-824D-7C06D8DC2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A5B54-EF1A-4687-A703-0857086C0A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A066C-A086-44C4-8657-CD85D9D751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28D92-31EC-4341-A6AB-F109B318A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76DF3-F82D-4E82-BB8C-2AD99230B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60E06-7C9E-4D20-832B-BF40D82D2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38429-4473-4245-A0C8-297413EA8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416FA-0A2D-423E-AAF0-F94CE58A3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E0BF4-E570-48FC-A4F0-011F5922D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42AA9-96B3-4A35-836A-5E25C3DFA3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9E3AAFB2-3FF7-455A-A27F-8863A439668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7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0C8CA-8921-40AA-9B6D-F918DA5263C2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 Propagate 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bit adder called C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um bit depends on all previous car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compute all these carries quick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3352680"/>
          <a:ext cx="2514600" cy="21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352680"/>
                    <a:ext cx="251460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886200" y="3733920"/>
          <a:ext cx="4419720" cy="15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3733920"/>
                    <a:ext cx="441972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DB7E8-BE18-4A62-B6E8-3DCB0D8C0C37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st design: cascade full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goes from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ull adder to have fast carry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3124080"/>
          <a:ext cx="7772400" cy="28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24080"/>
                    <a:ext cx="7772400" cy="28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29068-9843-4AB3-9262-8FE041B85D2D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s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passes through majority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from minority +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inverter and use inverting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52480" y="3048120"/>
          <a:ext cx="533412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48120"/>
                    <a:ext cx="533412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558B2-59D0-46B3-B95C-360CB90A9AC3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nerate / Propa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 often factored into G and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nd propagate for groups spanning i: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736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219320" y="2514600"/>
          <a:ext cx="281916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281916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11480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295280" y="4191120"/>
          <a:ext cx="1981440" cy="8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191120"/>
                    <a:ext cx="198144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316400" y="3230640"/>
          <a:ext cx="511200" cy="39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6400" y="3230640"/>
                    <a:ext cx="511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31640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16400" y="3230640"/>
          <a:ext cx="51120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16400" y="3230640"/>
                    <a:ext cx="511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799160" y="4114800"/>
          <a:ext cx="1677960" cy="860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99160" y="4114800"/>
                    <a:ext cx="16779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371600" y="5562720"/>
          <a:ext cx="1622520" cy="41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71600" y="5562720"/>
                    <a:ext cx="162252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981080" y="25146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304812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41148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45720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40384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44956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5120" y="54864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CEDA0-3111-4E39-BC4C-66D1ED444231}" type="slidenum">
              <a:t>13</a:t>
            </a:fld>
          </a:p>
        </p:txBody>
      </p:sp>
    </p:spTree>
  </p:cSld>
  <p:transition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14400" y="1600200"/>
          <a:ext cx="746748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4674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EDD58-5D62-48DA-B188-C14B12512D07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404640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838080" y="1600200"/>
          <a:ext cx="266724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26672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209680" y="2057400"/>
          <a:ext cx="4343400" cy="394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057400"/>
                    <a:ext cx="4343400" cy="39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CD817-3426-418C-84B9-5B93E2FA5162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809880" y="1447920"/>
          <a:ext cx="4572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447920"/>
                    <a:ext cx="4572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372600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62120" y="2362320"/>
          <a:ext cx="304776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362320"/>
                    <a:ext cx="304776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523880" y="23623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33E63-BC1F-433F-BD98-02A633FE1923}" type="slidenum">
              <a:t>16</a:t>
            </a:fld>
          </a:p>
        </p:txBody>
      </p: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 Diagram No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5800" y="1968480"/>
          <a:ext cx="7772400" cy="36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68480"/>
                    <a:ext cx="7772400" cy="36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42508-1B0B-4613-B0D4-FBB6C7FC4E3D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kip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ripple is slow through all 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kip allows carry to skip over groups of n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based on n-bit propagate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62120" y="3200400"/>
          <a:ext cx="7696080" cy="18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200400"/>
                    <a:ext cx="769608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94E4D-5625-46FF-9942-5D102DB21839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kip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k n-bit groups (N = 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19320" y="5486400"/>
          <a:ext cx="41907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486400"/>
                    <a:ext cx="41907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828800" y="1600200"/>
          <a:ext cx="5181480" cy="332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600200"/>
                    <a:ext cx="518148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1828800" y="548640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5B72B-4C7A-4398-8CDE-5D01121FA811}" type="slidenum">
              <a:t>19</a:t>
            </a:fld>
          </a:p>
        </p:txBody>
      </p:sp>
    </p:spTree>
  </p:cSld>
  <p:transition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bit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Rippl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kip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Lookahead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elec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Incremen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9A1F8-AAC6-43C0-AFD8-6FE14C5FD5AC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riable Group Siz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56386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grows as O(sqrt(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85800" y="1600200"/>
          <a:ext cx="7772400" cy="41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1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8222F-F9B3-4E4B-A236-168C075BAA02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Lookahead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lookahead adder computes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: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bits in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higher-valency cells with more than two in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762120" y="3429000"/>
          <a:ext cx="7619760" cy="18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429000"/>
                    <a:ext cx="761976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A8673-4966-40AD-84DD-8DD594AF11C2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A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38080" y="2133720"/>
          <a:ext cx="7467840" cy="32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467840" cy="32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6CA51-BDB9-42AC-9831-4CAE6F6261AE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gher-Valency Ce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85800" y="2546280"/>
          <a:ext cx="7772400" cy="25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46280"/>
                    <a:ext cx="777240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F38D3-4927-4B5B-9071-69B2DF5A720B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elect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k for critical paths dependent on late input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mpute two possible outputs for X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proper output when X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elect adder precomputes n-bit s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oth possible carries into n-bi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066680" y="3886200"/>
          <a:ext cx="6705720" cy="21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886200"/>
                    <a:ext cx="670572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50F84-D006-442E-BF3F-AAD043558443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Increment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initial PG and final XOR out of carry-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523880" y="2057400"/>
          <a:ext cx="5715000" cy="30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571500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34152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066680" y="5257800"/>
          <a:ext cx="518184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257800"/>
                    <a:ext cx="51818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2286000" y="5334120"/>
            <a:ext cx="3962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63E02-769E-49F6-B401-F97B7FF945D2}" type="slidenum">
              <a:t>25</a:t>
            </a:fld>
          </a:p>
        </p:txBody>
      </p:sp>
    </p:spTree>
  </p:cSld>
  <p:transition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riable Group Siz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buf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657600" y="1523880"/>
          <a:ext cx="480996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523880"/>
                    <a:ext cx="48099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5D247-2BBA-4EEA-B18D-B678F22C390D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lookahead is good, lookahead across lookahea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 lookahead gives O(log N)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variations on tree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58BA6-9C76-4278-9B23-0CF87B02CDEE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rent-Ku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828720" y="1523880"/>
          <a:ext cx="74865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1523880"/>
                    <a:ext cx="74865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72D57-BCDC-43CF-B7BB-DCDBC8EB1CD3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lansk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85800" y="2197080"/>
          <a:ext cx="7772400" cy="32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97080"/>
                    <a:ext cx="7772400" cy="32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19A66-4F16-4F93-B3F7-2D3672C4664A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ngle-Bit Ad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Ad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2743200"/>
          <a:ext cx="2438280" cy="182556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181480" y="2743200"/>
          <a:ext cx="2819520" cy="3286080"/>
        </p:xfrm>
        <a:graphic>
          <a:graphicData uri="http://schemas.openxmlformats.org/drawingml/2006/table">
            <a:tbl>
              <a:tblPr/>
              <a:tblGrid>
                <a:gridCol w="563760"/>
                <a:gridCol w="565200"/>
                <a:gridCol w="561960"/>
                <a:gridCol w="565200"/>
                <a:gridCol w="5634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230560" y="1371600"/>
          <a:ext cx="13158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0560" y="1371600"/>
                    <a:ext cx="1315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6705720" y="1379520"/>
          <a:ext cx="144756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379520"/>
                    <a:ext cx="144756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838080" y="1981080"/>
          <a:ext cx="1295640" cy="6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1981080"/>
                    <a:ext cx="12956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870440" y="1981080"/>
          <a:ext cx="1835280" cy="62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0440" y="1981080"/>
                    <a:ext cx="18352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205740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6748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6748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6748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3432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46748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748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5029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467480" y="5029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34320" y="5334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5334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5715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5715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11193-2310-4AB4-8D81-475159560DD8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ogge-Sto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85800" y="1933560"/>
          <a:ext cx="777240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33560"/>
                    <a:ext cx="777240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8D0A5-31E5-44BB-A871-2F973737A9F7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 Taxonom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N-bit tree adder would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og N   logic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out never exceedi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than one wiring track between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dder with 3-D taxonomy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level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ou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ing track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tree adders sit on plane defin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290AB-8524-4DAA-A3E6-FBA7BE107F6C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 Taxonom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676520" y="1523880"/>
          <a:ext cx="57592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5759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6324480" y="220968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518148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2362320"/>
            <a:ext cx="5331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81F6A-1D7E-4321-A041-A2A53C8AE40E}" type="slidenum">
              <a:t>32</a:t>
            </a:fld>
          </a:p>
        </p:txBody>
      </p:sp>
    </p:spTree>
  </p:cSld>
  <p:transition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n-Carl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85800" y="1700280"/>
          <a:ext cx="777240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00280"/>
                    <a:ext cx="777240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7C062-E59E-4342-A66E-1232BC7E2A98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nowles [2, 1, 1, 1]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685800" y="1933560"/>
          <a:ext cx="777240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33560"/>
                    <a:ext cx="777240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F655B-616A-49D3-809A-F0C732750401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dner-Fisch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85800" y="1814400"/>
          <a:ext cx="7772400" cy="39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14400"/>
                    <a:ext cx="777240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2CF9C-CC75-4688-B396-19269896AF08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axonomy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209680" y="2057400"/>
          <a:ext cx="472464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057400"/>
                    <a:ext cx="472464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295280" y="4800600"/>
          <a:ext cx="2222640" cy="12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800600"/>
                    <a:ext cx="222264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685800" y="3276720"/>
          <a:ext cx="1905120" cy="10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276720"/>
                    <a:ext cx="190512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609480" y="1676520"/>
          <a:ext cx="1905120" cy="93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1676520"/>
                    <a:ext cx="190512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6553080" y="1523880"/>
          <a:ext cx="2133720" cy="1252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3080" y="1523880"/>
                    <a:ext cx="2133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6248520" y="2743200"/>
          <a:ext cx="2209680" cy="152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48520" y="2743200"/>
                    <a:ext cx="220968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638680" y="4572000"/>
          <a:ext cx="2362320" cy="1469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572000"/>
                    <a:ext cx="236232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4E3B4-1948-4808-8B6B-51790A0D7FA2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33520" y="2819520"/>
          <a:ext cx="8153280" cy="307800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  <a:gridCol w="1295280"/>
                <a:gridCol w="990720"/>
                <a:gridCol w="990360"/>
                <a:gridCol w="1447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te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Lev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Fan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Rip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Skip n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4 +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Inc. n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4 +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-K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-1, 0,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lans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L-1,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2 +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N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gge-S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0, L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685800" y="16002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r architectures offer area / power / delay tradeoff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best one for your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1A463-3257-4FBD-AB1B-222C5C60AC0E}" type="slidenum">
              <a:t>37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ull adder, define what happens to car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terms of A and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independent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gate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l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independent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~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2895480"/>
            <a:ext cx="7621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37339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46483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F24C9-AD27-413F-995F-E2E728534138}" type="slidenum">
              <a:t>4</a:t>
            </a:fld>
          </a:p>
        </p:txBody>
      </p:sp>
    </p:spTree>
  </p:cSld>
  <p:transition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e force implementation from eq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2057400"/>
          <a:ext cx="2743200" cy="9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274320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295280" y="3200400"/>
          <a:ext cx="6172200" cy="283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200400"/>
                    <a:ext cx="6172200" cy="28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9A55A-AB2E-46E8-A7F7-52FDF7F42EFF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S in terms of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ABC + (A + B + C)(~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is usually C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ippl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47920" y="2743200"/>
          <a:ext cx="609588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743200"/>
                    <a:ext cx="60958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DDAE1-2154-440B-8E7B-8E7960176100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ver layout circumvents usual line of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de transistors on 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output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7696080" cy="246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1B181-B4CC-4364-B5A3-F425776E487D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I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Pass Transistor Logic (CP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faster, but mor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2293920"/>
          <a:ext cx="579132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93920"/>
                    <a:ext cx="57913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BBBC2-C7CC-47D0-993E-FBEF35BD387F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do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fast, but large and power hung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very fast multi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371600" y="2787480"/>
          <a:ext cx="5715000" cy="33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787480"/>
                    <a:ext cx="5715000" cy="33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D3E7A-FE2F-4C3A-9DEC-F25EEB4F6E70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09T19:03:56Z</dcterms:modified>
  <cp:revision>1404</cp:revision>
  <dc:subject/>
  <dc:title>PowerPoint Presentation</dc:title>
</cp:coreProperties>
</file>