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3.wmf" ContentType="image/x-wmf"/>
  <Override PartName="/ppt/media/image50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39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3158D-38D3-4CE8-BB9D-C89EB1075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9A116-85C0-4B8F-BCAB-258DAFF5E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729ED-439B-4A23-A82E-1ED5789E6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4D23-020A-4F85-8217-62E140F3C2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8E23C-AA8C-4A8C-A91C-C9B72F2337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89CB9-CB91-4F4B-9E6B-7A54C5AD31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331D9-ABD3-4E8D-B417-691B731B3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303E6-3C26-4FEE-AFD7-C863D4A09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BC15-0682-41D3-B15B-3FC44EF08E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0560A-A377-410C-9B71-01571FDD8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F203B-DEC7-41AC-A181-277CE6527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09E5-D2C0-4110-8321-E85408A01B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874BA68F-CF1D-493D-BC4A-401049A48B8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83DD6-BDD4-403C-B500-EBF90B754630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Propagate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bit adder called C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m bit depends on all previous ca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mpute all these carries quick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3352680"/>
          <a:ext cx="2514600" cy="21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52680"/>
                    <a:ext cx="251460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86200" y="3733920"/>
          <a:ext cx="4419720" cy="15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733920"/>
                    <a:ext cx="441972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4D108-DC85-4ABE-90D9-124FB838548E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design: cascade full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goes from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ull adder to have fast carry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3124080"/>
          <a:ext cx="7772400" cy="28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77240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9664C-3945-4583-A02A-0D8BC40776BA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s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passes through majority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inority +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inverter and use inverting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52480" y="3048120"/>
          <a:ext cx="533412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53341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6A38A-F0EE-48D5-B2A7-52E1F4BA8E38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te / Propa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often factored into G and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propagate for groups spanning i: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7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19320" y="2514600"/>
          <a:ext cx="281916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28191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1148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295280" y="4191120"/>
          <a:ext cx="198144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91120"/>
                    <a:ext cx="19814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3164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99160" y="4114800"/>
          <a:ext cx="167796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99160" y="4114800"/>
                    <a:ext cx="16779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371600" y="5562720"/>
          <a:ext cx="1622520" cy="41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5562720"/>
                    <a:ext cx="162252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981080" y="25146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304812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41148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5720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0384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44956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54864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13337-A324-4A73-BB45-039FAAEC37FE}" type="slidenum">
              <a:t>13</a:t>
            </a:fld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14400" y="1600200"/>
          <a:ext cx="74674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4674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5C35-ECAF-4109-B79A-A48D25C04224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404640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38080" y="1600200"/>
          <a:ext cx="26672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26672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209680" y="2057400"/>
          <a:ext cx="4343400" cy="39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057400"/>
                    <a:ext cx="434340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7E1DF-11D3-4632-A3A5-49E9205090A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809880" y="1447920"/>
          <a:ext cx="4572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447920"/>
                    <a:ext cx="4572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72600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2362320"/>
          <a:ext cx="304776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30477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523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72B5-3149-40B7-A596-817505952409}" type="slidenum">
              <a:t>16</a:t>
            </a:fld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Diagram No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968480"/>
          <a:ext cx="7772400" cy="36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68480"/>
                    <a:ext cx="777240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A288-1120-4B60-BEE9-BD25F74A46AE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is slow through all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llows carry to skip over groups of 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based on n-bit propagat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62120" y="3200400"/>
          <a:ext cx="769608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00400"/>
                    <a:ext cx="769608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9D188-8F84-4FEE-9EE5-5D94EB73E95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 n-bit groups (N = 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9320" y="5486400"/>
          <a:ext cx="4190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486400"/>
                    <a:ext cx="419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828800" y="1600200"/>
          <a:ext cx="5181480" cy="332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600200"/>
                    <a:ext cx="518148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828800" y="54864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E3879-1D09-4932-B43F-3A10F5EB32E3}" type="slidenum">
              <a:t>19</a:t>
            </a:fld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bit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Incremen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BD873-B7C8-4AA5-912B-3AD7F95039E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5638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grows as O(sqrt(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5800" y="1600200"/>
          <a:ext cx="777240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42A0B-EBB3-4639-9760-EB84F8FD816E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Lookahead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 computes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: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bits in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higher-valency cells with more than two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2120" y="3429000"/>
          <a:ext cx="761976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761976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2A47B-ACEE-40C2-BF58-6DA2868FFC4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A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8080" y="2133720"/>
          <a:ext cx="746784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46784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32FA9-1760-4B64-A634-7931AF5CCD4B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gher-Valency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2546280"/>
          <a:ext cx="777240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46280"/>
                    <a:ext cx="77724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7864-E287-4C6B-87E8-4AA343FE959D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elec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 for critical paths dependent on late input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wo possible outputs for X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proper output when X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 precomputes n-bit s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oth possible carries into n-bi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066680" y="3886200"/>
          <a:ext cx="6705720" cy="21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86200"/>
                    <a:ext cx="6705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94055-9524-4F15-9A41-67133E89294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Incremen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initial PG and final XOR out of carry-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2057400"/>
          <a:ext cx="57150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57150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34152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66680" y="5257800"/>
          <a:ext cx="518184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51818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286000" y="5334120"/>
            <a:ext cx="3962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AFAED-DFE2-4331-9D77-0F2E5EA15203}" type="slidenum">
              <a:t>25</a:t>
            </a:fld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657600" y="1523880"/>
          <a:ext cx="480996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4809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DF9D4-DBCE-48B2-8C49-AE01D13BB011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ookahead is good, lookahead across lookah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lookahead gives O(log N)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ariations on tree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C35E2-AD6F-4F13-A9C6-11E7FD454E78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ent-Ku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828720" y="1523880"/>
          <a:ext cx="7486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523880"/>
                    <a:ext cx="7486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6AB5A-F63C-4CCF-BA4C-EF6D1BE9C7BF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lansk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2197080"/>
          <a:ext cx="777240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97080"/>
                    <a:ext cx="777240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0464-FDE4-4D36-965F-4C001B85A590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-Bit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2743200"/>
          <a:ext cx="2438280" cy="18255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181480" y="2743200"/>
          <a:ext cx="2819520" cy="328608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1960"/>
                <a:gridCol w="565200"/>
                <a:gridCol w="563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230560" y="1371600"/>
          <a:ext cx="1315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371600"/>
                    <a:ext cx="1315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705720" y="1379520"/>
          <a:ext cx="14475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379520"/>
                    <a:ext cx="14475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838080" y="1981080"/>
          <a:ext cx="1295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981080"/>
                    <a:ext cx="1295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870440" y="1981080"/>
          <a:ext cx="1835280" cy="6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0440" y="1981080"/>
                    <a:ext cx="18352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05740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FC64-DA31-49B3-B272-FBEEF5F5836E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ogge-Sto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9B801-4B7C-41DF-94B0-F72BDD40C75E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N-bit tree adder would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og N   logic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 never excee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one wiring track betwee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dder with 3-D taxonom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track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tree adders sit on plane def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7A587-60AB-4657-81C6-70DCF73E898E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676520" y="1523880"/>
          <a:ext cx="575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75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6324480" y="22096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51814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362320"/>
            <a:ext cx="533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CA33-E181-42CE-B162-0C2EA02BC8A9}" type="slidenum">
              <a:t>32</a:t>
            </a:fld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n-Carl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5800" y="1700280"/>
          <a:ext cx="777240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00280"/>
                    <a:ext cx="77724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48561-55D1-437E-A11A-79E53B5FF7F2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nowles [2, 1, 1, 1]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5E95-6136-49CF-9923-F1AE542F5FD5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dner-Fisch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5800" y="1814400"/>
          <a:ext cx="777240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4400"/>
                    <a:ext cx="777240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BCAA5-12CB-4639-B3BB-28043887E1DA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xonomy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209680" y="2057400"/>
          <a:ext cx="472464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72464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295280" y="4800600"/>
          <a:ext cx="222264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00600"/>
                    <a:ext cx="22226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685800" y="3276720"/>
          <a:ext cx="190512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76720"/>
                    <a:ext cx="1905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09480" y="1676520"/>
          <a:ext cx="1905120" cy="93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676520"/>
                    <a:ext cx="19051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553080" y="1523880"/>
          <a:ext cx="2133720" cy="125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1523880"/>
                    <a:ext cx="2133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248520" y="2743200"/>
          <a:ext cx="2209680" cy="152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2743200"/>
                    <a:ext cx="220968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638680" y="4572000"/>
          <a:ext cx="2362320" cy="14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572000"/>
                    <a:ext cx="23623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F9B66-FCAD-449C-9587-5CEF97E23A88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2819520"/>
          <a:ext cx="8153280" cy="307800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295280"/>
                <a:gridCol w="990720"/>
                <a:gridCol w="99036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Fan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Ri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Skip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Inc.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-K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-1, 0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lans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L-1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 +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gge-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0, L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685800" y="1600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r architectures offer area / power / delay tradeof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best one for your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53D5E-0D95-45A3-BC57-8E4D9171283E}" type="slidenum">
              <a:t>37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ull adder, define what happens to car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terms of A and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l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~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895480"/>
            <a:ext cx="7621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37339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648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FB3AC-DA99-4659-8327-27F431861E12}" type="slidenum">
              <a:t>4</a:t>
            </a:fld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 implementation from eq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057400"/>
          <a:ext cx="274320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27432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295280" y="3200400"/>
          <a:ext cx="6172200" cy="283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200400"/>
                    <a:ext cx="617220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35B5C-7841-403C-A2D1-06A10C37F85F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S in terms of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ABC + (A + B + C)(~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is usually C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47920" y="2743200"/>
          <a:ext cx="60958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60958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A9FC2-066B-4F30-860D-CD7D1FD6A442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ver layout circumvents usual lin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de transistors on 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output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696080" cy="24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6CA7-537F-4D88-8D2C-394EE244B3B1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Pass Transistor Logic (C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faster, but mor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2293920"/>
          <a:ext cx="57913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93920"/>
                    <a:ext cx="57913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E91A6-C38C-4E29-BB7E-8BF5482D4C6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, but large and power hu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very fast 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71600" y="2787480"/>
          <a:ext cx="5715000" cy="33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87480"/>
                    <a:ext cx="5715000" cy="33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FF141-5818-4BAC-9E21-32EC1527253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9T19:03:56Z</dcterms:modified>
  <cp:revision>1404</cp:revision>
  <dc:subject/>
  <dc:title>PowerPoint Presentation</dc:title>
</cp:coreProperties>
</file>