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.png" ContentType="image/png"/>
  <Override PartName="/ppt/media/image29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0.wmf" ContentType="image/x-wmf"/>
  <Override PartName="/ppt/media/image31.wmf" ContentType="image/x-wmf"/>
  <Override PartName="/ppt/media/image32.wmf" ContentType="image/x-wmf"/>
  <Override PartName="/ppt/media/image35.wmf" ContentType="image/x-wmf"/>
  <Override PartName="/ppt/media/image40.wmf" ContentType="image/x-wmf"/>
  <Override PartName="/ppt/media/image30.wmf" ContentType="image/x-wmf"/>
  <Override PartName="/ppt/media/image42.wmf" ContentType="image/x-wmf"/>
  <Override PartName="/ppt/media/image38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36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.jpeg" ContentType="image/jpeg"/>
  <Override PartName="/ppt/media/image2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F9928-8640-4F8A-9C38-7FC137AD31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5C3C1-D79F-487A-94E6-DB2F570ECA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1F28B-46D9-4991-B795-6650D04CAD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BD8CA-A921-49AF-8EB6-42F719D98F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51E13-3D42-45DE-BA8E-A55E95CD92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5D5ED-7A6D-4914-A39A-2C7634758C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DB77B-DCD6-4429-A3B4-3521999ABB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4F228-8E59-4B79-B221-CD109C5B67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07B4F-31A4-4B52-B77D-E217874A63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E1F80-B9F6-493E-B82D-8A51DF1A39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7CA44-7254-412B-82F2-D1FB8CB912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5DAED-7251-482E-B141-57FA67F009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75406-0CD3-49AB-9663-4CA50C0BFA5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6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ircuit Pitfall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83A0C-AECC-4047-99AB-599A62F7A422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onte Carlo Simul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process variation increases, the worst-case corners become too pessimistic for practical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te Carlo: repeated simulations with parameters randomly varied each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at scatter plot of results to predict y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impact o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410080" y="3581280"/>
            <a:ext cx="2560680" cy="22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A1C8F-1707-4653-AFD4-FF36A253DE0D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ois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supply noise / ground bou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ive cou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ge sh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feed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delay (for noise to settle o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incorrect compu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19152-6371-43B9-9425-55314B967090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liabil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Err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xide wear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connect wear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voltage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ch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 Err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izing rel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 time between failures (MTB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of devices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ours of operation / number of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ilures in time (F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of failures / thousand hours / million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343400" y="1752480"/>
            <a:ext cx="4038480" cy="221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1174A-0F79-40AA-BF19-48927C8219F2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celerated Lifetime Test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ed reliability typically exceeds 10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products come to market in 1-2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lerated lifetime testing required to predict adequate long-term 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52480" y="3352680"/>
            <a:ext cx="3578400" cy="26766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951440" y="5791320"/>
            <a:ext cx="93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rnaud08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21060-043F-4C82-A45F-E14F57FE740A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ot Carri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 fields across channel impart high energies to some c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“hot” carriers may be blasted into the gate oxide where they become trap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mulation of charge in oxide causes shift i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ually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hifts too far for devices to operate cor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achieve reasonable product life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st problems for inverters and NORs with slow input risetime and long propagation de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87C93-C167-4ADF-BD68-5807BCE1480C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BTI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egative bias temperature in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 field applied across oxide forms dangling bonds called traps at Si-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mulation of traps causes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hi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pronounced for pMOS transistors with strong negative bias 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t high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295280" y="4191120"/>
            <a:ext cx="1828800" cy="7412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600200" cy="308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CC3F5-9DB8-4C55-B4C3-8325B72181D1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DDB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ime-dependent dielectric break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ual increase in gate leakage when an electric field is applied across an 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k.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ress-induced leakage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10-year life at 125 C, keep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low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7 V/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C6D8D-4D5C-4C15-8AD3-22FD8FDDC14A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lectromig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 wind” causes movement of metal atoms along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ssive electromigration leads to open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significant for unidirectional (DC)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current density 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urrent / are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nential dependence on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ck’s Equa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limits: 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1 – 2 mA /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25960" y="315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114800" y="4137120"/>
          <a:ext cx="1676520" cy="104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4137120"/>
                    <a:ext cx="1676520" cy="10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6324480" y="3992400"/>
            <a:ext cx="2340000" cy="1420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627240" y="544032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hristiansen06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7C4E4-5A86-4216-A890-6095FEE58F90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migration Vide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905120" y="1676520"/>
            <a:ext cx="5333760" cy="400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BE111-7B03-4AFF-962A-B48959E30A00}" type="slidenum">
              <a:t>18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migration Video 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29579-0EAE-4441-A6DC-5243BD229EB9}" type="slidenum">
              <a:t>19</a:t>
            </a:fld>
          </a:p>
        </p:txBody>
      </p:sp>
    </p:spTree>
  </p:cSld>
  <p:transition>
    <p:zoom dir="out"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Bu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it Pitf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8C600-BDC8-4B96-9178-CF476B92FCBD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lf-Heat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through wire resistance generates h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ide surrounding wires is a thermal ins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 tends to build up in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tter wires are more resistive, s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-heating limits AC current densities for 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limits: 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rm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 15 mA /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30560" y="307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371600" y="3809880"/>
          <a:ext cx="108252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809880"/>
                    <a:ext cx="10825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4D233-EAB8-42C7-90A0-53FA42BF4DA7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vervoltage Failu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voltages can blow out tiny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ctrostatic dischar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ES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lovolts from static electricity when the package pins are hand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xide break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65 nm process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 V caus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rc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rough thin gate ox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unch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uses depletion region between source and drain to touch, leading to high current flow and destructive overhe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95646-CE91-4712-96F6-91F93699A76E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up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162920" y="4419720"/>
            <a:ext cx="1676160" cy="12556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chup: positive feedback leading to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GND sh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problem for 1970’s CMOS processes bef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as well underst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by minimizing resistance of body to GND /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lenty of substrate and well t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295280" y="3668760"/>
            <a:ext cx="5334120" cy="2427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C8B38-17D0-4CF7-A4DE-ED09F463D5E0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uard Ring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chup risk greatest when diffusion-to-substrate diodes could become forward-bi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round sensitive region with guard ring to collect injected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90720" y="3124080"/>
            <a:ext cx="6933960" cy="297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D61D6-2A8C-432B-B3DC-4E76D33F22F5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oft Erro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970’s, DRAMs were observed to randomly flip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timately linked to alpha particles and cosmic ray neu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isions with atoms create electron-hole pairs in subs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carriers are collected on p-n junctions, disturbing the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626000" y="4343400"/>
            <a:ext cx="3222720" cy="16700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579120" y="5715000"/>
            <a:ext cx="109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Baumann0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9B1DB-04F0-4174-BDCA-E5BBDB6AFD57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adiation Harden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ation hardening reduces soft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node capacitance to minimize impact of collected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use redunda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ual-interlocked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r-correcting c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 for soft errors that do occ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105520" y="2514600"/>
            <a:ext cx="3193920" cy="208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EC34C-7DD2-4301-B1B5-70B0F86E8962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ircuit Pitfall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ive puzz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circuit and symptom, diagnose cause and recommend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hese pitfalls have caused failures in real c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68414-2E25-4BD7-B95F-AFB896669E6F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1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:1 multiplex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x works when selected D is 0 but not 1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fails at low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fails in SFSF corn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219320" y="2301840"/>
          <a:ext cx="2971800" cy="14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301840"/>
                    <a:ext cx="2971800" cy="14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Threshold d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never rises above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raised by the body eff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hreshold drop is most serious as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comes a greater fraction of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Use transmission gates, not pass transis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0" y="380988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00200" y="4191120"/>
            <a:ext cx="68580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0" y="5562720"/>
            <a:ext cx="6095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AB3F0-EBE1-4C72-A081-6E5932A3EAE1}" type="slidenum">
              <a:t>27</a:t>
            </a:fld>
          </a:p>
        </p:txBody>
      </p:sp>
    </p:spTree>
  </p:cSld>
  <p:transition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2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 a 0 into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ually Q spontaneously flips to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Lea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is a dynamic node holding value as charge on the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ually subthreshold leakage may disturb ch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Staticize node with feed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periodically refresh node (requires fast clock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actical processes with big leak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371600" y="2286000"/>
          <a:ext cx="2362320" cy="122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286000"/>
                    <a:ext cx="2362320" cy="12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6934320" y="4911840"/>
          <a:ext cx="1717560" cy="12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34320" y="4911840"/>
                    <a:ext cx="1717560" cy="12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2286000" y="380988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00200" y="4191120"/>
            <a:ext cx="64771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295280" y="4876920"/>
            <a:ext cx="7239240" cy="1218960"/>
            <a:chOff x="1295280" y="4876920"/>
            <a:chExt cx="7239240" cy="1218960"/>
          </a:xfrm>
        </p:grpSpPr>
        <p:sp>
          <p:nvSpPr>
            <p:cNvPr id="161" name=""/>
            <p:cNvSpPr/>
            <p:nvPr/>
          </p:nvSpPr>
          <p:spPr>
            <a:xfrm>
              <a:off x="2286000" y="4876920"/>
              <a:ext cx="6248520" cy="121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295280" y="5257800"/>
              <a:ext cx="27432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AA18C-4FF7-43EC-84E7-CFF1CC683C22}" type="slidenum">
              <a:t>28</a:t>
            </a:fld>
          </a:p>
        </p:txBody>
      </p:sp>
    </p:spTree>
  </p:cSld>
  <p:transition>
    <p:zoom dir="ou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3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ino AND 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harge gate (Y=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evalu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ually Y spontaneously flips to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Lea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is a dynamic node holding value as charge on the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ually subthreshold leakage may disturb ch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Kee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666880" y="2209680"/>
          <a:ext cx="205740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209680"/>
                    <a:ext cx="2057400" cy="15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3429000" y="4876920"/>
          <a:ext cx="1905120" cy="120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4876920"/>
                    <a:ext cx="1905120" cy="12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2286000" y="380988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00200" y="4191120"/>
            <a:ext cx="6858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0" y="4876920"/>
            <a:ext cx="609588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81380-7D07-4A38-B882-124049D9E893}" type="slidenum">
              <a:t>29</a:t>
            </a:fld>
          </a:p>
        </p:txBody>
      </p:sp>
    </p:spTree>
  </p:cSld>
  <p:transition>
    <p:zoom dir="ou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ari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nel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onnect dim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ing / Wear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A120F-3C86-4164-9550-F81FAB4314A8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4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eudo-nMOS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only one input is true, Y = 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haps only happens in SF corn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Ratio Fail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OS and pMOS fight each oth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pMOS is too strong, nMOS cannot pull X low enoug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Check that ratio is satisfied in all cor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2971800" cy="1150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286000" y="380988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0200" y="4191120"/>
            <a:ext cx="6858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0" y="4876920"/>
            <a:ext cx="6095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9C730-CEB3-4F9B-B17F-3EEF652844A4}" type="slidenum">
              <a:t>30</a:t>
            </a:fld>
          </a:p>
        </p:txBody>
      </p:sp>
    </p:spTree>
  </p:cSld>
  <p:transition>
    <p:zoom dir="ou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5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 stuck at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only happen for certain latches where input is driven by a small gate located far awa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Ratio Failure (aga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ies resistance of D driver, wi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stance, and tgate must be mu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than weak feedback inver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s: Check relative streng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 unbuffered diffusion inputs where driver is unkn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295280" y="2286000"/>
          <a:ext cx="182880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286000"/>
                    <a:ext cx="182880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5867280" y="3989520"/>
          <a:ext cx="2286000" cy="142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3989520"/>
                    <a:ext cx="2286000" cy="14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2286000" y="380988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4191120"/>
            <a:ext cx="68580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295280" y="5257800"/>
            <a:ext cx="7231320" cy="685800"/>
            <a:chOff x="1295280" y="5257800"/>
            <a:chExt cx="7231320" cy="685800"/>
          </a:xfrm>
        </p:grpSpPr>
        <p:sp>
          <p:nvSpPr>
            <p:cNvPr id="193" name=""/>
            <p:cNvSpPr/>
            <p:nvPr/>
          </p:nvSpPr>
          <p:spPr>
            <a:xfrm>
              <a:off x="2362320" y="5257800"/>
              <a:ext cx="616428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295280" y="5638680"/>
              <a:ext cx="68580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DD857-31AB-45AF-8073-D993FC9F998A}" type="slidenum">
              <a:t>31</a:t>
            </a:fld>
          </a:p>
        </p:txBody>
      </p:sp>
    </p:spTree>
  </p:cSld>
  <p:transition>
    <p:zoom dir="ou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6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ino AND 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harge gate whi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= B = 0, so Z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ri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is observed to sometimes r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Charge Sha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X was low, it shares charge with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s: Limit charge sha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fe if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gt;&gt;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precharge node X to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600200" y="2286000"/>
            <a:ext cx="2286000" cy="13971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5715000" y="4622760"/>
            <a:ext cx="2286000" cy="13971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00068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600200" y="4800600"/>
          <a:ext cx="175248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4800600"/>
                    <a:ext cx="175248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2286000" y="3809880"/>
            <a:ext cx="31240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4114800"/>
            <a:ext cx="41148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219320" y="4495680"/>
            <a:ext cx="6705360" cy="1600200"/>
            <a:chOff x="1219320" y="4495680"/>
            <a:chExt cx="6705360" cy="1600200"/>
          </a:xfrm>
        </p:grpSpPr>
        <p:sp>
          <p:nvSpPr>
            <p:cNvPr id="207" name=""/>
            <p:cNvSpPr/>
            <p:nvPr/>
          </p:nvSpPr>
          <p:spPr>
            <a:xfrm>
              <a:off x="2438280" y="4495680"/>
              <a:ext cx="5486400" cy="160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219320" y="4876920"/>
              <a:ext cx="3124080" cy="121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FD633-52E6-48CA-829E-85B4E71604E6}" type="slidenum">
              <a:t>32</a:t>
            </a:fld>
          </a:p>
        </p:txBody>
      </p:sp>
    </p:spTree>
  </p:cSld>
  <p:transition>
    <p:zoom dir="ou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7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gate + 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harge gate while transmission gate latch is opa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latch becomes transparent, X 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Charge Sha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 was low, it shares charge with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Buffer dynamic nodes befo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ing transmission g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00068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371600" y="2362320"/>
            <a:ext cx="2057400" cy="1170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362320" y="3809880"/>
            <a:ext cx="31240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00200" y="4191120"/>
            <a:ext cx="41148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4495680"/>
            <a:ext cx="3352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6CDB5-2C91-4BF2-96F4-9D8959A80ED1}" type="slidenum">
              <a:t>33</a:t>
            </a:fld>
          </a:p>
        </p:txBody>
      </p:sp>
    </p:spTree>
  </p:cSld>
  <p:transition>
    <p:zoom dir="ou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8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 changes while latch is opa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if D comes from a far-away dr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Diffusion Input Noise Sensi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 &lt; -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ransmission gate turns 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likely because of power supply noise or coupling on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Buffer D lo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00068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371600" y="2362320"/>
            <a:ext cx="2286000" cy="11458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5029200" y="4876920"/>
            <a:ext cx="2590920" cy="11937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0" y="3809880"/>
            <a:ext cx="3733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4114800"/>
            <a:ext cx="67057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86000" y="4876920"/>
            <a:ext cx="52578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05A9B-E138-4AC8-8C92-C3F08408B170}" type="slidenum">
              <a:t>34</a:t>
            </a:fld>
          </a:p>
        </p:txBody>
      </p:sp>
    </p:spTree>
  </p:cSld>
  <p:transition>
    <p:zoom dir="out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CMOS gates are very rob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settle to correct value if you wait long en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circuits suffer from a variety of pitf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off between performance &amp; robust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sential to check circuits for pitf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large chips, you need an automatic che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rules aren’t worth the paper they are printed on unless you back them up with a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7D63E-F109-431F-B0C0-307B96DD95B6}" type="slidenum">
              <a:t>35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876920" y="2362320"/>
            <a:ext cx="1831680" cy="16142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ocess Vari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shold Vol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s on placement of dopants in 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deviation inversely proportional to channe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nel 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atic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cross-chip linewidth vari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ACL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 line edge roughness (L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conn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ching variations affect w, s,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600200" y="2819520"/>
            <a:ext cx="2173320" cy="600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572000" y="4572000"/>
            <a:ext cx="1703520" cy="8143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764400" y="2867040"/>
            <a:ext cx="108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Bernstein06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17560" y="5334120"/>
            <a:ext cx="209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tesy Texas Instr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7202520" y="3200400"/>
            <a:ext cx="1484280" cy="2614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082640" y="5715000"/>
            <a:ext cx="168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tesy Larry Pileg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FC8B6-E50B-48BB-B638-37AA45451AB0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patial Distribu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tions show spatial corr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ot-to-l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2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afer-to-waf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2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e-to-di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D2D) /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er-d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thin-di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ID) /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ad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er transistors match be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697280" y="1981080"/>
            <a:ext cx="3837240" cy="3335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409360" y="5334120"/>
            <a:ext cx="161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tesy M. Pelg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75322-1A24-423E-8E69-BBE4B06E1248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nvironmental Vari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usually designed +/- 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tor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chip droop fr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ing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bient temperature r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die temperature elev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chip power con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943600" y="1523880"/>
            <a:ext cx="2738520" cy="19814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629760" y="3505320"/>
            <a:ext cx="11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tesy IB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638680" y="3886200"/>
            <a:ext cx="2962440" cy="671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867280" y="4648320"/>
            <a:ext cx="1514520" cy="1303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7467480" y="487692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arris01b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78F33-2CE4-460A-AC06-A3C8822A41FE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g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change over time as they wear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t c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ative bias temperature in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-dependent dielectric break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es threshold voltage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on this late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75EEA-10FA-473F-A1AA-465445DE3EA6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cess Corne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extremes of process variations in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 (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 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2133360" cy="20685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419720" y="4876920"/>
            <a:ext cx="3733560" cy="106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538CC-1D16-4E27-BEB1-A1D00A7EC8C2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rner Check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its are simulated in different corners to verify different performance and correctness spec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62120" y="2438280"/>
            <a:ext cx="7638840" cy="26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7B8EB-EFCA-40A8-AD48-078E517CDE75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4-05T17:38:40Z</dcterms:modified>
  <cp:revision>1810</cp:revision>
  <dc:subject/>
  <dc:title>PowerPoint Presentation</dc:title>
</cp:coreProperties>
</file>