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9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0.wmf" ContentType="image/x-wmf"/>
  <Override PartName="/ppt/media/image31.wmf" ContentType="image/x-wmf"/>
  <Override PartName="/ppt/media/image32.wmf" ContentType="image/x-wmf"/>
  <Override PartName="/ppt/media/image35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A57A6-0736-4E7F-9FEF-430F27839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94989-2F6D-4E14-A86A-F018F0142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6A359-C1ED-43E3-918E-36D93987F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2BF50-B8EE-482B-B674-1F4740C3C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18D2-6B0A-499A-855B-FFB422796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6EC8B-58B3-4698-A636-581F7821F1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548C4-6AF4-4C6E-BBB4-85917A77F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002D1-0B27-43FE-A617-BAA15529A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5B5C4-F6FC-4C83-91B9-66B7A2262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F2CB4-37B3-4595-B774-F66D22201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2405A-EFC8-47F5-97CA-F7486D319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A4C38-350D-48D8-9B5B-B7D07DF1D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9E44-40BB-4830-A84E-ED59C8743BA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3E4C1-11A1-4F0E-ACA8-3C0F095394C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te Carlo Simu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ocess variation increases, the worst-case corners become too pessimistic for pract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: repeated simulations with parameters randomly varie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scatter plot of results to predict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mpac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56068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F83A-ECE7-4955-9347-12935AF5A69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 / 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eed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(for noise to settl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correct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1C31-F28A-4BDC-BF7B-C7186698EFC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e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oltag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ing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time between failures (MT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devices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urs of operation / number of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s in time (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failures / thousand hours / millio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03848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44CAA-BF7D-4693-8EE7-BE2F9D1C200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Lifetime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reliability typically exceed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oducts come to market in 1-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d lifetime testing required to predict adequate long-term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3578400" cy="267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51440" y="579132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rnaud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E5895-E180-4C94-983A-D5D1013CE94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t Carr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across channel impart high energies to som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“hot” carriers may be blasted into the gate oxide where they become t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charge in oxide causes shift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s too far for devices to operat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hieve reasonable product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problems for inverters and NORs with slow input risetime and long propagation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5C0B-9A21-4F08-8E61-B41E275AE01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B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applied across oxide forms dangling bonds called traps at Si-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traps caus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for pMOS transistors with strong negative bias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1828800" cy="741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600200" cy="30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2AA3-1A52-4536-9C1F-42C6B60F126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DD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 increase in gate leakage when an electric field is applied across a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ss-induced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10-year life at 125 C, keep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 V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79098-8B64-4D84-B122-0BB2D046EB0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ectromig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wind” causes movement of metal atoms a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electromigration leads to ope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gnificant for unidirectional (DC)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urrent density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/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ependence o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’s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 – 2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2596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114800" y="4137120"/>
          <a:ext cx="1676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137120"/>
                    <a:ext cx="1676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24480" y="3992400"/>
            <a:ext cx="2340000" cy="142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7240" y="5440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hristianse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ABD4C-79E2-433C-8370-8FC1EF56455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A247E-CC42-4E86-98CF-E2600CC0C45B}" type="slidenum">
              <a:t>1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A837-B65F-4F57-B3A8-C06CC065B516}" type="slidenum">
              <a:t>19</a:t>
            </a:fld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CF97-0E8F-4C3A-A6A1-4840C8D5985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Hea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ough wire resistance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surrounding wires is a thermal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ends to build up in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ter wires are more resistive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heating limits AC current densities for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056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71600" y="3809880"/>
          <a:ext cx="1082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1082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CACFE-B58B-4D98-9FE9-D1BBCA5948F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oltage Fail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tages can blow out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static dis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volts from static electricity when the package pins are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ide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65 nm proces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V ca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nch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depletion region between source and drain to touch, leading to high current flow and destructive over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D193A-5AB0-4618-80C0-F44AC71A6CF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2920" y="4419720"/>
            <a:ext cx="1676160" cy="1255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: positive feedback leading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ND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roblem for 1970’s CMOS processe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well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y minimizing resistance of body to GND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enty of substrate and wel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95280" y="3668760"/>
            <a:ext cx="5334120" cy="24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F3D76-5D68-4637-B4CC-EEE1CFD7C18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rd Ring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 risk greatest when diffusion-to-substrate diodes could become forward-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sensitive region with guard ring to collect inj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93396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9A84-EFF0-4C68-B5F2-8366B4C7ECF8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ft Err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’s, DRAMs were observed to randomly fli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linked to alpha particles and cosmic ray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atoms create electron-hole pairs i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riers are collected on p-n junctions, disturbing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26000" y="4343400"/>
            <a:ext cx="3222720" cy="1670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79120" y="571500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auman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76588-3C26-4EE2-BECA-23BEB42D1F4B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diation Harde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hardening reduces sof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node capacitance to minimize impact of coll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al-interlocke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for soft errors that d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193920" cy="20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ABE12-F2C2-44F8-B138-A928EF99FE4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ve 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ircuit and symptom, diagnose cause and 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pitfalls have caused failures in re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0B5BF-692F-44C3-869F-F91C3AE2602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Use transmission gates, not pas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191120"/>
            <a:ext cx="6858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55627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DADF-CA22-4184-A2DE-17BD98142D94}" type="slidenum">
              <a:t>27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taticize node with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iodically refresh node (requires fast clo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actical processes with big lea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34320" y="4911840"/>
          <a:ext cx="171756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911840"/>
                    <a:ext cx="1717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4191120"/>
            <a:ext cx="6477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4876920"/>
            <a:ext cx="7239240" cy="1218960"/>
            <a:chOff x="1295280" y="4876920"/>
            <a:chExt cx="7239240" cy="1218960"/>
          </a:xfrm>
        </p:grpSpPr>
        <p:sp>
          <p:nvSpPr>
            <p:cNvPr id="161" name=""/>
            <p:cNvSpPr/>
            <p:nvPr/>
          </p:nvSpPr>
          <p:spPr>
            <a:xfrm>
              <a:off x="2286000" y="4876920"/>
              <a:ext cx="62485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525780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857C1-513A-4CB3-BFE0-428E51AF4531}" type="slidenum">
              <a:t>28</a:t>
            </a:fld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K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429000" y="4876920"/>
          <a:ext cx="1905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87692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876920"/>
            <a:ext cx="60958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25FF-FCAB-4323-A56E-226A411AC712}" type="slidenum">
              <a:t>29</a:t>
            </a:fld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/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7F1D6-4210-4143-9A77-E79D6FEC26B2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heck that ratio is satisfied in all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8769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74FA0-27F1-4EF9-9DBC-99F83A3B5309}" type="slidenum">
              <a:t>30</a:t>
            </a:fld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Check relative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nbuffered diffusion inputs where driver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95280" y="228600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867280" y="3989520"/>
          <a:ext cx="2286000" cy="14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989520"/>
                    <a:ext cx="228600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1911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95280" y="5257800"/>
            <a:ext cx="7231320" cy="685800"/>
            <a:chOff x="1295280" y="5257800"/>
            <a:chExt cx="7231320" cy="685800"/>
          </a:xfrm>
        </p:grpSpPr>
        <p:sp>
          <p:nvSpPr>
            <p:cNvPr id="193" name=""/>
            <p:cNvSpPr/>
            <p:nvPr/>
          </p:nvSpPr>
          <p:spPr>
            <a:xfrm>
              <a:off x="2362320" y="5257800"/>
              <a:ext cx="6164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280" y="5638680"/>
              <a:ext cx="68580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6E094-10D9-4C04-B345-D7ECA3F207AC}" type="slidenum">
              <a:t>31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Limit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&gt;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recharge node X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4622760"/>
            <a:ext cx="2286000" cy="139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800600"/>
          <a:ext cx="1752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28600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114800"/>
            <a:ext cx="4114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4495680"/>
            <a:ext cx="6705360" cy="1600200"/>
            <a:chOff x="1219320" y="4495680"/>
            <a:chExt cx="6705360" cy="1600200"/>
          </a:xfrm>
        </p:grpSpPr>
        <p:sp>
          <p:nvSpPr>
            <p:cNvPr id="207" name=""/>
            <p:cNvSpPr/>
            <p:nvPr/>
          </p:nvSpPr>
          <p:spPr>
            <a:xfrm>
              <a:off x="2438280" y="4495680"/>
              <a:ext cx="54864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4876920"/>
              <a:ext cx="312408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FBEC6-69B3-4626-87D1-499E254C8053}" type="slidenum">
              <a:t>32</a:t>
            </a:fld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ynamic nodes 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transmission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6232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191120"/>
            <a:ext cx="4114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49568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634A3-E69B-4986-9D34-BD4FAA3D0D66}" type="slidenum">
              <a:t>33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29200" y="4876920"/>
            <a:ext cx="2590920" cy="119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0" y="3809880"/>
            <a:ext cx="3733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114800"/>
            <a:ext cx="6705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876920"/>
            <a:ext cx="5257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FDCC-0B17-4ABC-8EE6-A425685207E8}" type="slidenum">
              <a:t>34</a:t>
            </a:fld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gates are very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ttle to correct value if you wai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ircuits suffer from a variety of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performance &amp;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check circuits for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chips, you need an automatic che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ules aren’t worth the paper they are printed on unless you back them up with a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21DB4-2F0B-4EFA-8AF1-CE7E729E0E65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31680" cy="161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placement of dopants i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nversely proportional to channe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ross-chip linewidth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L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ine edge roughness (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hing variations affect w, s,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217332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0" y="4572000"/>
            <a:ext cx="1703520" cy="81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64400" y="286704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ernstei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7560" y="5334120"/>
            <a:ext cx="20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202520" y="3200400"/>
            <a:ext cx="1484280" cy="261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82640" y="5715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Larry Pile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4E28-B396-43CD-A2C6-B5054DB70CA3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atial Distrib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show spatial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-to-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2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fer-to-wa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2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e-to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2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-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in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I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transistors match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97280" y="1981080"/>
            <a:ext cx="3837240" cy="3335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09360" y="533412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M. Pelg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36854-61E6-4C23-A4B2-2B78018EDE6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designed +/-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hip droop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temperatur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ie temperature ele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hip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73852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29760" y="35053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962440" cy="67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514520" cy="130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467480" y="4876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rris01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5E8EB-0469-48CE-9C69-9E7277C4EA4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hange over time as they wea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threshold voltag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this la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2547-441F-4AF1-BE10-5FCD1675B5E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xtremes of process variations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733560" cy="106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69E0-C4C6-40E8-9EA8-14B690B81E2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ner Che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are simulated in different corners to verify different performance and correctne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3884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E70DA-56EA-40BC-99BB-EB94C86E0E9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5T17:38:40Z</dcterms:modified>
  <cp:revision>1810</cp:revision>
  <dc:subject/>
  <dc:title>PowerPoint Presentation</dc:title>
</cp:coreProperties>
</file>