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60116-E543-436E-A2DE-6AC271258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BDAA2-6C4F-4F1A-A023-47088A0914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CFF4-2F08-42F7-979E-E81C2E88B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B97B3-800B-4C0C-8481-7AE6A15D14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57E50-65F3-47EA-AA18-BC291C173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D1D3-96CB-451C-BA38-4600A59BB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43D2-D71C-4B32-ADE1-5739A6A31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0597A-4C31-40C1-BA55-3AAABD44D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9C1D-1D30-417D-9552-12A7217E4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FD717-9B5E-4F6D-BC56-998F759CE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93319-B413-406A-A0B8-E1406E89EB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74DC2-CCF5-4452-9525-5D253515B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7772-BD44-4451-9076-A0A03CC9966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6BF4B-BD3F-4230-B6FE-12AA6BECC7C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562720" cy="258624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469FE-B7EE-4023-BF82-0574942AD92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20B5-BC46-4EA5-B492-D35CF2D5FD3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3FF9B-F767-44EA-ACE9-82F8FE3074E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438280"/>
          <a:ext cx="403884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95280" y="4648320"/>
          <a:ext cx="41148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4114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905120" y="236232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A56AB-698C-47C0-9876-E141048F6CEB}" type="slidenum">
              <a:t>1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283D-F0B1-43BF-8B9A-7FDB54BE06E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54DDD-9DC6-4405-924A-CA1B733E056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DBEE-5F7C-449B-BA67-E48E44FD0F9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AB63B-E0C5-4F33-85FF-92F21B67973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1FEEC-553B-45EE-B346-F020824A7E9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3352680"/>
            <a:ext cx="6019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297FC-9BA3-45B9-BA1F-2F84A6BF0627}" type="slidenum">
              <a:t>19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9FCD9-ED3B-4769-BAA1-9F758D980A9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048120"/>
            <a:ext cx="6019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219BC-5E06-4450-B991-ADD026F3D60A}" type="slidenum">
              <a:t>20</a:t>
            </a:fld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6FEAC-2B13-4200-89E3-20313CB57C4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76F9-1004-4DB8-A4FB-F86DEB696E29}" type="slidenum">
              <a:t>22</a:t>
            </a:fld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59C91-F830-41E5-8E96-68265280622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EAF2-41B4-46A7-AC28-F282CC70003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4CD55-3230-45C3-9D60-51AC9B163E2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15FA-8F79-4DC5-9ABE-51823C89D0F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3333-12FB-418C-B5DA-F59F722392D1}" type="slidenum">
              <a:t>27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44D1C-9A36-47D9-A28D-772B2CF8BC98}" type="slidenum">
              <a:t>28</a:t>
            </a:fld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7D845-2DBB-4AEF-A2BA-7737B84CA294}" type="slidenum">
              <a:t>29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C9913-4B4F-470F-B308-416EE502F8C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4D4EB-9BED-4D1A-A27B-EEC6C5A41B6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DDE6C-C741-4C1B-AC3B-F962F7D925F5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6B3C-48C2-4D86-924C-18E43B2B2B8D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3394-0626-4AB9-9AFF-B0B9308DA97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649E-B859-40DB-89E4-DB997A33159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6A2B0-CEF3-4E02-BBB3-76B1839E6C7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B52A-0496-48BF-A3DD-D0501DEDFF1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1C1F-8EC9-4A57-9586-D870768331AF}" type="slidenum">
              <a:t>9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29T15:24:17Z</dcterms:modified>
  <cp:revision>940</cp:revision>
  <dc:subject/>
  <dc:title>PowerPoint Presentation</dc:title>
</cp:coreProperties>
</file>