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88CF9-9337-4DD7-AB60-970D3738B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16C39-B659-4B9B-A022-3E8B35832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B4590-06FC-476C-B6C3-E15835F67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AC07C-5BA7-476B-8C67-5BDAAC6038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854D6-1CC9-4F1A-B158-BA91F1ECF0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7F43B-4CC8-4F2A-B9E9-E9F41E179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70133-27DF-488E-882A-7D0C7CCCC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DD1AE-F887-4CA7-A2AC-410A919EA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8EC1E-7722-4018-90D3-1F5D726EC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3B81B-FAC6-4244-AE6F-299DBF3A2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CB801-A6A6-4711-8B34-1B808DF3D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C2BC8-7F4C-476C-912C-F8B554D65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F018-554F-4CBF-9C48-32F5B8B1B55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2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for Testabil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2E354-0512-443A-958D-4874A9A77E34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79080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143B1-18A5-4475-9DCE-C565D1253517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ervability &amp; Controlla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serv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ase of observing a node by watching external output pins of th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oll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ase of forcing a node to 0 or 1 by driving input pins of th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al logic is usually easy to observe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s can be very difficult, requiring many cycles to enter desired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if state transition diagram is not known to the test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EF0FE-A030-4609-A818-33560A936F40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Pattern Gen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 ideally would check every node in the circuit to prove it is not st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the smallest sequence of test vectors necessary to prove each node is not st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observability and controllability reduces number of test vectors required for manufacturing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the cost of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es design-for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53770-0CFF-4D29-93C1-7E7717227FC5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0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1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 {0100, 0101, 0110, 0111, 1010, 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590920" y="19810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19810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2362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2362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2743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2743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3200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3200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3581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3581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4343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4343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48006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48006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5562720"/>
            <a:ext cx="5181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FC15C-2D11-465D-ADB0-36342C01ABDC}" type="slidenum">
              <a:t>1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for 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the chip to increase observability and control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ach register could be observed and controlled, test problem reduces to testing combinational logic between regi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yet, logic blocks could enter test mode where they generate test patterns and report the results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978B0-6C7B-4D4A-A3B3-CB889422E475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ach flip-flop to a scan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sts one extra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mode: flip-flops behave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mode: flip-flops behave as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 of 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and n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553080" y="1447920"/>
          <a:ext cx="2210040" cy="12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447920"/>
                    <a:ext cx="221004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276720" y="3276720"/>
          <a:ext cx="5181480" cy="27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276720"/>
                    <a:ext cx="5181480" cy="27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B1549-376E-44CC-A559-AE3F71B8B67C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nnable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35000" y="1523880"/>
          <a:ext cx="7074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1523880"/>
                    <a:ext cx="7074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6FC65-F341-438B-8D55-E03271588708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TP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pattern generation is ted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Test Pattern Generation (ATPG) tools produce a good set of vectors for each block of combination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chains are used to control and observe th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coverage requires a large number of vectors, raising the cost of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ducts settle for covering 90+% of potential stuck-at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07B67-657B-4494-B17D-854E37032918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t-in Self-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self-test lets blocks tes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pseudo-random inputs to comb.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outputs in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 probability, block is fault-free if it produces the expected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8CA3D-3C13-44DA-978B-45D3FC055488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S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 Feedback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 with input taken from XOR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-Random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3276720"/>
          <a:ext cx="3886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886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952880" y="2971800"/>
          <a:ext cx="3124440" cy="301464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(repea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6553080" y="33526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373392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40384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43434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47242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50292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533412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7150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6483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ps reset to 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32004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E7B41-55AB-4E90-A658-D46DDAFA83C9}" type="slidenum">
              <a:t>19</a:t>
            </a:fld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De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bility and Control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31613-B008-41D8-8935-8CE8DEAF47F8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LB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Logic Block Ob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scan with PRSG &amp; signatu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1600" y="2438280"/>
          <a:ext cx="6095880" cy="35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095880" cy="35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FBDBB-BCAA-42CE-8B5B-758CBD812A06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boards is also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verify solder joints are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a pin to 0, then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at all connected pins get th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-hold boards used “bed of nail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T and BGA boards cannot easily contact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capability of observing and controlling pins into each chip to make board test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AB7CC-FCB2-4E23-A9B6-44AC473B1353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38440" y="1523880"/>
          <a:ext cx="5667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1523880"/>
                    <a:ext cx="5667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CA215-50B3-47FE-8FB9-B00BB229753B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 Interfa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scan is accessed through five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mode 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I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ata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ata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ST*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reset (op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with internal scan chains can access the chains through boundary scan for unified test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1A0A6-746D-4E4F-8BC0-B65AD1045967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sting Your Class Proj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ilicon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vectors: corner cases and random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 simulation of schematics for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2-phase clocking to avoid r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atic CMOS gates to avoid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VS to ensure layout matches sch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worry about 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silicon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your test vectors on the fabricated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functional chip t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ly use breadboard or PCB for ful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6D938-AABB-4367-A6E8-93DABFE91D10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oster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osterICs functional chip 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by clinic teams and David Diaz at H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your test vectors, applies them to your chip, and reports assertion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0" y="3962520"/>
            <a:ext cx="3873600" cy="2089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5800" y="3209760"/>
            <a:ext cx="3352680" cy="284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0E4A9-E317-45B4-AD3A-E7A15454FACA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testing from the 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as you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test after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test it, it won’t work!  (Guaranteed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E2234-3B45-468C-8A92-0C198D098421}" type="slidenum">
              <a:t>26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is one of the most expensive parts of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verification accounts for &gt; 50% of design effort for many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 time after fabrication has enormous opportunity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defective parts can sink 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Intel FDIV bug (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error not caught until &gt; 1M units shi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cost $450M (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FF8DC-67FA-48A6-88AC-211D697D64BC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Ver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chip simulate correct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done at HD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engineers write test bench for 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test al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corner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break 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32-bi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ll combinations of corner cases as inpu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1, 2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, -1, 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few random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tests require inge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81C56-3711-48D5-9B38-79EE4AF97BB1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licon Debu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irst chips back from 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lucky, they work the firs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bugs vs.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hip failures are logic bugs from inadequate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re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nodes: leakage, charg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are tool or methodology failures (e.g. D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the bugs and fabricate a corrected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76A3B-2AF4-4CCB-8E36-8FB5E4D919CB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moo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iagnose fail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access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o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 voltage pro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self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moo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voltage,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cau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82564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51566-DABF-40E9-958B-F4E30A8A9949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nufacturing 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k of dust on a wafer is sufficient to kill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ny chip is &lt;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test chips after manufacturing before delivery to customers to only ship good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er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ime on 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 selec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181480" y="3365640"/>
            <a:ext cx="3413160" cy="26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A7E69-C74D-4AC8-A488-32E5107A1C78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ufacturing Fail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69160" cy="4618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400800" y="5881680"/>
            <a:ext cx="236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M images courtesy Intel Corpo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313C3-E291-4625-9702-EAEE35A03E8D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uck-At Fa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a chip fa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failures are shorts between two conductors or opens in a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cause very complicat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r model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ck-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all failures cause nodes to be “stuck-at” 0 or 1, i.e. shorted to GND o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 true, but works well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56C90-75E1-4D6B-8858-22078C81E635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08T18:34:21Z</dcterms:modified>
  <cp:revision>1883</cp:revision>
  <dc:subject/>
  <dc:title>PowerPoint Presentation</dc:title>
</cp:coreProperties>
</file>