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2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31.wmf" ContentType="image/x-wmf"/>
  <Override PartName="/ppt/media/image1.png" ContentType="image/png"/>
  <Override PartName="/ppt/media/image29.wmf" ContentType="image/x-wmf"/>
  <Override PartName="/ppt/media/image32.wmf" ContentType="image/x-wmf"/>
  <Override PartName="/ppt/media/image37.wmf" ContentType="image/x-wmf"/>
  <Override PartName="/ppt/media/image7.wmf" ContentType="image/x-wmf"/>
  <Override PartName="/ppt/media/image42.png" ContentType="image/png"/>
  <Override PartName="/ppt/media/image2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92487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E98CD-4CF3-463F-BDDA-2BF281CE46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F8C1F-1D51-40F5-80FC-E7C2F0FE7D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0D8F7-5511-4AD6-90C2-A334F92258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44B6F-585C-4F77-9263-E0634EDC88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84585-CDA3-4C46-9AF2-4C16F6341E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1C0B2-4EC9-4A83-9F4B-06A978ACA9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D4EA6-40A0-4157-BC22-6B8F5DE931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C1C11-AADB-434B-A3EE-20098F6EB6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19B92-BC65-4288-98AA-8A5507A4A8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FD336-2CEF-4213-B6ED-F8E8F0F029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ED8FF-2675-48B8-9568-D4B94AC807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0CCB1-2356-4FE8-8864-BDF1041830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B2DB0-381D-426B-B6A7-BA867554738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11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quential Circuit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4B814-BCF4-4AE2-933F-C7B2C3721A35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tch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state 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driving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latches are now 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of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638680" y="1828800"/>
          <a:ext cx="2743200" cy="240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828800"/>
                    <a:ext cx="2743200" cy="24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1600200" y="1981080"/>
            <a:ext cx="3352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00200" y="2514600"/>
            <a:ext cx="3352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3BFA4-357E-4EDB-9C43-9B4F20B486BD}" type="slidenum">
              <a:t>10</a:t>
            </a:fld>
          </a:p>
        </p:txBody>
      </p:sp>
    </p:spTree>
  </p:cSld>
  <p:transition>
    <p:zoom dir="ou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tch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ffered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xes diffusion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inve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334120" y="1828800"/>
          <a:ext cx="3047760" cy="21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1828800"/>
                    <a:ext cx="3047760" cy="21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1600200" y="1981080"/>
            <a:ext cx="3352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00200" y="2438280"/>
            <a:ext cx="3352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B777D-0528-4474-BFDE-78EF11C807A2}" type="slidenum">
              <a:t>11</a:t>
            </a:fld>
          </a:p>
        </p:txBody>
      </p:sp>
    </p:spTree>
  </p:cSld>
  <p:transition>
    <p:zoom dir="out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tch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ffered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ackdri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ly used in standard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Very robust (most importa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her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her slow (1.5 – 2 FO4 delay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clock lo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952880" y="1600200"/>
          <a:ext cx="3200400" cy="23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1600200"/>
                    <a:ext cx="3200400" cy="23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1600200" y="2057400"/>
            <a:ext cx="3352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17EC0-56CA-47C7-B9BA-0C3ACA578554}" type="slidenum">
              <a:t>12</a:t>
            </a:fld>
          </a:p>
        </p:txBody>
      </p:sp>
    </p:spTree>
  </p:cSld>
  <p:transition>
    <p:zoom dir="out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tch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path l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buffered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5410080" y="1676520"/>
          <a:ext cx="2667240" cy="240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1676520"/>
                    <a:ext cx="266724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1600200" y="2057400"/>
            <a:ext cx="3352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00200" y="2438280"/>
            <a:ext cx="3352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00200" y="2895480"/>
            <a:ext cx="3352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497E1-5585-462F-AA8D-B3484BDD094B}" type="slidenum">
              <a:t>13</a:t>
            </a:fld>
          </a:p>
        </p:txBody>
      </p:sp>
    </p:spTree>
  </p:cSld>
  <p:transition>
    <p:zoom dir="out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lip-Flop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p-flop is built as pair of back-to-back l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600200" y="2057400"/>
          <a:ext cx="4800600" cy="39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057400"/>
                    <a:ext cx="4800600" cy="39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4BFD7-5DF2-4F28-8F7D-BF3B78BC5316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nab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: ignore clock when en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x: increase latch D-Q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ck Gating: increase en setup time,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133720" y="2971800"/>
          <a:ext cx="3962160" cy="319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971800"/>
                    <a:ext cx="3962160" cy="31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66EA7-F9A8-4C3C-ACC3-F9E2C6FA1A9D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se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ce output low when reset asse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chronous vs. asynchron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752480" y="2362320"/>
          <a:ext cx="5248440" cy="37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362320"/>
                    <a:ext cx="5248440" cy="37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11CF9-5181-455D-98F0-AECD9FA363D2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t / Rese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forces output high when enab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p-flop with asynchronous set and re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762120" y="2801880"/>
          <a:ext cx="693396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801880"/>
                    <a:ext cx="693396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BF243-47FB-42F1-ADDB-EA4A48F40018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quencing Method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p-fl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-Phase L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sed L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114800" y="1447920"/>
          <a:ext cx="442764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447920"/>
                    <a:ext cx="442764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613D0-676A-4555-8695-A77D40764B48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iming Diagram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267080" y="2286000"/>
          <a:ext cx="4419720" cy="369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2286000"/>
                    <a:ext cx="4419720" cy="36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685800" y="2743200"/>
          <a:ext cx="3657600" cy="3162240"/>
        </p:xfrm>
        <a:graphic>
          <a:graphicData uri="http://schemas.openxmlformats.org/drawingml/2006/table">
            <a:tbl>
              <a:tblPr/>
              <a:tblGrid>
                <a:gridCol w="700200"/>
                <a:gridCol w="295740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p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ic Prop. Del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ic Cont. Del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pc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ch/Flop Clk-&gt;Q Prop. Del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c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ch/Flop Clk-&gt;Q Cont. Del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pd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ch D-&gt;Q Prop. Del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d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ch D-&gt;Q Cont. Del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set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ch/Flop Setup 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hol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ch/Flop Hold 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"/>
          <p:cNvSpPr/>
          <p:nvPr/>
        </p:nvSpPr>
        <p:spPr>
          <a:xfrm>
            <a:off x="685800" y="182880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mination and Propagation Del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39B63-21F6-4FF0-BD02-16F48C6013BD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cing Element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 and Min-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ck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Borr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Phase Clo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06749-51EC-4E7E-A77A-F22D37D47D40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ax-Delay: Flip-Flop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3048120" y="1676520"/>
          <a:ext cx="5410080" cy="274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676520"/>
                    <a:ext cx="5410080" cy="27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397368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8620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838080" y="1752480"/>
          <a:ext cx="2210040" cy="73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752480"/>
                    <a:ext cx="221004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1905120" y="1828800"/>
            <a:ext cx="99036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07CF3-196C-4BB2-BD33-57297CA86321}" type="slidenum">
              <a:t>20</a:t>
            </a:fld>
          </a:p>
        </p:txBody>
      </p:sp>
    </p:spTree>
  </p:cSld>
  <p:transition>
    <p:zoom dir="out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x Delay: 2-Phase Latch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505320" y="1600200"/>
          <a:ext cx="4647960" cy="433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1600200"/>
                    <a:ext cx="4647960" cy="433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685800" y="1828800"/>
          <a:ext cx="2716200" cy="59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1828800"/>
                    <a:ext cx="271620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2666880" y="1752480"/>
            <a:ext cx="381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7AE77-1762-47AB-B09A-D3F8C8B01B3C}" type="slidenum">
              <a:t>21</a:t>
            </a:fld>
          </a:p>
        </p:txBody>
      </p:sp>
    </p:spTree>
  </p:cSld>
  <p:transition>
    <p:zoom dir="out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x Delay: Pulsed Latch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3886200" y="1752480"/>
          <a:ext cx="4648320" cy="334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1752480"/>
                    <a:ext cx="4648320" cy="334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34862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762120" y="1752480"/>
          <a:ext cx="3498840" cy="73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1752480"/>
                    <a:ext cx="349884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2286000" y="1752480"/>
            <a:ext cx="18288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38A98-5A18-4859-80AD-4AA5C01A3811}" type="slidenum">
              <a:t>22</a:t>
            </a:fld>
          </a:p>
        </p:txBody>
      </p:sp>
    </p:spTree>
  </p:cSld>
  <p:transition>
    <p:zoom dir="out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in-Delay: Flip-Flop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762120" y="1981080"/>
          <a:ext cx="1412640" cy="38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81080"/>
                    <a:ext cx="141264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3657600" y="1600200"/>
          <a:ext cx="5029200" cy="341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1600200"/>
                    <a:ext cx="5029200" cy="34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1219320" y="1981080"/>
            <a:ext cx="15238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0B61F-AA16-4319-A12B-BB4ACD43DD08}" type="slidenum">
              <a:t>23</a:t>
            </a:fld>
          </a:p>
        </p:txBody>
      </p:sp>
    </p:spTree>
  </p:cSld>
  <p:transition>
    <p:zoom dir="out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in-Delay: 2-Phase Latch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838080" y="1981080"/>
          <a:ext cx="2764080" cy="38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81080"/>
                    <a:ext cx="276408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4038480" y="1752480"/>
          <a:ext cx="4434120" cy="334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8480" y="1752480"/>
                    <a:ext cx="4434120" cy="33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838080" y="2666880"/>
            <a:ext cx="327672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d time reduced by nonoverl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dox: hold applies twice each cycle, vs. only once for flo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a flop is made of two latche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752480" y="1981080"/>
            <a:ext cx="18288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FC8A4-D15F-46B0-8ABE-A1712C2101F2}" type="slidenum">
              <a:t>24</a:t>
            </a:fld>
          </a:p>
        </p:txBody>
      </p:sp>
    </p:spTree>
  </p:cSld>
  <p:transition>
    <p:zoom dir="out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in-Delay: Pulsed Latch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762120" y="1981080"/>
          <a:ext cx="1904760" cy="38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81080"/>
                    <a:ext cx="190476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3733920" y="1676520"/>
          <a:ext cx="4732200" cy="332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1676520"/>
                    <a:ext cx="4732200" cy="33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838080" y="2666880"/>
            <a:ext cx="3276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d time increased by pulse wid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19320" y="1981080"/>
            <a:ext cx="15238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84694-481B-49E3-A020-59D3FD3174BE}" type="slidenum">
              <a:t>25</a:t>
            </a:fld>
          </a:p>
        </p:txBody>
      </p:sp>
    </p:spTree>
  </p:cSld>
  <p:transition>
    <p:zoom dir="out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ime Borrow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flop-based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launches on one rising 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setup before next rising 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t arrives late, system f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t arrives early, time is wa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ps have hard ed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latch-based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can pass through latch while transpa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cycle of logic can borrow time into n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long as each loop completes in one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4BAD7-9B71-4107-A7F9-8C0E064E1E61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ime Borrowing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152360" y="1523880"/>
          <a:ext cx="683928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2360" y="1523880"/>
                    <a:ext cx="683928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15802-13DC-4FBE-AC9C-50DF8D737773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ow Much Borrowing?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3809880" y="1676520"/>
          <a:ext cx="4408560" cy="296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676520"/>
                    <a:ext cx="4408560" cy="29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762120" y="2057400"/>
          <a:ext cx="2825640" cy="63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057400"/>
                    <a:ext cx="282564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685800" y="16002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-Phase Lat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762120" y="3733920"/>
          <a:ext cx="1698480" cy="387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3733920"/>
                    <a:ext cx="169848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762120" y="31240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sed Lat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1BF56-C163-4695-9276-446C43C9198C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ock Skew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assumed zero clock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cks really have uncertainty in arrival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ases maximum propagation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s minimum contamination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ases time borr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2D58B-B9D1-4AFC-A79A-8224CD045475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quenc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binational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 depends on current 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quential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 depends on current and previous 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separating previous, current,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k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FSM, pip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762120" y="4495680"/>
          <a:ext cx="7696080" cy="163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4495680"/>
                    <a:ext cx="769608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C723A-5AC2-4FC8-9354-231DB03B8720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kew: Flip-Flop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4562640" y="1523880"/>
          <a:ext cx="3902040" cy="449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62640" y="1523880"/>
                    <a:ext cx="390204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838080" y="1828800"/>
          <a:ext cx="2743200" cy="118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828800"/>
                    <a:ext cx="274320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B0001-FF52-45B4-951F-8FD7C7CAEBDD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kew: Latch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4724280" y="1676520"/>
          <a:ext cx="3716280" cy="144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676520"/>
                    <a:ext cx="3716280" cy="14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762120" y="2057400"/>
          <a:ext cx="3460680" cy="194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057400"/>
                    <a:ext cx="3460680" cy="19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685800" y="15238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-Phase Lat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762120" y="4343400"/>
          <a:ext cx="41148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4343400"/>
                    <a:ext cx="41148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685800" y="39625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sed Lat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44F52-6C5C-4DF4-92F4-BD4E2BC9A0FF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wo-Phase Clock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setup times are violated, reduce clock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hold times are violated, chip fails at any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is class, working chips are most impor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ools to analyze clock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asy way to guarantee hold times is to use 2-phase latches with big nonoverlap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these clock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h1, ph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9D2FB-7C09-44DA-AD98-1967FA05D627}" type="slidenum">
              <a:t>32</a:t>
            </a:fld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afe Flip-Flop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t years used flip-flop with nonoverlapping c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 – nonoverlap adds to setup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no hold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industry, use a better timing analy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buffers to slow signals if hold time is at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905120" y="3733920"/>
          <a:ext cx="4800600" cy="22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733920"/>
                    <a:ext cx="4800600" cy="22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D684C-F8FF-4727-A564-4DBFC21B2BF7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daptive Sequenc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ers include timing mar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depend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l inaccura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: run faster and check for near fail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 introduced as “Razo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frequency until at the verge of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reduce cycle time by ~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5715000" y="1371600"/>
          <a:ext cx="2530440" cy="28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1371600"/>
                    <a:ext cx="253044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367C4-7708-435B-A72B-B2465AC0EA9F}" type="slidenum">
              <a:t>34</a:t>
            </a:fld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p-Flo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easy to use, supported by all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-Phase Transparent Latch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skew tolerance and time borr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sed Latch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, some skew tol &amp; borrow, hold time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762120" y="4162320"/>
            <a:ext cx="7619760" cy="183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61682-7F8C-4D64-A81E-6569A9A13FA6}" type="slidenum">
              <a:t>35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quencing Cont.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okens moved through pipeline at constant speed, no sequencing elements would be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fiber-optic c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ght pulses (tokens) are sent down c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pulse sent before first reaches end of c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hardware to separate pul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per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ts min time between pul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ave pipeli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most circuits, dispersion is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fast tokens so they don’t catch slow 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BC411-4F24-4F1E-8A17-C0B032E629EF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quencing Overhea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lip-flops to delay fast tokens so they move through exactly one stage each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evitably adds some delay to the slow tok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circuit slower than just the logic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sequencing 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people call this clocking 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it applies to asynchronous circuits t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evitable side effect of maintaining sequ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A2FAA-786E-493E-ABB7-116A84EC52DC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quencing Elemen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t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Level sens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k.a. transparent latch, D l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ip-flo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edge trigg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k.a. master-slave flip-flop, D flip-flop, D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ing Dia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pa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a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ge-trig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724280" y="3429000"/>
          <a:ext cx="3016440" cy="214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3429000"/>
                    <a:ext cx="3016440" cy="21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4724280" y="3429000"/>
          <a:ext cx="3016440" cy="214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3429000"/>
                    <a:ext cx="3016440" cy="21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11A42-1141-412D-ACA6-C250B5148AD8}" type="slidenum">
              <a:t>6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tch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 Transistor L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clock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res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dri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 noise sensi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usion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172200" y="1828800"/>
          <a:ext cx="2057400" cy="148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1828800"/>
                    <a:ext cx="2057400" cy="14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5867280" y="33526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in 1970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2362320"/>
            <a:ext cx="3352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00200" y="2743200"/>
            <a:ext cx="3352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00200" y="3581280"/>
            <a:ext cx="3352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600200" y="3962520"/>
            <a:ext cx="3352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4343400"/>
            <a:ext cx="3352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00200" y="4724280"/>
            <a:ext cx="3352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5181480"/>
            <a:ext cx="3352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600200" y="5562720"/>
            <a:ext cx="3352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9C34E-6E3A-4C89-898A-7608B879E889}" type="slidenum">
              <a:t>7</a:t>
            </a:fld>
          </a:p>
        </p:txBody>
      </p:sp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tch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ssion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inverted c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324480" y="1752480"/>
          <a:ext cx="169416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1752480"/>
                    <a:ext cx="169416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1600200" y="2057400"/>
            <a:ext cx="3352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00200" y="2514600"/>
            <a:ext cx="3352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6C496-CF93-46BE-9770-9235A78C244C}" type="slidenum">
              <a:t>8</a:t>
            </a:fld>
          </a:p>
        </p:txBody>
      </p:sp>
    </p:spTree>
  </p:cSld>
  <p:transition>
    <p:zoom dir="ou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tch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rting bu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ackdri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xes ei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 noise sensi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diffusion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rted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095880" y="1600200"/>
          <a:ext cx="2273400" cy="28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1600200"/>
                    <a:ext cx="227340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1600200" y="1981080"/>
            <a:ext cx="3352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00200" y="2438280"/>
            <a:ext cx="3352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981080" y="3352680"/>
            <a:ext cx="33530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3733920"/>
            <a:ext cx="33530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00200" y="4191120"/>
            <a:ext cx="3352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7987B-120F-4127-B7BC-EF1153F98C05}" type="slidenum">
              <a:t>9</a:t>
            </a:fld>
          </a:p>
        </p:txBody>
      </p:sp>
    </p:spTree>
  </p:cSld>
  <p:transition>
    <p:zoom dir="ou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3-03T06:25:45Z</dcterms:modified>
  <cp:revision>1291</cp:revision>
  <dc:subject/>
  <dc:title>PowerPoint Presentation</dc:title>
</cp:coreProperties>
</file>