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B57E-5FE8-4756-9A44-B35FA224F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498F-7D3D-43DD-8851-6D21D3D0A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CEAA-6BD5-420A-981B-6489CD4EB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50ED-99F6-43BE-A605-761F4A6B4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496A-6E50-45EF-B263-8CF80478F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C09E-592D-407D-B3EC-7F7311678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9C72-14C6-4E97-A6C3-6C4CB6E9D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3AEE-50B7-4D62-BEEE-67B13496D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7F0A-A22A-4548-B12E-778017BA5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9F85-94A5-4A23-90B1-7F939609B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BFED-409F-471B-B98C-F69E32CEA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8EC6-11AD-4C9C-B876-CF566905E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7CD5-8DC6-42DA-81ED-02C1255E97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B673-1645-4873-92B1-D273942A692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9324-4AA0-48ED-A8E6-F03DB564CB6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BB98-A036-4C67-B6D1-55FC677AB81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EFD8-D94D-4D34-80DF-6760A3D650CB}" type="slidenum">
              <a:t>12</a:t>
            </a:fld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112D-D2B1-413D-8ACE-23E555696EF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B211-EC50-4CFB-9DD7-649A99830E17}" type="slidenum">
              <a:t>14</a:t>
            </a:fld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4DB8-C20B-4A78-B4AC-3E7BC7E52ED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7BE3-463A-4700-9364-7AC93F76049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4FF0-625D-45FA-AA1A-26D2C3C8A34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A65B-3BFA-4201-A3EB-D3F0AA261181}" type="slidenum">
              <a:t>18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0C23-EF7E-42D6-8FCE-EFA84793C5F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766B-AAEB-421B-9760-906092A8460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787E-58EE-42C6-A730-6957C94FDD00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D3C9-E099-4BA5-ADA5-DADD5518E182}" type="slidenum">
              <a:t>21</a:t>
            </a:fld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AA19-276C-4AD8-BFBD-E2F59900661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52B8-5B9B-4FF0-A685-C7FB0D531AC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64A8-3A8A-427F-8902-2E4BDD1CC85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3167-B2C7-4DFD-ACEE-EBAABAEBD69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5733-8108-4CE7-A484-5DB6759B8BA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8872-71C1-4293-BE5D-15D1C1B0D70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D12C-313B-417B-BDAC-790FB6EEB021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6A8F-626B-476F-B166-A433D38D268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4B85-7EAC-411B-8F82-EDCEB301737D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A42C-F2BA-4C98-845C-A8CEC5B6DF2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925E-27D9-4ADD-8FC3-F367DA934B0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B039-0E70-4177-BAA0-3E718EFC790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2FA5-D172-4A1F-8824-579541D1E48B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B3D7-9974-47A9-8B10-5CC80F58AD6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7CB7-56E7-4BDD-8BB1-31689153219B}" type="slidenum">
              <a:t>9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1T20:53:08Z</dcterms:modified>
  <cp:revision>1166</cp:revision>
  <dc:subject/>
  <dc:title>PowerPoint Presentation</dc:title>
</cp:coreProperties>
</file>