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0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8E39C-7E01-43C0-81D2-8635E8B2D9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15708-D312-424F-8A22-CDD78B0A0F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226BF-9645-4A0A-96D9-B028147769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1BCE5-8497-498B-B054-6474CA185E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CBB01-B300-4A7E-90B1-83B396DF62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47C2A-8F0A-4C71-8B03-0AB2652AF9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A6092-A718-437B-9136-105A5D254D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E7483-504E-43D1-88B2-DF5B5DAA33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D8471-FDB8-437E-8E27-722459D09A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642AE-CB9D-4100-8E0C-336AE31A70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D6725-E48C-4AB2-B929-F76F4A9147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68275-241F-4DB6-B76D-41795076F3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33CC-575F-4F55-BBE7-4CC4B14C0FE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0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ircuit Famili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FADE9-8C06-4136-8D26-4F69A7CF3284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ynamic Logic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ates uses a clocked pMOS pull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mode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char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14400" y="2590920"/>
          <a:ext cx="6172200" cy="20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590920"/>
                    <a:ext cx="6172200" cy="20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3124080" y="4800600"/>
          <a:ext cx="5334120" cy="121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4800600"/>
                    <a:ext cx="533412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6AB1E-41CE-44F2-9791-48D9840E822D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he Foo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pulldown network is ON during prechar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eries evaluation transistor to prevent f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38080" y="2895480"/>
          <a:ext cx="3353040" cy="15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895480"/>
                    <a:ext cx="335304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800600" y="2819520"/>
          <a:ext cx="3581280" cy="20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819520"/>
                    <a:ext cx="3581280" cy="20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5BAE7-2F6D-44A8-A7A3-682960971CE7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1752480"/>
          <a:ext cx="7772400" cy="342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772400" cy="34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3276720" y="30481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32767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46483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4876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62720" y="30481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32767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46483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4876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01000" y="30481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001000" y="32767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001000" y="46483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01000" y="4876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1A300-3F3B-406C-9BAA-D550CD0DF99D}" type="slidenum">
              <a:t>12</a:t>
            </a:fld>
          </a:p>
        </p:txBody>
      </p: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notonic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gates requi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notonically ri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puts during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-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-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-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t 1 -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505320" y="3668760"/>
          <a:ext cx="4952880" cy="240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3668760"/>
                    <a:ext cx="4952880" cy="24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4800600" y="2209680"/>
          <a:ext cx="1090440" cy="14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209680"/>
                    <a:ext cx="10904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6DCF7-AB67-4239-9CCA-0BCF78640141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notonicity Wo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dynamic gates produce monotonically falling outputs during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egal for one dynamic gate to drive anoth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3352680"/>
          <a:ext cx="7772400" cy="24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352680"/>
                    <a:ext cx="7772400" cy="24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689040" y="3352680"/>
          <a:ext cx="7769160" cy="244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9040" y="3352680"/>
                    <a:ext cx="7769160" cy="24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633C6-34D9-4DC0-836D-0675D4E51240}" type="slidenum">
              <a:t>14</a:t>
            </a:fld>
          </a:p>
        </p:txBody>
      </p:sp>
    </p:spTree>
  </p:cSld>
  <p:transition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mino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dynamic stage with inverting static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/ static pair is called domino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monotonic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191120" y="2940120"/>
          <a:ext cx="442728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2940120"/>
                    <a:ext cx="442728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762120" y="3276720"/>
          <a:ext cx="3276360" cy="232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276720"/>
                    <a:ext cx="3276360" cy="23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60ED3-5564-478C-8E1B-BD72D11B8C61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mino Optimiz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domino gate triggers next one, like a string of dominos toppling 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evaluate sequentially but precharge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evaluation is more critical than pre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-skewed static stages can perform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048120" y="3657600"/>
          <a:ext cx="3886200" cy="23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657600"/>
                    <a:ext cx="3886200" cy="23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9466D-A02B-4AF8-BFE8-AF6C792A1818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ual-Rail Domin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o only performs noninverting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, OR but not NAND, NOR, or X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-rail domino solves this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true and complementary inpu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true and complementary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62120" y="3962520"/>
          <a:ext cx="4190760" cy="197640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498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_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_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harg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al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5105520" y="4191120"/>
          <a:ext cx="3504960" cy="15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4191120"/>
                    <a:ext cx="3504960" cy="15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74BAF-4422-4877-8F70-39229C51AE0B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AND/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_h, A_l, B_h, B_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Y_h = AB, Y_l =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down networks are conduction comp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219320" y="3352680"/>
          <a:ext cx="6629400" cy="247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352680"/>
                    <a:ext cx="6629400" cy="24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800600" y="2057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C7DAC-E49A-4674-86CA-F6D66329E665}" type="slidenum">
              <a:t>18</a:t>
            </a:fld>
          </a:p>
        </p:txBody>
      </p:sp>
    </p:spTree>
  </p:cSld>
  <p:transition>
    <p:zoom dir="ou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XOR/XN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possible to share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762120" y="2666880"/>
          <a:ext cx="7696080" cy="23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66880"/>
                    <a:ext cx="769608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E2D0F-8B8A-42AF-B1B4-98FF3890DEF9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-nMOS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A725D-4EDF-48B0-8CAF-A02491054482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node floats high during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re leaky 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value will leak away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erly miliseconds, now nano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keeper to hold dynamic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weak enough not to fight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124080" y="4005360"/>
          <a:ext cx="3048120" cy="19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4005360"/>
                    <a:ext cx="304812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5A68F-86C8-4BD1-92D3-4D0B8EA3F7E0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arge Shar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6019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gates suffer from charge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295280" y="2362320"/>
          <a:ext cx="2590920" cy="21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62320"/>
                    <a:ext cx="259092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572000" y="2209680"/>
          <a:ext cx="3048120" cy="215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09680"/>
                    <a:ext cx="3048120" cy="21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648320" y="4572000"/>
          <a:ext cx="2971800" cy="94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4572000"/>
                    <a:ext cx="297180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572000" y="2209680"/>
          <a:ext cx="3043080" cy="215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2209680"/>
                    <a:ext cx="3043080" cy="21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5943600" y="4572000"/>
            <a:ext cx="16765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5DB7C-8796-45DD-B149-8D7322AECF38}" type="slidenum">
              <a:t>21</a:t>
            </a:fld>
          </a:p>
        </p:txBody>
      </p:sp>
    </p:spTree>
  </p:cSld>
  <p:transition>
    <p:zoom dir="ou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condary Prechar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add secondary precharge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need to precharge every other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load capacitance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lps a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514600" y="3276720"/>
          <a:ext cx="4114800" cy="25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276720"/>
                    <a:ext cx="4114800" cy="25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849CB-AF24-4F2F-9AD3-019A1CFD2962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ise Sensitiv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gates are very sensitive to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s: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s: floating output susceptible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ive crosst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supply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through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mo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85564-2308-4A3B-B7AE-B33557B9FFE3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o gates have high activity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evaluates and prechar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utput probability = 0.5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rises and falls on half the cy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ed transistors hav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to very high power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5E614-A544-43E7-A695-196F07463352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mino 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o logic is attractive for high-speed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 – 2x faster than static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many challen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tonicity, leakage, charge sharing,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used in high-performance microprocessors in 1990s when speed was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ly displaced by static CMOS now that power is the lim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sed in memories for area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8A837-67A3-4B17-834E-BE9F3E5E3D4F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 Circu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ass transistors like switches to do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s drive diffusion terminals as well as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+ Transmission G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input multip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should be res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752480" y="4114800"/>
          <a:ext cx="213372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114800"/>
                    <a:ext cx="21337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5029200" y="4038480"/>
          <a:ext cx="2133720" cy="213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4038480"/>
                    <a:ext cx="21337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0E5CF-C21F-465F-8A77-FFE6841684E1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ntegration wit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rid of p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eak pMOS feedback to pull fully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constr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905120" y="3276720"/>
          <a:ext cx="4952880" cy="23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276720"/>
                    <a:ext cx="4952880" cy="23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D0618-27E4-4BC1-A5C9-B6099A1FC833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P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plementary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-transisto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-rail form of pass transistor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s need for ratioed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al cross-coupling for rail-to-rail s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286000" y="3463920"/>
          <a:ext cx="2895480" cy="24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463920"/>
                    <a:ext cx="2895480" cy="24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C0C5C-F0E8-4EC4-8D64-C8F0B6633B7A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ss Transistor Summa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ers investigated pass transistor logic for general purpose applications in the 1990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 over static CMOS were small or 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onger gener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pass transistors still have a niche in special circuits such as memories where they offer small size and the threshold drops can be mana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4F59F-E326-4CC3-9365-E8DC64FE28C8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makes a circuit fa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= C dV/dt    -&gt;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/I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s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is proportional to C/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are the enem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capacitance for a given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take the pMOS capacitance off the in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circuit families try to do th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324480" y="3124080"/>
          <a:ext cx="22860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3124080"/>
                    <a:ext cx="22860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02E57-4E18-46BC-8A9C-B683E1D47E8D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old days, nMOS processes had no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, use pull-up transistor that is alway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MOS, use a pMOS that is alway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t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pMOS about ¼ effective strength of pulldow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447920" y="3938760"/>
          <a:ext cx="2286000" cy="203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938760"/>
                    <a:ext cx="2286000" cy="20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724280" y="3662280"/>
          <a:ext cx="2895840" cy="244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662280"/>
                    <a:ext cx="2895840" cy="24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773D6-F900-4CB9-ADC8-F09DFB7C8229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or unit current on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are with unit inver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fights n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62120" y="3992400"/>
          <a:ext cx="7619760" cy="20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92400"/>
                    <a:ext cx="7619760" cy="20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6705720" y="1752480"/>
          <a:ext cx="1904760" cy="167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1752480"/>
                    <a:ext cx="190476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B2D60-11C2-4BEC-8361-DA88382807CB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or unit current on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are with unit inver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fights n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62120" y="3992400"/>
          <a:ext cx="7619760" cy="20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92400"/>
                    <a:ext cx="7619760" cy="20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6705720" y="1752480"/>
          <a:ext cx="1904760" cy="167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1752480"/>
                    <a:ext cx="190476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55E68-A491-4C21-8084-0DFA77517C40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Design a k-input AND gate using pseudo-nMOS.  Estimate the delay driving a fanout of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1 * 8/9 = 8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 = 8H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 + (4+8k)/9 = (8k+13)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N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181480" y="2438280"/>
          <a:ext cx="3505320" cy="15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438280"/>
                    <a:ext cx="350532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3429000" y="4343400"/>
          <a:ext cx="1752480" cy="7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4343400"/>
                    <a:ext cx="175248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1752480" y="2819520"/>
            <a:ext cx="3429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3200400"/>
            <a:ext cx="3429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3657600"/>
            <a:ext cx="3429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52480" y="403848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4419720"/>
            <a:ext cx="3429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4343400"/>
            <a:ext cx="18288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42472-EF9B-4DAC-BC90-A5319BBCBC2C}" type="slidenum">
              <a:t>7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-nMOS draws power whenever Y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static power     P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w mA / gate * 1M gates would be a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s why nMOS went exti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seudo-nMOS sparingly for wide 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off pMOS when not in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666880" y="4267080"/>
          <a:ext cx="3505320" cy="15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4267080"/>
                    <a:ext cx="350532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AA81B-34D2-46C3-ABDA-37F0CBE60CE7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atio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ip contains a 32 word x 48 bit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pseudo-nMOS decoder and bitline pull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verage, one wordline and 24 bitlines are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static power drawn by the 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n-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763720" y="4624560"/>
          <a:ext cx="3538800" cy="80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3720" y="4624560"/>
                    <a:ext cx="353880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3581280" y="457200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502920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FA15C-0F9B-49F9-A7ED-BB1C191F10FD}" type="slidenum">
              <a:t>9</a:t>
            </a:fld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3-01T20:53:08Z</dcterms:modified>
  <cp:revision>1166</cp:revision>
  <dc:subject/>
  <dc:title>PowerPoint Presentation</dc:title>
</cp:coreProperties>
</file>